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77724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42960" y="4123080"/>
            <a:ext cx="77724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960" y="412308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5640" y="412308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0960" y="183204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8600" y="183204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42960" y="412308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0960" y="412308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8600" y="412308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2960" y="183204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960" y="412308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42960" y="183204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5640" y="412308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960" y="4123080"/>
            <a:ext cx="77724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77724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2960" y="4123080"/>
            <a:ext cx="77724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2960" y="412308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5640" y="412308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0960" y="183204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98600" y="183204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2960" y="412308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0960" y="412308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98600" y="4123080"/>
            <a:ext cx="250236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2960" y="412308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5640" y="412308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96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5640" y="1832040"/>
            <a:ext cx="3792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2960" y="4123080"/>
            <a:ext cx="77724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832040"/>
            <a:ext cx="7772400" cy="438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361200"/>
            <a:ext cx="9144000" cy="571680"/>
            <a:chOff x="0" y="6361200"/>
            <a:chExt cx="9144000" cy="571680"/>
          </a:xfrm>
        </p:grpSpPr>
        <p:sp>
          <p:nvSpPr>
            <p:cNvPr id="3" name=""/>
            <p:cNvSpPr/>
            <p:nvPr/>
          </p:nvSpPr>
          <p:spPr>
            <a:xfrm>
              <a:off x="0" y="6361200"/>
              <a:ext cx="9144000" cy="7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35000" y="6382080"/>
              <a:ext cx="8869320" cy="550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ccff"/>
                  </a:solidFill>
                  <a:latin typeface="Tahoma"/>
                </a:rPr>
                <a:t>                                        </a:t>
              </a:r>
              <a:r>
                <a:rPr b="0" lang="es-ES_tradnl" sz="1200" spc="-1" strike="noStrike">
                  <a:solidFill>
                    <a:srgbClr val="99ccff"/>
                  </a:solidFill>
                  <a:latin typeface="Tahoma"/>
                </a:rPr>
                <a:t>UPV/EHU Master: Analysis and Processing of Language: Machine Learning applied to NL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963720" y="6404040"/>
            <a:ext cx="416880" cy="415800"/>
            <a:chOff x="963720" y="6404040"/>
            <a:chExt cx="416880" cy="415800"/>
          </a:xfrm>
        </p:grpSpPr>
        <p:sp>
          <p:nvSpPr>
            <p:cNvPr id="6" name=""/>
            <p:cNvSpPr/>
            <p:nvPr/>
          </p:nvSpPr>
          <p:spPr>
            <a:xfrm>
              <a:off x="963720" y="6409800"/>
              <a:ext cx="365040" cy="37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965160" y="6404040"/>
              <a:ext cx="415440" cy="41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8160" y="6415200"/>
            <a:ext cx="366480" cy="366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458640" y="6446880"/>
            <a:ext cx="451080" cy="3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160" y="6386400"/>
            <a:ext cx="96192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6361200"/>
            <a:ext cx="9144000" cy="401400"/>
            <a:chOff x="0" y="6361200"/>
            <a:chExt cx="9144000" cy="401400"/>
          </a:xfrm>
        </p:grpSpPr>
        <p:sp>
          <p:nvSpPr>
            <p:cNvPr id="49" name=""/>
            <p:cNvSpPr/>
            <p:nvPr/>
          </p:nvSpPr>
          <p:spPr>
            <a:xfrm>
              <a:off x="0" y="6361200"/>
              <a:ext cx="914400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5000" y="6394320"/>
              <a:ext cx="8869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ccff"/>
                  </a:solidFill>
                  <a:latin typeface="Tahoma"/>
                </a:rPr>
                <a:t>    </a:t>
              </a:r>
              <a:r>
                <a:rPr b="1" lang="es-ES_tradnl" sz="1600" spc="-1" strike="noStrike">
                  <a:solidFill>
                    <a:srgbClr val="99ccff"/>
                  </a:solidFill>
                  <a:latin typeface="Tahoma"/>
                </a:rPr>
                <a:t> </a:t>
              </a:r>
              <a:r>
                <a:rPr b="0" lang="es-ES_tradnl" sz="1800" spc="-1" strike="noStrike">
                  <a:solidFill>
                    <a:srgbClr val="99ccff"/>
                  </a:solidFill>
                  <a:latin typeface="Tahoma"/>
                </a:rPr>
                <a:t>                              </a:t>
              </a:r>
              <a:r>
                <a:rPr b="0" lang="es-ES_tradnl" sz="1600" spc="-1" strike="noStrike">
                  <a:solidFill>
                    <a:srgbClr val="99ccff"/>
                  </a:solidFill>
                  <a:latin typeface="Tahoma"/>
                </a:rPr>
                <a:t>EACL-2003, Budapest, 15-17 April 2003</a:t>
              </a:r>
              <a:r>
                <a:rPr b="0" lang="es-ES_tradnl" sz="1800" spc="-1" strike="noStrike">
                  <a:solidFill>
                    <a:srgbClr val="99ccff"/>
                  </a:solidFill>
                  <a:latin typeface="Tahoma"/>
                </a:rPr>
                <a:t>                        </a:t>
              </a:r>
              <a:r>
                <a:rPr b="0" lang="es-ES_tradnl" sz="1600" spc="-1" strike="noStrike">
                  <a:solidFill>
                    <a:srgbClr val="99ccff"/>
                  </a:solidFill>
                  <a:latin typeface="Tahoma"/>
                </a:rPr>
                <a:t>16/4/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20560" y="6404040"/>
            <a:ext cx="417240" cy="415800"/>
            <a:chOff x="520560" y="6404040"/>
            <a:chExt cx="417240" cy="415800"/>
          </a:xfrm>
        </p:grpSpPr>
        <p:sp>
          <p:nvSpPr>
            <p:cNvPr id="52" name=""/>
            <p:cNvSpPr/>
            <p:nvPr/>
          </p:nvSpPr>
          <p:spPr>
            <a:xfrm>
              <a:off x="520560" y="6409800"/>
              <a:ext cx="365400" cy="37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22000" y="6404040"/>
              <a:ext cx="415800" cy="41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flipH="1" rot="10800000">
            <a:off x="38160" y="6388200"/>
            <a:ext cx="444600" cy="44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22360" y="1076400"/>
            <a:ext cx="8099280" cy="385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 Algorithm that Learns What’s in a Name (IdentiFinder</a:t>
            </a:r>
            <a:r>
              <a:rPr b="1" lang="en-GB" sz="4000" spc="-1" strike="noStrike" baseline="30000">
                <a:solidFill>
                  <a:srgbClr val="ffff00"/>
                </a:solidFill>
                <a:latin typeface="Arial"/>
              </a:rPr>
              <a:t>TM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an M. Bikel, Richard Schwartz, Ralph Weische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ffffff"/>
                </a:solidFill>
                <a:latin typeface="Arial"/>
              </a:rPr>
              <a:t>Machine Learning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ffffff"/>
                </a:solidFill>
                <a:latin typeface="Arial"/>
              </a:rPr>
              <a:t>Special Issue on Natural Language Learn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ffffff"/>
                </a:solidFill>
                <a:latin typeface="Arial"/>
              </a:rPr>
              <a:t>C. Cardie and R. Mooney eds. 1999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5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Tahoma"/>
              </a:rPr>
              <a:t>IdentiFinder: Result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55720" y="1155600"/>
            <a:ext cx="7526160" cy="55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25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Tahoma"/>
              </a:rPr>
              <a:t>Generalitie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2080" y="1422360"/>
            <a:ext cx="7731360" cy="438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HMM-based model for NERC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Evolution from the 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Nymble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 system (1997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Applied in MUC conferences and other corpora with very good resul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Competitive (and better in some cases) to the best hand-developed rule-based NERC systems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State-of-the-art for the task until CoNLL conferences (M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7560" y="2395440"/>
            <a:ext cx="6940440" cy="2011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720" y="25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Tahoma"/>
              </a:rPr>
              <a:t>HMM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89040" y="2590920"/>
                <a:ext cx="4622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27200" y="3220920"/>
                <a:ext cx="60292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240600" y="2720880"/>
                <a:ext cx="4284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98480" y="1095480"/>
                <a:ext cx="56736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quence of observations: 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860400" y="5792760"/>
                <a:ext cx="4695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state probabilities: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47800" y="5213520"/>
                <a:ext cx="6129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ition probabilities: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38080" y="4626000"/>
                <a:ext cx="50706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ission probabilities: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14320" y="1644480"/>
                <a:ext cx="4567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quence of states: 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87560" y="2395440"/>
            <a:ext cx="6940440" cy="2011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25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Tahoma"/>
              </a:rPr>
              <a:t>HMM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89040" y="2590920"/>
                <a:ext cx="4622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27200" y="3220920"/>
                <a:ext cx="60292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240600" y="2720880"/>
                <a:ext cx="4284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814320" y="1644480"/>
                <a:ext cx="4567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quence of states: 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98480" y="1095480"/>
                <a:ext cx="56736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quence of observations: 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68360" y="4659480"/>
            <a:ext cx="81248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Tahoma"/>
              </a:rPr>
              <a:t>Decoding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The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rgmax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unction can be computed in linear time O(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 using dynamic programming (Viterbi algorith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25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IdentiFinder HMM: Graphical Representation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6280" y="1514520"/>
            <a:ext cx="879804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25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Tahoma"/>
              </a:rPr>
              <a:t>IdentiFinder HMM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9040" y="1069920"/>
            <a:ext cx="7731000" cy="438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ahoma"/>
              </a:rPr>
              <a:t>Generative mod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ahoma"/>
              </a:rPr>
              <a:t>Probability distributions needed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549720" indent="-21132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P(NC</a:t>
            </a:r>
            <a:r>
              <a:rPr b="0" lang="en-A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|</a:t>
            </a:r>
            <a:r>
              <a:rPr b="0" lang="en-A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NC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Tahoma"/>
              </a:rPr>
              <a:t>-1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lang="en-A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w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Tahoma"/>
              </a:rPr>
              <a:t>-1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549720" indent="-21132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P(&lt;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w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f&gt;</a:t>
            </a:r>
            <a:r>
              <a:rPr b="0" i="1" lang="en-AU" sz="2800" spc="-1" strike="noStrike" baseline="-25000">
                <a:solidFill>
                  <a:srgbClr val="ffffcc"/>
                </a:solidFill>
                <a:latin typeface="Tahoma"/>
              </a:rPr>
              <a:t>first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|</a:t>
            </a:r>
            <a:r>
              <a:rPr b="0" lang="en-A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NC,</a:t>
            </a:r>
            <a:r>
              <a:rPr b="0" lang="en-A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NC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Tahoma"/>
              </a:rPr>
              <a:t>-1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549720" indent="-21132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P(&lt;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w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f&gt;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|&lt;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w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f&gt;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Tahoma"/>
              </a:rPr>
              <a:t>-1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NC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Tahoma"/>
              </a:rPr>
              <a:t>-1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80" y="1751040"/>
            <a:ext cx="9150120" cy="20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-79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Tahoma"/>
              </a:rPr>
              <a:t>IdentiFinder HMM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0080" y="831600"/>
            <a:ext cx="7731360" cy="16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7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ahoma"/>
              </a:rPr>
              <a:t>Example:  Mr. [</a:t>
            </a:r>
            <a:r>
              <a:rPr b="0" lang="en-AU" sz="3200" spc="-1" strike="noStrike">
                <a:solidFill>
                  <a:srgbClr val="ff9900"/>
                </a:solidFill>
                <a:latin typeface="Tahoma"/>
              </a:rPr>
              <a:t>Jones</a:t>
            </a:r>
            <a:r>
              <a:rPr b="0" lang="en-AU" sz="3200" spc="-1" strike="noStrike">
                <a:solidFill>
                  <a:srgbClr val="ffffcc"/>
                </a:solidFill>
                <a:latin typeface="Tahoma"/>
              </a:rPr>
              <a:t>]</a:t>
            </a:r>
            <a:r>
              <a:rPr b="0" lang="en-AU" sz="3200" spc="-1" strike="noStrike" baseline="-20000">
                <a:solidFill>
                  <a:srgbClr val="ffffcc"/>
                </a:solidFill>
                <a:latin typeface="Tahoma"/>
              </a:rPr>
              <a:t>E-PERSON</a:t>
            </a:r>
            <a:r>
              <a:rPr b="0" lang="en-AU" sz="3200" spc="-1" strike="noStrike">
                <a:solidFill>
                  <a:srgbClr val="ffffcc"/>
                </a:solidFill>
                <a:latin typeface="Tahoma"/>
              </a:rPr>
              <a:t> eats 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Probability of the previous annotated sequence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2077920"/>
            <a:ext cx="806148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25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Tahoma"/>
              </a:rPr>
              <a:t>IdentiFinder HMM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2080" y="1422360"/>
            <a:ext cx="7731360" cy="438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ahoma"/>
              </a:rPr>
              <a:t>Parameter Estim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Maximum likelihood estimat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Incorporates smoothing and back-off to face sparsene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ahoma"/>
              </a:rPr>
              <a:t>Decod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174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argmax</a:t>
            </a:r>
            <a:r>
              <a:rPr b="1" lang="en-AU" sz="2800" spc="-1" strike="noStrike" baseline="-25000">
                <a:solidFill>
                  <a:srgbClr val="ffffcc"/>
                </a:solidFill>
                <a:latin typeface="Tahoma"/>
              </a:rPr>
              <a:t>NC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 (NC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…NC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Tahoma"/>
              </a:rPr>
              <a:t>n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|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w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i="1" lang="en-AU" sz="2800" spc="-1" strike="noStrike">
                <a:solidFill>
                  <a:srgbClr val="ffffcc"/>
                </a:solidFill>
                <a:latin typeface="Tahoma"/>
              </a:rPr>
              <a:t>w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Tahoma"/>
              </a:rPr>
              <a:t>n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Viterbi algorithm (dynamic programming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25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Tahoma"/>
              </a:rPr>
              <a:t>IdentiFinder: Result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760" y="1839960"/>
            <a:ext cx="9045720" cy="334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22:25:04Z</dcterms:created>
  <dc:creator>lluism</dc:creator>
  <dc:description/>
  <dc:language>en-US</dc:language>
  <cp:lastModifiedBy>Usuario de Office 2004 Test Drive</cp:lastModifiedBy>
  <cp:lastPrinted>2007-11-04T23:32:10Z</cp:lastPrinted>
  <dcterms:modified xsi:type="dcterms:W3CDTF">2008-01-30T14:24:20Z</dcterms:modified>
  <cp:revision>654</cp:revision>
  <dc:subject/>
  <dc:title>Aquesta és una prova petita</dc:title>
</cp:coreProperties>
</file>