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7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10.wmf" ContentType="image/x-wmf"/>
  <Override PartName="/ppt/media/image11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33.wmf" ContentType="image/x-wmf"/>
  <Override PartName="/ppt/media/image8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35.wmf" ContentType="image/x-wmf"/>
  <Override PartName="/ppt/media/image15.png" ContentType="image/png"/>
  <Override PartName="/ppt/media/image7.wmf" ContentType="image/x-wmf"/>
  <Override PartName="/ppt/media/image37.wmf" ContentType="image/x-wmf"/>
  <Override PartName="/ppt/media/image38.png" ContentType="image/png"/>
  <Override PartName="/ppt/media/image36.png" ContentType="image/png"/>
  <Override PartName="/ppt/media/image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32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1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25075BF-4D38-4B86-B517-8973498ECE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 problema de la desambiguació morfosintàctica: un enfocament d’aprenentatge automàtic basat en arbres de decisi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licació de tècniques d’aprenentatge automàtic al problema de la desambiguació morfosintàct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FDCAF-4520-449B-BAC4-319CBDA7D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1800" y="34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9440" y="1560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9440" y="371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B968E-61A8-472D-B444-6E974F0C0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1800" y="34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49440" y="1560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2120" y="1560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49440" y="371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2120" y="371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4AF8D-B60E-4C65-9A75-C5DF261D7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31800" y="34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49440" y="1560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77440" y="1560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5080" y="1560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49440" y="371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77440" y="371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5080" y="371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09F53-A3CF-4BAE-BFE7-75474820D5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1800" y="34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49440" y="1560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482A0-B85D-4B34-9FA7-C15BBF4990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31800" y="34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49440" y="1560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01499-84F0-4C34-89E5-9E1988694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1800" y="34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9440" y="1560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2120" y="1560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AE764-AC81-437A-AF1F-521EC1237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1800" y="34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C67D-20E2-4E72-A001-997E1A3BC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31800" y="341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3B092-7B01-4C4A-A5EE-3D2CF0D4F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1800" y="34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49440" y="1560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60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49440" y="371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8607C-DDE2-4080-92FB-68D7EF3AC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1800" y="34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49440" y="1560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120" y="1560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2120" y="371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C058C-5AFE-4109-985C-F5F30D2BE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1800" y="34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49440" y="1560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120" y="1560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49440" y="371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901BE-D194-42B8-8B26-271015784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1800" y="341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1560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36520" y="6203880"/>
            <a:ext cx="289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38720" y="6176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D58A-7462-4B7A-A3AF-F488F2FD238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4480" y="518760"/>
            <a:ext cx="87152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  <a:ea typeface="Tahoma"/>
              </a:rPr>
              <a:t>Using Wikipedia for NLP</a:t>
            </a:r>
            <a:br>
              <a:rPr sz="3200"/>
            </a:br>
            <a:r>
              <a:rPr b="1" lang="es-ES_tradnl" sz="3200" spc="-1" strike="noStrike">
                <a:solidFill>
                  <a:srgbClr val="ffff00"/>
                </a:solidFill>
                <a:latin typeface="Tahoma"/>
                <a:ea typeface="Tahoma"/>
              </a:rPr>
              <a:t>U. País Vasco, Donostia, 2009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20840" y="3124080"/>
            <a:ext cx="8229600" cy="30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Tahoma"/>
              </a:rPr>
              <a:t>Horacio Rodrígue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Tahoma"/>
              </a:rPr>
              <a:t>TALP Research Cen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Tahoma"/>
              </a:rPr>
              <a:t>Dep. Llenguatges i Sistemes Informàt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Tahoma"/>
              </a:rPr>
              <a:t>Universitat Politècnica de Cataluny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Tahoma"/>
              </a:rPr>
              <a:t>horacio@lsi.upc.e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Tahoma"/>
              </a:rPr>
              <a:t>http://www.lsi.upc.edu/~hora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D6C55-A762-4C52-BAB6-66CBCF0DBD8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9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Types of lin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rticle lin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inks from one article to another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of the same language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ategory lin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inks from an article to special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“Category” pages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nterwiki lin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inks from an article to a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presumably equivalent, article in another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anguage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Types of special pa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Redirect pag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short pages which often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provide equivalent names for an entit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Disambiguation pag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a page with littl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content that links to multiple similarly named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articl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Infoboxes, templates, list pages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04624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748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74880" y="27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A9827-FEE5-4404-AD59-60B574C34B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204624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748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74880" y="27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74880" y="14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46000" y="804960"/>
            <a:ext cx="7278840" cy="53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1A603-527B-49A9-88E7-B4B9FAF0970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04624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748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74880" y="27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74880" y="14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5604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8120" y="636480"/>
            <a:ext cx="3032280" cy="5562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1760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63840" y="2340000"/>
            <a:ext cx="5469120" cy="38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D038C-7669-40E6-B16B-5E831B44A8C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tephen Dolan'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Six Degrees of Wikip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Wikipedia as a grap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PMingLiU"/>
              </a:rPr>
              <a:t>diame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  <a:ea typeface="PMingLiU"/>
              </a:rPr>
              <a:t>but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Wikipedia has giant "tails", almost linear linked lists of articles that stretch out for 70 link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349"/>
              </a:spcBef>
              <a:buClr>
                <a:srgbClr val="ffffff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List of asteroids/145701-145800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, linked to by List of asteroids/145601-145700, linked to by List of asteroids/145501-145600, and so on for 70 links until you get back to some vageuly normal article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departure center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Wikipedia has 2,301,486 articles with 55,550,003 links between the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largest "strongly-connected-component" of wikipedia has 2,111,480 article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there is no other disjoint strongly connected component of more than about 3 articles. For everyone else, the remaining 190,006 articles are pretty boring, linkwise.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74F39-3A10-41CC-A6DC-4CC2BA0546A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centre of Wikipedia is: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From this article, it takes on average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3.45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clicks to get to any of the 2,111,479 articles reachable from i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top 10 articles are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2007, Deaths in 2004, 2006, 2004, List of accidents and incidents on commercial aircraft, Star Alliance destinations, 1990s, List of town tramway systems in North America, 2005 and 1967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f you skip past all of the articles that are just lists, years or days of the year, the "real article" closest to the centre is: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United Kingd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t an average of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3.67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clicks to anywhere els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Following it are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Billie Jean King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and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United States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in that order, strangely) with averages of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3.68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and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3.69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clicks respective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E8C40-54C8-44DC-88C9-98188B8DCD6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orsten Zesch and Iryna Gurevych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Wikipedia Article Graph, WA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Wikipedia Category Graph, WC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04624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97200" y="2808360"/>
            <a:ext cx="5051520" cy="33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3824F-00FE-400C-8550-86109C1BA3D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W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Voss (2005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hows that 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WAG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is scale-free and grow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exponentially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WCG is very similar to semantic wordnet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ike WordNet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204624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748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25520" y="2689200"/>
            <a:ext cx="726912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E964F-1986-47BF-9EE8-EBF0AD78EF3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opology of Graph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degre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of a node is the number of edges that a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onnected with this nod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veraging over all nod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gives the 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verage degre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e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degree distribution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P(k)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is the probability that a random node will ha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degree k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n some graphs (like the WWW), the degre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distribution follows a power law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P(k) = k</a:t>
            </a:r>
            <a:r>
              <a:rPr b="0" lang="es-ES" sz="1800" spc="-1" strike="noStrike" baseline="30000">
                <a:solidFill>
                  <a:srgbClr val="ffffff"/>
                </a:solidFill>
                <a:latin typeface="Tahoma"/>
                <a:ea typeface="Times New Roman"/>
              </a:rPr>
              <a:t>-</a:t>
            </a:r>
            <a:r>
              <a:rPr b="0" lang="es-E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with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power law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exponent </a:t>
            </a:r>
            <a:r>
              <a:rPr b="0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path p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i,j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is a sequence of edges that connec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 node n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with a node n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j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. The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path length l(p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i,j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s the number of edges along that path. There ca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e more than one path between two nod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shortest path length L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is the minimum of all thes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paths, i.e. L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i,j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= min l(p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i,j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). Averaging over al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nodes gives the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average shortest path length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L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e diameter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D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is the maximum of the shortest pat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ngths between all pairs of nodes in the grap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204624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748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B612F-7FEB-4A7F-8695-A965EB4E73B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opology of Graph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e cluster coefficient of a certain node n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ca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e computed a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e cluster coefficient of a random graph can be computed as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04624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748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19400" y="1982880"/>
            <a:ext cx="3708360" cy="1141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170160" y="297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16160" y="4145040"/>
            <a:ext cx="3198960" cy="102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5910C-7059-4F28-AC2F-C30B010DDB8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opology of Graph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Small world graph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contain local clusters that are connected by some lo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range links leading to low values of L and 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us, small world graphs are characterized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small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values of      (typically                    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arge values of      ( i.e.                        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Scale-free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graph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have a degree distribution following a pow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aw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4624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748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9880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70160" y="297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174840" y="3029040"/>
                <a:ext cx="2098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L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84560" y="3586320"/>
                <a:ext cx="22860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103640" y="3537000"/>
                <a:ext cx="11811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&gt;&gt;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ndom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378320" y="2948040"/>
                <a:ext cx="1123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L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&gt;&gt;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ndom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77A9C-5CDE-4190-AEBA-27F469870CD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Outlin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1106640"/>
            <a:ext cx="777240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Extracting information from Wikip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Related and Derived Resou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Using Wikipedia in NLP Tasks and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Related research at UPC, UB, UP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Conclu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814320" y="5576760"/>
            <a:ext cx="7772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  <a:ea typeface="PMingLiU"/>
              </a:rPr>
              <a:t>This course is a slighted extended and revised version of Alicante 20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0B31-EE64-4420-8ACD-E19E5ACF9F7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opology of Graph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ll these graphs are small world graph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ll semantic networks are scale-fre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graphs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04624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748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74880" y="27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724040"/>
            <a:ext cx="9144000" cy="22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BA080-9882-4B5C-B76C-C329A0C108C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Extracting information from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Deriving Ontologies from Wikip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WikiTaxonom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Simone Paolo Ponzetto and Michael Strub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taking the category system in Wikipedia as a conceptual networ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istinguishing between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instances and clas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. Zirn, V. Nastase, and M. Strub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PMingLiU"/>
              </a:rPr>
              <a:t>Obtaining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PMingLiU"/>
              </a:rPr>
              <a:t>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oral and Muñoz (200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Kazama and Torisawa (2007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E4014-878C-4A94-A4CA-425380DE1E3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Extracting information from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1106640"/>
            <a:ext cx="7772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WikiTaxonom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Category network cleanup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is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leaves 127,325 categories and 267,707 link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Refinement link identifica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Syntax-based metho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Head match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Modifier match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72,663 </a:t>
            </a:r>
            <a:r>
              <a:rPr b="0" i="1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isa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relations by HM and 37,999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i="1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notisa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relations by MM 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Connectivity-based metho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Instance categoriz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Redundant categoriz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9,890 and 11,087 </a:t>
            </a:r>
            <a:r>
              <a:rPr b="0" i="1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isa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relations, respectivel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exico-syntactic based metho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After applying methods (1-4) we are left with 81,564 unclassifie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create 15,055 </a:t>
            </a:r>
            <a:r>
              <a:rPr b="0" i="1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isa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relations and filter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out 3,27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Inference-based metho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propagate the previously found relation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1B41E-6A34-44CC-B190-0DA3E1DC2B5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Extracting information from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1106640"/>
            <a:ext cx="7772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Toral and Muñoz (2006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used Wikipedia to create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lists of named entities. They used the first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sentence of Wikipedia articles as likely definitions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of the article titles, and used them to attempt to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e titles as people, locations, organizations,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or none. Their algorithm relied on WordNe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Kazama and Torisawa (200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used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Wikipedia, particularly the first sentence of each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article, to create lists of entities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B6E61-1A4A-4AE9-8586-149EF9B56F9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Related and Derived Resourc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50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Wikipedia dum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Waikato's 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WikipediaMiner toolk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PMingLiU"/>
              </a:rPr>
              <a:t>U. Alica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wiki db acce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http://www.dlsi.ua.es/∼atoral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trube and Ponzet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mantically Annotated Snapshot of the English Wikip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tserias et al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UKP (Ubiquitous Knowledge Processing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ryna Gurevy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. Darmstad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Bp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Freie U. Berl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Wikipedia XML corp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DBF15-7315-46C6-92AE-0FF2EFB8008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Related and Derived Resourc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50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Ya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uchanek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uchanek et al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Arial"/>
              </a:rPr>
              <a:t>Semantic Wikip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ax Völkel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at al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Yahoo's Correl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Yahoo's Barcelona Media Research Cen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1BAF9-0472-44C6-A4DD-84268026F5E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Wikipedia dump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very couple of months, the Wikipedia folks dump their entire database and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ut it onlin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for all to download. There's a couple of different versions depending on which information you want (Stephen Dolan, 200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e most interesting is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pages-articles.xml.bz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. It's about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3.5 GB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of compressed XML and it contains all of the articles on Wikipedia, but not their full edit histories and also omits things like Talk pages or users' pag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f you want those as well, the download goes up to about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150 GB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DE8C7-1407-4166-9CAD-42E5A1508A5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Strube and Ponzett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1106640"/>
            <a:ext cx="77724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P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RDBMS: at the lowest level, the encyclopediacontent is stored in a relational database managemen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ystem (e.g. MySQL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ediaWiki: a suite of PHP routines for interactin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with the RDB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WWW-Wikipedia Perl library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responsible for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querying MediaWiki, parsing and structuring th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returned encyclopedia pag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4. XML-RPC serv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an intermediate communication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ayer between Java and the Perl routin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Java wrapper library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provides a simple interfac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to create and access the encyclopedia pag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objects and compute the relatedness scor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3AB0-53E8-4F16-8CE3-0E237F6B896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1560" y="127080"/>
            <a:ext cx="8064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Semantically Annotated Snapshot of the English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8120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tserias et al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The SW1 corpus is a snapshot of the English Wikipedi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dated from 2006-11-04 processed with a number of public availabl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NLP t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XML-ized Wikipedia dump distributed by th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niversity of Amsterdam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(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http://ilps.science.uva.nl/WikiXML/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asic preprocess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PoS tagging using the SuperSens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agger (Ciaramita and Altun, 2006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mmatization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orphologial functions (morph) of the WordNe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ibrar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Dependency parsing: DeSR, an open source statistica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parser (Attardi et al., 200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emantic Tagg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Several semantic taggers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http://www.yr-bcn.es/semanticWikipe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2A4C3-CC8B-4CE3-8163-958F914FDA0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31560" y="127080"/>
            <a:ext cx="8064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Wikipedia XML corpu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8120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udovic Denoyer and Patrick Gallina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http://www-connex.lip6.fr/∼denoyer/wikipediaX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874880" y="26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2680" y="2664000"/>
            <a:ext cx="8580240" cy="243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F9A99-0B7C-4272-8B89-E2B3BC4BE19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Introduc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Importance of Wikip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What to re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Organization of Wikip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CDFAF-831E-4447-9448-0D4A85F482F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1560" y="127080"/>
            <a:ext cx="8064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Wikipedia XML corpu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874880" y="26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7488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6280" y="2728800"/>
            <a:ext cx="8937720" cy="232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B47BB-3DF0-410A-B359-06A0B2EB908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1560" y="127080"/>
            <a:ext cx="8064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Wikipedia XML corpu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874880" y="26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7488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7488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4080" y="2798640"/>
            <a:ext cx="8989920" cy="206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78EAE-BD90-4022-827D-E06387E02D3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1560" y="127080"/>
            <a:ext cx="8064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YAG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874880" y="26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7488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7488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8120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chanek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chanek et al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CMR17"/>
              </a:rPr>
              <a:t>YAGO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CMR17"/>
              </a:rPr>
              <a:t>: A Large Ontology from Wikipedia and WordN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CMR10"/>
              </a:rPr>
              <a:t>builds on Wikipedia's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  <a:ea typeface="CMTI10"/>
              </a:rPr>
              <a:t>infoboxes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CMR10"/>
              </a:rPr>
              <a:t>and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  <a:ea typeface="CMTI10"/>
              </a:rPr>
              <a:t>category page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CMR10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CMR10"/>
              </a:rPr>
              <a:t>Infoboxes are standardized tables that contain basic information about th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CMR10"/>
              </a:rPr>
              <a:t>entity described in the article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CMR10"/>
              </a:rPr>
              <a:t>infoboxes are much easier to parse and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CMR10"/>
              </a:rPr>
              <a:t>exploit than natural language tex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CMR10"/>
              </a:rPr>
              <a:t>unification between WordNet and facts deriv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CMR10"/>
              </a:rPr>
              <a:t>from Wikipedia with a precision of 95%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CMR10"/>
              </a:rPr>
              <a:t>a slight extension of RDFS, the </a:t>
            </a:r>
            <a:r>
              <a:rPr b="0" i="1" lang="en-GB" sz="1800" spc="-1" strike="noStrike">
                <a:solidFill>
                  <a:srgbClr val="ffffff"/>
                </a:solidFill>
                <a:latin typeface="Tahoma"/>
                <a:ea typeface="CMTI10"/>
              </a:rPr>
              <a:t>YAGO model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CMR10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9E43D-A659-46E1-8573-2E0DF4AFD29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1560" y="127080"/>
            <a:ext cx="8064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Semantic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874880" y="26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7488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7488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6072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7160" y="912960"/>
            <a:ext cx="8545320" cy="492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8CE86-E347-4FDA-A2A7-BD2E2FCDD59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31560" y="127080"/>
            <a:ext cx="8064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Semantic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1874880" y="26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7488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488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6072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9852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03040" y="1046160"/>
            <a:ext cx="6789960" cy="1635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217600" y="26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91960" y="3754440"/>
            <a:ext cx="6729480" cy="2209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230560" y="2720880"/>
            <a:ext cx="647640" cy="1003320"/>
          </a:xfrm>
          <a:prstGeom prst="downArrow">
            <a:avLst>
              <a:gd name="adj1" fmla="val 50000"/>
              <a:gd name="adj2" fmla="val 3873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77ADF-A656-47B1-90A9-E405B78214C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Yahoo's Correlator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P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rovides  a whole new way of running a search query. Correlator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PMingLiU"/>
              </a:rPr>
              <a:t>extracts and organizes information from text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, and searches for related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PMingLiU"/>
              </a:rPr>
              <a:t>names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,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PMingLiU"/>
              </a:rPr>
              <a:t>concepts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,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PMingLiU"/>
              </a:rPr>
              <a:t>places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, and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PMingLiU"/>
              </a:rPr>
              <a:t>events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 to your que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Current demo uses the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PMingLiU"/>
              </a:rPr>
              <a:t>English Wikipedia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, but Correlator can be applied to any text collection. When you search for something, you'll first see a synthetic page assembled from several Wikipedia entries matching your search, grouped using Wikipedia's category structu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1E870-322A-4527-AD1D-B60AD13556B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Using Wikipedia in NLP tasks and Application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Measures of 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  <a:ea typeface="PMingLiU"/>
              </a:rPr>
              <a:t>semantic relatedness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using Wikip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trube and Ponzetto, 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Gabrilovich and Markovitch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orsten Zesch and Iryna Gurevych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ilne and Witten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PMingLiU"/>
              </a:rPr>
              <a:t>Named Entities Recognition &amp; Classifi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unescu and Pasca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ucerzan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Buscaldi, Rosso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PMingLiU"/>
              </a:rPr>
              <a:t>Word Sense Disambigu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Mihalcea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Mihalcea, Csomai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PMingLiU"/>
              </a:rPr>
              <a:t>Extending existing thesaur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99C22-F0AE-49D1-8EB0-8851559F256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Using Wikipedia in NLP tasks and Application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 &amp; Topic index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Milne and Witten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Medelyan et al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ihalcea and Csomai (200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Atserias et al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Milka et al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Wu, Weld, 2007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PMingLiU"/>
              </a:rPr>
              <a:t>Improving I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 access to docu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Milne et al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PMingLiU"/>
              </a:rPr>
              <a:t>Text categoriz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Gabrilovich and Markovitch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Gabrilovich, 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PMingLiU"/>
              </a:rPr>
              <a:t>Multilingual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Ferrández et al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lexander E. Richman and Patrick Schon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01A0B-07BA-4A18-8FBA-F0C006429AA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Using Wikipedia in NLP tasks and Application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PMingLiU"/>
              </a:rPr>
              <a:t>Coreferenc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Ponzetto and Strube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Mining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PMingLiU"/>
              </a:rPr>
              <a:t>Domain-Specific Thesau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Milne et al, 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10A6E-7457-4E25-85B1-A79E8CA12C3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Measures of semantic relatedness using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Measures of 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  <a:ea typeface="PMingLiU"/>
              </a:rPr>
              <a:t>semantic relatedness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using Wikip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trube and Ponzetto, 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Gabrilovich and Markovitch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orsten Zesch and Iryna Gurevych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ilne and Witten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07708-3290-42D4-8091-49D4DC12F21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Importance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Siz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English: 2 683 000+ artic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Deutsch: 847 000+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Español: 431 000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Français: 746 000+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Italiano: 527 000+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Português: 449 000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&gt; 200 langua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Collaborative eff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Exponential grow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351480" y="83988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E031-5F4A-469A-8A8F-F2FCAA363BD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Measures of semantic relatedness using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trube and Ponzetto,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WikiRelate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omputing Semantic Relatedness Using Wikipe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familiar techniques that ha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previously been applied to WordNet (Pedersen et al, 2004 package) and modified them t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uit Wikipe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ost accurate: Leacock &amp; Chodorow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n API for Measuring the Relatedness of Words in Wikipe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http://www.eml-research.de/nlp/download/wikipediasimilarity.ph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31D15-1A47-410A-BABD-4BE93D4F6AC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Measures of semantic relatedness using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1760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797280" y="735120"/>
            <a:ext cx="4708440" cy="55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E4592-A128-4ED2-AA91-990A511AD62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Measures of semantic relatedness using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Gabrilovich and Markovitch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ES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(Explicit Semantic Analysi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Vector Space Mod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ompare weighted vectors of the Wikipedia articles related to each term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3820F-F0FC-4291-A257-3706D1A68C5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Measures of semantic relatedness using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orsten Zesch and Iryna Gurevych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sing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WC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Unlike other wordnets, nodes in the WCG do no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represent synsets or single terms, but a generalized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concept or categor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WCG would not provide sufficient coverage, as it i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relatively smal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Adapting SR Measures to Wikipe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Using the set of categories from each articl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Substitute Resnik’s information content with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intrinsic information content (IIC) by Seco e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al. (2004) that is computed only from structural information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of the underlying graph. It yields better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results and is corpus independent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8928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106720" y="4778280"/>
            <a:ext cx="4357440" cy="10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B003-C146-44AC-8FB5-9E771D98A6CC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Measures of semantic relatedness using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8928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32120" y="30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74880" y="36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943360" y="565200"/>
            <a:ext cx="5394240" cy="613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12BA1-C262-4525-8020-6C9D4A94F0D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Measures of semantic relatedness using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8928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32120" y="30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51160" y="725400"/>
            <a:ext cx="5060880" cy="599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06ACA-8962-41AF-9F91-A500B21C425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Measures of semantic relatedness using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lne and Witten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Wikipedia Link-based Measure (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WLM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ased on using Wikipedia lin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s both cheaper and more accurate than E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cheaper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because Wikipedia’s extensive textual content can largely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be ignored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more accurate, because it is more closely tied to the manually defined semantics of the resourc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97F0E-E955-4962-8F02-4CE5482A5C55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Measures of semantic relatedness using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7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lne and Witten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7812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720800"/>
            <a:ext cx="8959680" cy="44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30ED5-9C1F-483E-BDDD-994FD07FE2D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Measures of semantic relatedness using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Proced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dentifying candidate artic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two problems: ambiguity and polysem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easuring relatedness between artic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with two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measure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output link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input link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combin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angle between th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vectors of the links found within the two articles of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interes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easuring relatedness between ter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vailable as open sour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WikipediaMiner toolkit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7812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FC130-9528-459D-B83F-FC42061305D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NE disambigu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  <a:ea typeface="PMingLiU"/>
              </a:rPr>
              <a:t>Cucerzan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sed Wikipedia primarily for Named Entity Disambiguation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following the path of Bunescu a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Pasca (2006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ade use of th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explicit Category information found within Wikiped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ategory and related list-deriv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data were key pieces of information us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o differentiate between various meanings of a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mbiguous surface form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did not make use of the Category informat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o identify a given entity as a member o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ny particular cla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812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9498E-42C5-49A2-9D84-CA749D6A11D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Importance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7488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84360" y="2087640"/>
            <a:ext cx="5956200" cy="3668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6880" y="1251000"/>
            <a:ext cx="2416320" cy="355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Milne et al,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40CED-7189-4A25-BE94-FE2AD39A10B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NE disambigu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  <a:ea typeface="PMingLiU"/>
              </a:rPr>
              <a:t>Cucerzan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7812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47920" y="161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347920" y="1616040"/>
            <a:ext cx="5719680" cy="46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E1282-6B09-4217-94A8-F209479F57E5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  <a:ea typeface="PMingLiU"/>
              </a:rPr>
              <a:t>NE disambigu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  <a:ea typeface="PMingLiU"/>
              </a:rPr>
              <a:t>Cucerzan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78120" y="208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47920" y="161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43320" y="235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346040" y="2155680"/>
            <a:ext cx="6791400" cy="341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3FB27-4B86-498A-8563-98E187FB522B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Mi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lne and Witten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Wikif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ihalcea and Csomai (200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Atserias et al (200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Mika et al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AC27D-4518-4F1F-9D31-6A465E42C920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Mi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lne and Witten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PMingLiU"/>
              </a:rPr>
              <a:t>Wikif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Learning to disambiguate lin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machine-learning approach that uses the links found within Wikipedia article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for training. For every link, a Wikipedian has manually—and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probably with some effort—selected the correct destination to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represent the intended sense of the anch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selected articles containing at least 50 link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We also avoided list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and disambiguation pages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700 articles were randomly selected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and set aside for developing the disambiguation algorithm: 5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for training; 100 for configuration, and a further 100 for final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evalu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D4AAC-A974-44DF-9AB6-0563C3BD3C0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Mi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lne and Witten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ere are 26 possible senses. Only one sense is a positive example, and th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remaining 25 are negative. In all, the 500 training articles provid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bout 1.8 million examples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7488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50840" y="2936880"/>
            <a:ext cx="8993160" cy="32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B4554-944E-421C-AC1F-703A320B7F3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Mi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lne and Witten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alance the commonness (i.e. prior probability) of a sense with i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relatednes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to the surrounding contex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e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commonnes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of a sens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s defined by the number of times it is used as a destination i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Wikipedi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7488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17600" y="30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198520" y="4056120"/>
            <a:ext cx="6232680" cy="10191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3987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185920" y="2952720"/>
            <a:ext cx="3191040" cy="72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9B725-C750-42DB-B13C-254722DAA9B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1480" y="1106640"/>
            <a:ext cx="77724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Mi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lne and Witten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o balance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commonnes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and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relatedness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, it is needed to  take into accoun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how good the context 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 machine learning approach to combine thes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features is used , so that the balance can be adjusted from document t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docu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L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link detector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featu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ink Probability.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(Mihalcea and Csomai’s link probability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Relatednes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isambiguation Confidenc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Generality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ocation and Spread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7488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17600" y="30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987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8E2A9-0FF2-4A00-9045-FD4844A86A0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1106640"/>
            <a:ext cx="77724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Mi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lne and Witten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7488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17600" y="30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987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78120" y="229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19160" y="2293920"/>
            <a:ext cx="9024840" cy="38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8BD5A-9F58-422D-A99A-5F0D38E59375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ihalcea and Csomai (200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PMingLiU"/>
              </a:rPr>
              <a:t>Wikify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two phas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dete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identifying the terms and phrases from which links should be made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based on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link probabilities obtained from Wikipedia’s articl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e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link probability of a phrase is defined as the number of Wikipedia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articles that use it as an anchor, divided by the number of articles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at mention it at all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precision of 53% and a recall of 56%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disambigu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ensures that the detected phrases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link to the appropriate article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Wikify’s best approach extracts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features from the phrase and its surrounding words (the terms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emselves and their parts of speech), and compares this to training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examples obtained from the entire Wikipedia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precision of 93% and a recall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of 83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e entire Wikipedia must be parsed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AA684-18F1-4EA1-8E3C-85C661B0993C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tserias et al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The SW1 corpus is a snapshot of the English Wikipedi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dated from 2006-11-04 processed with a number of public availabl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NLP t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e SuperSense Tagger (Ciaramita and Altun, 200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ree semantic taggers on different datasets to annotate the dat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WordNet SuperSenses (WNSS)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Wall Street Journal (WSJ)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WSJCoNL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A2CA0-5C47-41FB-8BE1-A489B97C3C7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Importance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1106640"/>
            <a:ext cx="777240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But 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tephen Dolan'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Six Degrees of Wikipe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An (not randomly selected)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example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: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  <a:ea typeface="PMingLiU"/>
              </a:rPr>
              <a:t>257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PMingLiU"/>
              </a:rPr>
              <a:t> (numb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  <a:ea typeface="PMingLiU"/>
              </a:rPr>
              <a:t>look at links (and at not linked term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257 is the natural number between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256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 and 258. It is also a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prime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number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257 is a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prime number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 of the form                       and therefore a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Fermat prime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. It is currently the second largest known Fermat prime. It is also a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Proth prime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. And since it is of the form 4n + 1, it is a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Pythagorean prime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It is also an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irregular prime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, and a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long prime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 (in base 10) and a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balanced prime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. Since the next prime, 263, is 6 away, 257 is called a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sexy prime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Since 257 + 2 = 259, a semiprime, 257 is a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Chen prime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. It is also an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Eisenstein prime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 with no imaginary part, and a </a:t>
            </a:r>
            <a:r>
              <a:rPr b="0" lang="es-ES_tradnl" sz="1400" spc="-1" strike="noStrike">
                <a:solidFill>
                  <a:srgbClr val="ffff00"/>
                </a:solidFill>
                <a:latin typeface="Tahoma"/>
                <a:ea typeface="PMingLiU"/>
              </a:rPr>
              <a:t>Pierpont prime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  <a:ea typeface="PMingLiU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430200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49677308afbf079cb4b44cb25518b35e" descr="2^{2^3}+1"/>
          <p:cNvPicPr/>
          <p:nvPr/>
        </p:nvPicPr>
        <p:blipFill>
          <a:blip r:embed="rId1"/>
          <a:stretch/>
        </p:blipFill>
        <p:spPr>
          <a:xfrm>
            <a:off x="5032440" y="2800440"/>
            <a:ext cx="1009440" cy="39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3E721-4E82-41EC-980D-B4429D50379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ika et al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arning to tag and tagging to learn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212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58840" y="2443320"/>
            <a:ext cx="8702640" cy="325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DCE6D-5F97-41BD-A808-6931C635EAF9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PMingLiU"/>
              </a:rPr>
              <a:t>Wu, Weld, 2007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Autonomously Semantifying Wikipe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sing infobox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KIL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3212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2256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938240" y="3067200"/>
            <a:ext cx="6762960" cy="296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54AC2-205E-482C-BC51-03374D0AFDC9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PMingLiU"/>
              </a:rPr>
              <a:t>KIL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nfoboxes may be easily convert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o semantic form as shown by Auer and Lehmann’s DBped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emplates implicitly define the most important and representati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ttribu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KYLIN automatically constructs a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ompletes infobox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basic idea is to use existing infoboxes a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a source of training data with which to learn extractors for gathering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more data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KILIN has three main components: preprocessor, classifier, a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extracto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3212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2256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9888C-FBCE-4B2C-9740-90FB09CB2F8C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  <a:ea typeface="PMingLiU"/>
              </a:rPr>
              <a:t>KIL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KILIN has three main components: preprocessor, classifier, a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extracto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3212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2256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74880" y="22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189080" y="2624040"/>
            <a:ext cx="7273800" cy="305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9D881-99CF-4B99-9557-6B21ED993BD6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Semantic tagging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For increasing recall from Wikipedia’s long tail of spars  class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hrinkage over an automatically-learned subsumption taxonom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Given a sparse target infobox class C, Kylin’s shrinkage modul searchs upwards and downwards through the </a:t>
            </a:r>
            <a:r>
              <a:rPr b="0" lang="en-GB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KOG ontology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to aggregate training data from related class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KOG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: Refining the Wikipedia Ontology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 retraining technique for improving the training d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upplementing results by extracting from the broader Web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3212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22560" y="23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74880" y="229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A3A28-B39D-495C-BA90-B75122660DF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Improving IR access to document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Kor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Milne et al,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Using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PMingLiU"/>
              </a:rPr>
              <a:t>thesauri to assist with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PMingLiU"/>
              </a:rPr>
              <a:t> I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bu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ahoma"/>
                <a:ea typeface="PMingLiU"/>
              </a:rPr>
              <a:t>Generic thesauri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 have shortcomings in any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specific technical domai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ahoma"/>
                <a:ea typeface="PMingLiU"/>
              </a:rPr>
              <a:t>Domain-specific thesauri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 are expensive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to produce, and their use may require specialist technical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knowledg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AJAX framewor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Creating a relevan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knowledge ba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By intersecting this with individual documen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collecti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  <a:ea typeface="PMingLiU"/>
              </a:rPr>
              <a:t>WikiSaur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78B3D-7F0C-468D-9C07-CD4A05BF3B0C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Improving IR access to document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Kor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Creating a relevan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knowledge ba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It is essential to identify concepts relevant to a particular document collection and place thess in an structure that allows navigation between related concept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Tahoma"/>
                <a:ea typeface="PMingLiU"/>
              </a:rPr>
              <a:t>Wikipedia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 is seen as a network of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linked concepts and largely ignore the text it contains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Tasks neede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Measuring </a:t>
            </a:r>
            <a:r>
              <a:rPr b="0" lang="en-GB" sz="1400" spc="-1" strike="noStrike">
                <a:solidFill>
                  <a:srgbClr val="ffff00"/>
                </a:solidFill>
                <a:latin typeface="Tahoma"/>
                <a:ea typeface="PMingLiU"/>
              </a:rPr>
              <a:t>semantic relatednes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349"/>
              </a:spcBef>
              <a:buClr>
                <a:srgbClr val="ffffff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The measure that we use quantifies the strength of the relation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between two Wikipedia articl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ahoma"/>
                <a:ea typeface="PMingLiU"/>
              </a:rPr>
              <a:t>Disambiguating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 unrestricted tex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Identifying </a:t>
            </a:r>
            <a:r>
              <a:rPr b="0" lang="en-GB" sz="1400" spc="-1" strike="noStrike">
                <a:solidFill>
                  <a:srgbClr val="ffff00"/>
                </a:solidFill>
                <a:latin typeface="Tahoma"/>
                <a:ea typeface="PMingLiU"/>
              </a:rPr>
              <a:t>relations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 between concep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Weighting </a:t>
            </a:r>
            <a:r>
              <a:rPr b="0" lang="en-GB" sz="1400" spc="-1" strike="noStrike">
                <a:solidFill>
                  <a:srgbClr val="ffff00"/>
                </a:solidFill>
                <a:latin typeface="Tahoma"/>
                <a:ea typeface="PMingLiU"/>
              </a:rPr>
              <a:t>topics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PMingLiU"/>
              </a:rPr>
              <a:t>, occurrences and relation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11A18-2430-4296-983F-A2824A0333D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Improving IR access to document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7488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0" y="2550960"/>
            <a:ext cx="9144000" cy="35672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7120" y="895320"/>
            <a:ext cx="7772400" cy="13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Configu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Building an appropriate query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Browsing the document lis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In-depth reading of a chosen documen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647F4-16A0-456F-9D8F-1ABC36ED89E3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Text categoriz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1106640"/>
            <a:ext cx="7772400" cy="41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Gabrilovich and Markovitch, 2007, Gabrilovich,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use of  external </a:t>
            </a:r>
            <a:r>
              <a:rPr b="0" lang="en-GB" sz="2000" spc="-1" strike="noStrike">
                <a:solidFill>
                  <a:srgbClr val="ffff00"/>
                </a:solidFill>
                <a:latin typeface="Tahoma"/>
                <a:ea typeface="PMingLiU"/>
              </a:rPr>
              <a:t>web source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 t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PMingLiU"/>
              </a:rPr>
              <a:t>enhance performance on text categorization task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hierarchical relationships available from the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PMingLiU"/>
              </a:rPr>
              <a:t>Open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PMingLiU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PMingLiU"/>
              </a:rPr>
              <a:t>Directory Projec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limited by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unbalanced hierarchies and noisy text in the web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pag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PMingLiU"/>
              </a:rPr>
              <a:t>Wikipedi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, with the perceived advantages that i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articles are much cleaner than typical web pages, with larger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PMingLiU"/>
              </a:rPr>
              <a:t>coverage and more cross-links between articl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PMingLiU"/>
              </a:rPr>
              <a:t>Wikipedi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 as an structur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collection of document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confirm the value of encyclopedic knowledge fo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text categorization  and suggested applying similar approaches t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PMingLiU"/>
              </a:rPr>
              <a:t>other text processing tasks such as I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D80CE-9BD4-4F5E-BDB6-07D5AA9AD4C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Mining Domain-Specific Thesaur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Milne et al,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imes New Roman"/>
              </a:rPr>
              <a:t>Agrovo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a manually-created professional thesaurus in the domain of agriculture, as the gold standar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equivalenc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relation connects one or more terms to a single preferred term (or descriptor), if they are synonymous. It is denoted by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, with the inverse form with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USE FOR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e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hierarchical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relation occurs between more general and more specific terms, denoted by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BT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(broader term) and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NT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(narrower term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he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associativ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relation stands of any other kind of semantic relation and is denoted by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R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(related term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2FE80-417C-43D1-AA46-F0F249895B43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What to read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1106640"/>
            <a:ext cx="777240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Thesis (relat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Suchanek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Gabrilovich, 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Workshop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AAAI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PMingLiU"/>
              </a:rPr>
              <a:t>Wikipedia and Artificial Intelligence: An Evolving Synerg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PMingLiU"/>
              </a:rPr>
              <a:t>http://lit.csci.unt.edu/~wikiai0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Confer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LREC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PMingLiU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88401-AD5B-4273-B27F-8C22B076F49B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Mining Domain-Specific Thesaur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7488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584360" y="2087640"/>
            <a:ext cx="5956200" cy="36687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96880" y="1251000"/>
            <a:ext cx="2416320" cy="355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Wikipe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B8334-DBF0-43BB-808C-5D1CBD933F5E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Mining Domain-Specific Thesaur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7488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6880" y="1251000"/>
            <a:ext cx="2416320" cy="355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Agrovo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7488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907920" y="2035080"/>
            <a:ext cx="6361200" cy="328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A6800-F357-4D95-A44E-F989CD2616EB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Mining Domain-Specific Thesaur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39680" y="2652840"/>
            <a:ext cx="8264520" cy="23810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596880" y="1251000"/>
            <a:ext cx="2647800" cy="355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Wikipedia organ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054C6-C684-4361-8B91-39C6EDD0113A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Mining Domain-Specific Thesaur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7488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6880" y="1251000"/>
            <a:ext cx="3349800" cy="355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Wikipedia Agrovoc mapp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7488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100240" y="1895400"/>
            <a:ext cx="5010120" cy="373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E3D97-AD4F-4120-81E8-85DC328BBD05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Mining Domain-Specific Thesaur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7488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7488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6880" y="1251000"/>
            <a:ext cx="3349800" cy="355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Wikipedia Agrovoc mapp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0840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4560" y="2138400"/>
            <a:ext cx="5086080" cy="394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86576-13E4-4765-8834-400A46D25557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Mining Domain-Specific Thesaur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7488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7488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6880" y="1251000"/>
            <a:ext cx="3349800" cy="355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Wikipedia Agrovoc mapp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89320" y="178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187720" y="1932120"/>
            <a:ext cx="5146560" cy="38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E76DF-00BB-4C6B-BA7A-402D993C952E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ultilingual application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S. Ferrández et al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Application to Cross-Lingual Q&amp;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wiki db acce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http://www.dlsi.ua.es/</a:t>
            </a:r>
            <a:r>
              <a:rPr b="0" i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∼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atoral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. Richman, P. Schone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ultilingual Named Entity Recogni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1871640" y="17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6B39F-3D57-4427-AB27-71343EDD04F2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ultilingual application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S. Ferrández et al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1871640" y="17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22440" y="1722600"/>
            <a:ext cx="7094520" cy="44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5E04E-9809-4712-AE44-42C02149C45A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reference resolu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7360" y="794880"/>
            <a:ext cx="838512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Ponzetto &amp; Strube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baseline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oon et al. (2001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exical featu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1. STRING MATCH T if REi and REj have the same spelling, else 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2. ALIAS T if one RE is an alias of the other; else 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Grammatical featu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3. I PRONOUN T if REi is a pronoun; else 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4. J PRONOUN T if REj is a pronoun; else 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5. J DEF T if REj starts with </a:t>
            </a:r>
            <a:r>
              <a:rPr b="0" i="1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e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; else 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6. J DEM T if REj starts with </a:t>
            </a:r>
            <a:r>
              <a:rPr b="0" i="1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is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, </a:t>
            </a:r>
            <a:r>
              <a:rPr b="0" i="1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at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, </a:t>
            </a:r>
            <a:r>
              <a:rPr b="0" i="1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ese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, or </a:t>
            </a:r>
            <a:r>
              <a:rPr b="0" i="1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ose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; else 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7. NUMBER T if both REi and REj agree in number; else 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8. GENDER U if either REi or REj have an undefined gender. Else if they are both defined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and agree T; else 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9. PROPER NAME T if both REi and REj are proper names; else 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10. APPOSITIVE T if REj is in apposition with REi; else 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Semantic featu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11. WN CLASS U if either REi or REj have an undefined WordNet semantic class. Else if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ey both have a defined one and it is the same T; else F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istance featu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12. DISTANCE</a:t>
            </a:r>
            <a:r>
              <a:rPr b="1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how many sentences REi and REj are apar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DF96F-7821-4635-A6BE-175CF8CC80C7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reference resolu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7360" y="794880"/>
            <a:ext cx="838512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Ponzetto &amp; Strube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new featu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SRL featu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13. I SEMROLE the semantic role argument-predicate pairs of REi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14. J SEMROLE the semantic role argument-predicate pairs of REj 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W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15. WN SIMILARITY BE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16. WN SIMILARITY AV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Wikipedi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17. I/J GLOSS CONTAIN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18. I/J RELATED CONTAIN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19. I/J CATEGORIES CONTAIN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20. GLOSS OVERLAP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21. WIKI RELATEDNESS BE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22. WIKI RELATEDNESS AV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9EE4E-BE6A-48AF-AB41-7399721E1653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What to read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1480" y="1106640"/>
            <a:ext cx="777240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Peop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Medelyan, Milne, Witten, 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Zesch, Gurevych, 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Ponzetto, Strub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, 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tserias, Mika, Zaragoza, 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oral, Muñoz, Ferrández, 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ucerzan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Mihalcea, Csomai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uscaldi, Ros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anerje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Wu, Weld, 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C3742-97D2-4CB5-A969-0D197B51DBA2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PMingLiU"/>
              </a:rPr>
              <a:t>Research at UPC, UB, UPF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46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PMingLiU"/>
              </a:rPr>
              <a:t>Extracting Arabic NEs (UP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Musa Alkhalifa (H.Rodríguez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Learning Paraphrase patterns (UPC-UB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Marta Vila (M.A. Martí, H.Rodríguez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Extracting domain terminology (UPC-UPF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Jorge Vivaldi &amp; H.Rodrígue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18748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D63B9-D08A-4496-B8E5-7F6863FF2014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clusion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Growing inter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Possible use of Wikipedia as General Knowledge Reposit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PMingLiU"/>
              </a:rPr>
              <a:t>Challen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Extracting useful information from a Repository intented for human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Taking profit of multilingual inform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PMingLiU"/>
              </a:rPr>
              <a:t>Page disambigu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49F8A-EDE7-4946-AF28-BE6D42904051}" type="slidenum">
              <a:t>81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3880" y="12708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PMingLiU"/>
              </a:rPr>
              <a:t>Organization of Wikipedi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110628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General Iss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tephen Dolan' Six Degrees of Wikipedia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orsten Zesch and Iryna Gurevych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ikip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BDCB6-5099-46FD-BF01-03465E5D360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22:25:04Z</dcterms:created>
  <dc:creator>lluism</dc:creator>
  <dc:description/>
  <dc:language>en-US</dc:language>
  <cp:lastModifiedBy>horacio</cp:lastModifiedBy>
  <cp:lastPrinted>2001-06-13T10:40:54Z</cp:lastPrinted>
  <dcterms:modified xsi:type="dcterms:W3CDTF">2009-03-08T23:45:59Z</dcterms:modified>
  <cp:revision>618</cp:revision>
  <dc:subject/>
  <dc:title>Aquesta és una prova petita</dc:title>
</cp:coreProperties>
</file>