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58.pct" ContentType="image/x-pict"/>
  <Override PartName="/ppt/media/image27.jpeg" ContentType="image/jpeg"/>
  <Override PartName="/ppt/media/image50.jpeg" ContentType="image/jpeg"/>
  <Override PartName="/ppt/media/image29.jpeg" ContentType="image/jpeg"/>
  <Override PartName="/ppt/media/image37.png" ContentType="image/png"/>
  <Override PartName="/ppt/media/image4.pct" ContentType="image/x-pict"/>
  <Override PartName="/ppt/media/image36.png" ContentType="image/png"/>
  <Override PartName="/ppt/media/image3.pct" ContentType="image/x-pict"/>
  <Override PartName="/ppt/media/image15.pct" ContentType="image/x-pict"/>
  <Override PartName="/ppt/media/image60.png" ContentType="image/png"/>
  <Override PartName="/ppt/media/image14.pct" ContentType="image/x-pict"/>
  <Override PartName="/ppt/media/image32.jpeg" ContentType="image/jpeg"/>
  <Override PartName="/ppt/media/image17.jpeg" ContentType="image/jpeg"/>
  <Override PartName="/ppt/media/image49.jpeg" ContentType="image/jpeg"/>
  <Override PartName="/ppt/media/image13.pct" ContentType="image/x-pict"/>
  <Override PartName="/ppt/media/image16.png" ContentType="image/png"/>
  <Override PartName="/ppt/media/image35.png" ContentType="image/png"/>
  <Override PartName="/ppt/media/image43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61.png" ContentType="image/png"/>
  <Override PartName="/ppt/media/image7.png" ContentType="image/png"/>
  <Override PartName="/ppt/media/image19.png" ContentType="image/png"/>
  <Override PartName="/ppt/media/image12.pct" ContentType="image/x-pict"/>
  <Override PartName="/ppt/media/image18.jpeg" ContentType="image/jpeg"/>
  <Override PartName="/ppt/media/image51.jpeg" ContentType="image/jpeg"/>
  <Override PartName="/ppt/media/image28.jpeg" ContentType="image/jpeg"/>
  <Override PartName="/ppt/media/image57.png" ContentType="image/png"/>
  <Override PartName="/ppt/media/image20.png" ContentType="image/png"/>
  <Override PartName="/ppt/media/image21.png" ContentType="image/png"/>
  <Override PartName="/ppt/media/image10.png" ContentType="image/png"/>
  <Override PartName="/ppt/media/image8.pct" ContentType="image/x-pict"/>
  <Override PartName="/ppt/media/image25.jpeg" ContentType="image/jpeg"/>
  <Override PartName="/ppt/media/image2.png" ContentType="image/png"/>
  <Override PartName="/ppt/media/image23.png" ContentType="image/png"/>
  <Override PartName="/ppt/media/image11.pct" ContentType="image/x-pict"/>
  <Override PartName="/ppt/media/image1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9.pct" ContentType="image/x-pict"/>
  <Override PartName="/ppt/media/image38.jpeg" ContentType="image/jpeg"/>
  <Override PartName="/ppt/media/image5.png" ContentType="image/png"/>
  <Override PartName="/ppt/media/image39.jpeg" ContentType="image/jpeg"/>
  <Override PartName="/ppt/media/image40.jpeg" ContentType="image/jpeg"/>
  <Override PartName="/ppt/media/image41.jpeg" ContentType="image/jpeg"/>
  <Override PartName="/ppt/media/image54.png" ContentType="image/png"/>
  <Override PartName="/ppt/media/image6.png" ContentType="image/png"/>
  <Override PartName="/ppt/media/image42.jpeg" ContentType="image/jpeg"/>
  <Override PartName="/ppt/media/image59.pct" ContentType="image/x-pict"/>
  <Override PartName="/ppt/media/image44.jpeg" ContentType="image/jpeg"/>
  <Override PartName="/ppt/media/image45.jpeg" ContentType="image/jpeg"/>
  <Override PartName="/ppt/media/image52.pct" ContentType="image/x-pict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56.jpeg" ContentType="image/jpeg"/>
  <Override PartName="/ppt/media/image5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46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44.xml.rels" ContentType="application/vnd.openxmlformats-package.relationships+xml"/>
  <Override PartName="/ppt/slides/_rels/slide54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32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27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29.xml.rels" ContentType="application/vnd.openxmlformats-package.relationships+xml"/>
  <Override PartName="/ppt/slides/_rels/slide13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45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13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55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128.xml" ContentType="application/vnd.openxmlformats-officedocument.presentationml.slide+xml"/>
  <Override PartName="/ppt/slides/slide52.xml" ContentType="application/vnd.openxmlformats-officedocument.presentationml.slide+xml"/>
  <Override PartName="/ppt/slides/slide14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54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</p:sldIdLst>
  <p:sldSz cx="9144000" cy="6858000"/>
  <p:notesSz cx="6973888" cy="10112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73200" cy="1011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1120" cy="504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951360" y="0"/>
            <a:ext cx="3021120" cy="504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58320" y="758880"/>
            <a:ext cx="5054760" cy="379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605520"/>
            <a:ext cx="3021120" cy="505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951360" y="9605520"/>
            <a:ext cx="3021120" cy="505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E31FA85-9B79-455D-A150-66BA044948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ximitzar el marge funcional és equivalent a normalitzar-lo igualant-lo a 1(canonical hyperplanes) i minimitzar la norma del vector de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7" name="PlaceHolder 2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ximitzar el marge funcional és equivalent a normalitzar-lo igualant-lo a 1(canonical hyperplanes) i minimitzar la norma del vector de p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9" name="PlaceHolder 2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stomer care in technical domains: reclamacions, consultes tecniqu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 of call requested by a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928800" y="4801680"/>
            <a:ext cx="511488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ustomer care in technical domains: reclamacions, consultes tecniqu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ype of call requested by a 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efF-IG... Variant de la funció ReliefF de Kononenko que determina la utilitat dels diferents atributs considerant les interrelacions entre el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efF-IG... Variant de la funció ReliefF de Kononenko que determina la utilitat dels diferents atributs considerant les interrelacions entre el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efF-IG... Variant de la funció ReliefF de Kononenko que determina la utilitat dels diferents atributs considerant les interrelacions entre el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liefF-IG... Variant de la funció ReliefF de Kononenko que determina la utilitat dels diferents atributs considerant les interrelacions entre el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oolocations: patrons textuals que ocorren molt frequentment (sentit NO fort: no necessariament lexicalitza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3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bans d’incorporar-los a cap etiquetador, en fem una avaluació per si s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 enfocaments &gt; 3 etiquetad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m’entretinc en explicar el Relax &gt; en la seguent transpa. Aquí només el tít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omenem RELAX perque utilitza un algoritme de desambiguació basat en etiquetat per relaxació &gt; Padró 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o parlo de la base de 194 arbres!!! M’ho sal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4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icar MFT (Most-Frequent-Tag Tagger) i dir que a partir d’ara sortirà aquest acròn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plicar l’exemple “a mà” de la possible incoherència en la sequència final d’etiqu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Last point : many functions for attribute selection, stopping criteria, pruning method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ahoma"/>
              </a:rPr>
              <a:t>Last point : many functions for attribute selection, stopping criteria, pruning method, etc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5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7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1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958680" y="758880"/>
            <a:ext cx="5054760" cy="379080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929880" y="4801680"/>
            <a:ext cx="5111640" cy="455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7560" rIns="97560" tIns="48960" bIns="4896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tion: marc general i la motivació d’aquest tre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361200"/>
            <a:ext cx="9144000" cy="571680"/>
            <a:chOff x="0" y="6361200"/>
            <a:chExt cx="9144000" cy="571680"/>
          </a:xfrm>
        </p:grpSpPr>
        <p:sp>
          <p:nvSpPr>
            <p:cNvPr id="1" name=""/>
            <p:cNvSpPr/>
            <p:nvPr/>
          </p:nvSpPr>
          <p:spPr>
            <a:xfrm>
              <a:off x="0" y="6361200"/>
              <a:ext cx="9144000" cy="720"/>
            </a:xfrm>
            <a:prstGeom prst="line">
              <a:avLst/>
            </a:prstGeom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5000" y="6382080"/>
              <a:ext cx="8869320" cy="550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ccff"/>
                  </a:solidFill>
                  <a:latin typeface="Tahoma"/>
                </a:rPr>
                <a:t>                                        </a:t>
              </a:r>
              <a:r>
                <a:rPr b="0" lang="es-ES_tradnl" sz="1200" spc="-1" strike="noStrike">
                  <a:solidFill>
                    <a:srgbClr val="99ccff"/>
                  </a:solidFill>
                  <a:latin typeface="Tahoma"/>
                </a:rPr>
                <a:t>UPV/EHU Master: Analysis and Processing of Language: Machine Learning applied to NLP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474840" y="6404040"/>
            <a:ext cx="416880" cy="415800"/>
            <a:chOff x="474840" y="6404040"/>
            <a:chExt cx="416880" cy="415800"/>
          </a:xfrm>
        </p:grpSpPr>
        <p:sp>
          <p:nvSpPr>
            <p:cNvPr id="4" name=""/>
            <p:cNvSpPr/>
            <p:nvPr/>
          </p:nvSpPr>
          <p:spPr>
            <a:xfrm>
              <a:off x="474840" y="6409800"/>
              <a:ext cx="365040" cy="37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" name="" descr=""/>
            <p:cNvPicPr/>
            <p:nvPr/>
          </p:nvPicPr>
          <p:blipFill>
            <a:blip r:embed="rId2"/>
            <a:stretch/>
          </p:blipFill>
          <p:spPr>
            <a:xfrm>
              <a:off x="476280" y="6404040"/>
              <a:ext cx="415440" cy="41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38160" y="6415200"/>
            <a:ext cx="366480" cy="3664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2.pct"/><Relationship Id="rId3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3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8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9.pct"/><Relationship Id="rId3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3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3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9.pct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pct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pct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03440" y="339840"/>
            <a:ext cx="7796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UPV/EHU Master: Analysis and Processing of Langu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7640" y="5473800"/>
            <a:ext cx="6946920" cy="46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Donostia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January 30-31 and February 1, 200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4400" y="1846440"/>
            <a:ext cx="7718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9900"/>
                </a:solidFill>
                <a:latin typeface="Tahoma"/>
              </a:rPr>
              <a:t>Machine Learning for  Classific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98760" y="3578400"/>
            <a:ext cx="5686200" cy="155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Lluís Màrqu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ALP Research Cen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oftware Departmen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echnical University of Catalon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432080" y="4317840"/>
            <a:ext cx="723600" cy="723960"/>
          </a:xfrm>
          <a:prstGeom prst="rect">
            <a:avLst/>
          </a:prstGeom>
          <a:ln w="0">
            <a:noFill/>
          </a:ln>
        </p:spPr>
      </p:pic>
      <p:grpSp>
        <p:nvGrpSpPr>
          <p:cNvPr id="57" name=""/>
          <p:cNvGrpSpPr/>
          <p:nvPr/>
        </p:nvGrpSpPr>
        <p:grpSpPr>
          <a:xfrm>
            <a:off x="6686640" y="4281480"/>
            <a:ext cx="863280" cy="860040"/>
            <a:chOff x="6686640" y="4281480"/>
            <a:chExt cx="863280" cy="860040"/>
          </a:xfrm>
        </p:grpSpPr>
        <p:sp>
          <p:nvSpPr>
            <p:cNvPr id="58" name=""/>
            <p:cNvSpPr/>
            <p:nvPr/>
          </p:nvSpPr>
          <p:spPr>
            <a:xfrm>
              <a:off x="6686640" y="4293360"/>
              <a:ext cx="755640" cy="773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6690240" y="4281480"/>
              <a:ext cx="859680" cy="860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12800" y="2911320"/>
            <a:ext cx="7926480" cy="246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eneralization ability and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overfi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Batc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earning vs.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on-lin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ea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Symboli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statistic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Proposition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vs.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relation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04520" y="1563480"/>
            <a:ext cx="7877160" cy="1145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ductive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-2332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ining error and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generaliz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err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33280"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630360" y="401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ome important concep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631800" y="142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Linearly separable dat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3" name="" descr=""/>
          <p:cNvPicPr/>
          <p:nvPr/>
        </p:nvPicPr>
        <p:blipFill>
          <a:blip r:embed="rId1"/>
          <a:stretch/>
        </p:blipFill>
        <p:spPr>
          <a:xfrm>
            <a:off x="1809720" y="952560"/>
            <a:ext cx="5437080" cy="3389400"/>
          </a:xfrm>
          <a:prstGeom prst="rect">
            <a:avLst/>
          </a:prstGeom>
          <a:ln w="0">
            <a:noFill/>
          </a:ln>
        </p:spPr>
      </p:pic>
      <p:grpSp>
        <p:nvGrpSpPr>
          <p:cNvPr id="1394" name=""/>
          <p:cNvGrpSpPr/>
          <p:nvPr/>
        </p:nvGrpSpPr>
        <p:grpSpPr>
          <a:xfrm>
            <a:off x="846000" y="4478400"/>
            <a:ext cx="7583400" cy="1608120"/>
            <a:chOff x="846000" y="4478400"/>
            <a:chExt cx="7583400" cy="1608120"/>
          </a:xfrm>
        </p:grpSpPr>
        <p:sp>
          <p:nvSpPr>
            <p:cNvPr id="1395" name=""/>
            <p:cNvSpPr/>
            <p:nvPr/>
          </p:nvSpPr>
          <p:spPr>
            <a:xfrm>
              <a:off x="846000" y="4478400"/>
              <a:ext cx="7583400" cy="160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96" name=""/>
            <p:cNvGrpSpPr/>
            <p:nvPr/>
          </p:nvGrpSpPr>
          <p:grpSpPr>
            <a:xfrm>
              <a:off x="1041120" y="4608360"/>
              <a:ext cx="7066080" cy="1411560"/>
              <a:chOff x="1041120" y="4608360"/>
              <a:chExt cx="7066080" cy="1411560"/>
            </a:xfrm>
          </p:grpSpPr>
          <mc:AlternateContent>
            <mc:Choice xmlns:a14="http://schemas.microsoft.com/office/drawing/2010/main" Requires="a14">
              <p:sp>
                <p:nvSpPr>
                  <p:cNvPr id="1397" name=""/>
                  <p:cNvSpPr txBox="1"/>
                  <p:nvPr/>
                </p:nvSpPr>
                <p:spPr>
                  <a:xfrm>
                    <a:off x="2612880" y="5591160"/>
                    <a:ext cx="3679920" cy="428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for all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l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98" name=""/>
                  <p:cNvSpPr txBox="1"/>
                  <p:nvPr/>
                </p:nvSpPr>
                <p:spPr>
                  <a:xfrm>
                    <a:off x="1041120" y="4608360"/>
                    <a:ext cx="2622600" cy="403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geometric margin 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sSub>
                              <m:e>
                                <m:d>
                                  <m:dPr>
                                    <m:begChr m:val="‖"/>
                                    <m:endChr m:val="‖"/>
                                  </m:dPr>
                                  <m:e>
                                    <m:r>
                                      <m:t xml:space="preserve">w</m:t>
                                    </m:r>
                                  </m:e>
                                </m:d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399" name=""/>
                  <p:cNvSpPr txBox="1"/>
                  <p:nvPr/>
                </p:nvSpPr>
                <p:spPr>
                  <a:xfrm>
                    <a:off x="1042920" y="5048280"/>
                    <a:ext cx="7064280" cy="426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maximizing the margin is equivalent to minimize 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w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ubject to constraints: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1400" name=""/>
          <p:cNvSpPr/>
          <p:nvPr/>
        </p:nvSpPr>
        <p:spPr>
          <a:xfrm>
            <a:off x="5962680" y="3762360"/>
            <a:ext cx="2584440" cy="1646280"/>
          </a:xfrm>
          <a:prstGeom prst="wedgeEllipseCallout">
            <a:avLst>
              <a:gd name="adj1" fmla="val -36055"/>
              <a:gd name="adj2" fmla="val 6543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ahoma"/>
              </a:rPr>
              <a:t>Quadrati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Tahoma"/>
              </a:rPr>
              <a:t>Program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631800" y="372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Non-separable case (soft margin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03" name="" descr=""/>
          <p:cNvPicPr/>
          <p:nvPr/>
        </p:nvPicPr>
        <p:blipFill>
          <a:blip r:embed="rId1"/>
          <a:stretch/>
        </p:blipFill>
        <p:spPr>
          <a:xfrm>
            <a:off x="2154240" y="1093680"/>
            <a:ext cx="4549680" cy="2989440"/>
          </a:xfrm>
          <a:prstGeom prst="rect">
            <a:avLst/>
          </a:prstGeom>
          <a:ln w="0">
            <a:noFill/>
          </a:ln>
        </p:spPr>
      </p:pic>
      <p:grpSp>
        <p:nvGrpSpPr>
          <p:cNvPr id="1404" name=""/>
          <p:cNvGrpSpPr/>
          <p:nvPr/>
        </p:nvGrpSpPr>
        <p:grpSpPr>
          <a:xfrm>
            <a:off x="841320" y="4167360"/>
            <a:ext cx="7583400" cy="2055600"/>
            <a:chOff x="841320" y="4167360"/>
            <a:chExt cx="7583400" cy="2055600"/>
          </a:xfrm>
        </p:grpSpPr>
        <p:sp>
          <p:nvSpPr>
            <p:cNvPr id="1405" name=""/>
            <p:cNvSpPr/>
            <p:nvPr/>
          </p:nvSpPr>
          <p:spPr>
            <a:xfrm>
              <a:off x="841320" y="4167360"/>
              <a:ext cx="7583400" cy="205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06" name=""/>
                <p:cNvSpPr txBox="1"/>
                <p:nvPr/>
              </p:nvSpPr>
              <p:spPr>
                <a:xfrm>
                  <a:off x="2101680" y="5719680"/>
                  <a:ext cx="2475000" cy="38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≥</m:t>
                      </m:r>
                      <m:r>
                        <m:rPr>
                          <m:lit/>
                          <m:nor/>
                        </m:rPr>
                        <m:t xml:space="preserve">0   for all 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7" name=""/>
                <p:cNvSpPr txBox="1"/>
                <p:nvPr/>
              </p:nvSpPr>
              <p:spPr>
                <a:xfrm>
                  <a:off x="1628640" y="4630680"/>
                  <a:ext cx="4405320" cy="658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Minimize  </m:t>
                      </m:r>
                      <m:sSup>
                        <m:e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w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C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ξ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rPr>
                          <m:lit/>
                          <m:nor/>
                        </m:rPr>
                        <m:t xml:space="preserve">  subject to constraints: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8" name=""/>
                <p:cNvSpPr txBox="1"/>
                <p:nvPr/>
              </p:nvSpPr>
              <p:spPr>
                <a:xfrm>
                  <a:off x="2131920" y="5270400"/>
                  <a:ext cx="411012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d>
                        <m:dPr>
                          <m:begChr m:val="⟨"/>
                          <m:endChr m:val="⟩"/>
                        </m:dPr>
                        <m:e>
                          <m:r>
                            <m:t xml:space="preserve">w</m:t>
                          </m:r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d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)</m:t>
                      </m:r>
                      <m:r>
                        <m:t xml:space="preserve">≥</m:t>
                      </m:r>
                      <m:r>
                        <m:t xml:space="preserve">1</m:t>
                      </m:r>
                      <m:r>
                        <m:t xml:space="preserve">−</m:t>
                      </m:r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 for all 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09" name=""/>
                <p:cNvSpPr txBox="1"/>
                <p:nvPr/>
              </p:nvSpPr>
              <p:spPr>
                <a:xfrm>
                  <a:off x="1693800" y="4264200"/>
                  <a:ext cx="5614920" cy="387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,</m:t>
                      </m:r>
                      <m:r>
                        <m:t xml:space="preserve">…</m:t>
                      </m:r>
                      <m:r>
                        <m:t xml:space="preserve">,</m:t>
                      </m:r>
                      <m:sSub>
                        <m:e>
                          <m:r>
                            <m:t xml:space="preserve">ξ</m:t>
                          </m:r>
                        </m:e>
                        <m:sub>
                          <m:r>
                            <m:t xml:space="preserve">l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   positive slack variables for introducing costs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10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"/>
          <p:cNvGrpSpPr/>
          <p:nvPr/>
        </p:nvGrpSpPr>
        <p:grpSpPr>
          <a:xfrm>
            <a:off x="1163520" y="1827360"/>
            <a:ext cx="7039080" cy="4305240"/>
            <a:chOff x="1163520" y="1827360"/>
            <a:chExt cx="7039080" cy="4305240"/>
          </a:xfrm>
        </p:grpSpPr>
        <p:sp>
          <p:nvSpPr>
            <p:cNvPr id="1412" name=""/>
            <p:cNvSpPr/>
            <p:nvPr/>
          </p:nvSpPr>
          <p:spPr>
            <a:xfrm>
              <a:off x="1163520" y="1827360"/>
              <a:ext cx="7039080" cy="430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13" name=""/>
                <p:cNvSpPr txBox="1"/>
                <p:nvPr/>
              </p:nvSpPr>
              <p:spPr>
                <a:xfrm>
                  <a:off x="1630440" y="2573280"/>
                  <a:ext cx="2678040" cy="873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w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φ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14" name=""/>
                <p:cNvSpPr txBox="1"/>
                <p:nvPr/>
              </p:nvSpPr>
              <p:spPr>
                <a:xfrm>
                  <a:off x="1662120" y="2066760"/>
                  <a:ext cx="1362240" cy="40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φ</m:t>
                      </m:r>
                      <m:r>
                        <m:t xml:space="preserve">:</m:t>
                      </m:r>
                      <m:r>
                        <m:t xml:space="preserve">X</m:t>
                      </m:r>
                      <m:r>
                        <m:t xml:space="preserve">→</m:t>
                      </m:r>
                      <m:r>
                        <m:t xml:space="preserve">F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5" name=""/>
            <p:cNvSpPr/>
            <p:nvPr/>
          </p:nvSpPr>
          <p:spPr>
            <a:xfrm>
              <a:off x="3314880" y="2049480"/>
              <a:ext cx="273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Non-linear mapp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535640" y="2798640"/>
              <a:ext cx="2431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Set of hypothes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Non-linear SV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57360" y="1182600"/>
            <a:ext cx="8234280" cy="80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mplicit mapping into feature space via kernel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1636560" y="3506760"/>
            <a:ext cx="6309360" cy="874800"/>
            <a:chOff x="1636560" y="3506760"/>
            <a:chExt cx="6309360" cy="874800"/>
          </a:xfrm>
        </p:grpSpPr>
        <mc:AlternateContent>
          <mc:Choice xmlns:a14="http://schemas.microsoft.com/office/drawing/2010/main" Requires="a14">
            <p:sp>
              <p:nvSpPr>
                <p:cNvPr id="1420" name=""/>
                <p:cNvSpPr txBox="1"/>
                <p:nvPr/>
              </p:nvSpPr>
              <p:spPr>
                <a:xfrm>
                  <a:off x="1636560" y="3506760"/>
                  <a:ext cx="3838680" cy="87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l</m:t>
                          </m:r>
                        </m:sup>
                        <m:e>
                          <m:sSub>
                            <m:e>
                              <m:r>
                                <m:t xml:space="preserve">α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d>
                            <m:dPr>
                              <m:begChr m:val="⟨"/>
                              <m:endChr m:val="⟩"/>
                            </m:dPr>
                            <m:e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⋅</m:t>
                              </m:r>
                              <m:r>
                                <m:t xml:space="preserve">φ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d>
                        </m:e>
                      </m:nary>
                      <m:r>
                        <m:t xml:space="preserve">+</m:t>
                      </m:r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1" name=""/>
            <p:cNvSpPr/>
            <p:nvPr/>
          </p:nvSpPr>
          <p:spPr>
            <a:xfrm>
              <a:off x="5578200" y="3738600"/>
              <a:ext cx="236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Dual formul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22" name=""/>
          <p:cNvGrpSpPr/>
          <p:nvPr/>
        </p:nvGrpSpPr>
        <p:grpSpPr>
          <a:xfrm>
            <a:off x="1654200" y="4530600"/>
            <a:ext cx="5157000" cy="1449360"/>
            <a:chOff x="1654200" y="4530600"/>
            <a:chExt cx="5157000" cy="1449360"/>
          </a:xfrm>
        </p:grpSpPr>
        <p:grpSp>
          <p:nvGrpSpPr>
            <p:cNvPr id="1423" name=""/>
            <p:cNvGrpSpPr/>
            <p:nvPr/>
          </p:nvGrpSpPr>
          <p:grpSpPr>
            <a:xfrm>
              <a:off x="1692360" y="4530600"/>
              <a:ext cx="5118840" cy="513000"/>
              <a:chOff x="1692360" y="4530600"/>
              <a:chExt cx="5118840" cy="513000"/>
            </a:xfrm>
          </p:grpSpPr>
          <mc:AlternateContent>
            <mc:Choice xmlns:a14="http://schemas.microsoft.com/office/drawing/2010/main" Requires="a14">
              <p:sp>
                <p:nvSpPr>
                  <p:cNvPr id="1424" name=""/>
                  <p:cNvSpPr txBox="1"/>
                  <p:nvPr/>
                </p:nvSpPr>
                <p:spPr>
                  <a:xfrm>
                    <a:off x="1692360" y="4530600"/>
                    <a:ext cx="2705040" cy="51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5" name=""/>
              <p:cNvSpPr/>
              <p:nvPr/>
            </p:nvSpPr>
            <p:spPr>
              <a:xfrm>
                <a:off x="4655520" y="4567320"/>
                <a:ext cx="2155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66"/>
                    </a:solidFill>
                    <a:latin typeface="Tahoma"/>
                  </a:rPr>
                  <a:t>Kernel funct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1654200" y="5106960"/>
              <a:ext cx="5046120" cy="873000"/>
              <a:chOff x="1654200" y="5106960"/>
              <a:chExt cx="5046120" cy="873000"/>
            </a:xfrm>
          </p:grpSpPr>
          <mc:AlternateContent>
            <mc:Choice xmlns:a14="http://schemas.microsoft.com/office/drawing/2010/main" Requires="a14">
              <p:sp>
                <p:nvSpPr>
                  <p:cNvPr id="1427" name=""/>
                  <p:cNvSpPr txBox="1"/>
                  <p:nvPr/>
                </p:nvSpPr>
                <p:spPr>
                  <a:xfrm>
                    <a:off x="1654200" y="5106960"/>
                    <a:ext cx="3271680" cy="873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b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428" name=""/>
              <p:cNvSpPr/>
              <p:nvPr/>
            </p:nvSpPr>
            <p:spPr>
              <a:xfrm>
                <a:off x="5166360" y="5300640"/>
                <a:ext cx="1533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66"/>
                    </a:solidFill>
                    <a:latin typeface="Tahoma"/>
                  </a:rPr>
                  <a:t>Evaluation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9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Non-linear SV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657360" y="1182600"/>
            <a:ext cx="7443720" cy="499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4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Kernel fun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ust be efficiently comput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aracterization via Mercer’s theore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One of the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curious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 facts about using a kernel is that we do not need to know the underlying feature map in order to be able to learn in the feature space!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ristianini &amp; Shawe-Taylor, 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s: polynomials, Gaussian radial basis functions, two-layer sigmoidal neural networks,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45960" y="356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Non linear SV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1434" name=""/>
          <p:cNvGrpSpPr/>
          <p:nvPr/>
        </p:nvGrpSpPr>
        <p:grpSpPr>
          <a:xfrm>
            <a:off x="655560" y="1992240"/>
            <a:ext cx="7745400" cy="3600360"/>
            <a:chOff x="655560" y="1992240"/>
            <a:chExt cx="7745400" cy="3600360"/>
          </a:xfrm>
        </p:grpSpPr>
        <p:sp>
          <p:nvSpPr>
            <p:cNvPr id="1435" name=""/>
            <p:cNvSpPr/>
            <p:nvPr/>
          </p:nvSpPr>
          <p:spPr>
            <a:xfrm>
              <a:off x="655560" y="1992240"/>
              <a:ext cx="7745400" cy="360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36" name="" descr=""/>
            <p:cNvPicPr/>
            <p:nvPr/>
          </p:nvPicPr>
          <p:blipFill>
            <a:blip r:embed="rId1"/>
            <a:stretch/>
          </p:blipFill>
          <p:spPr>
            <a:xfrm>
              <a:off x="882720" y="2189160"/>
              <a:ext cx="3535200" cy="3232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7" name="" descr=""/>
            <p:cNvPicPr/>
            <p:nvPr/>
          </p:nvPicPr>
          <p:blipFill>
            <a:blip r:embed="rId2"/>
            <a:stretch/>
          </p:blipFill>
          <p:spPr>
            <a:xfrm>
              <a:off x="4668840" y="2208240"/>
              <a:ext cx="3492360" cy="321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8" name=""/>
          <p:cNvSpPr/>
          <p:nvPr/>
        </p:nvSpPr>
        <p:spPr>
          <a:xfrm>
            <a:off x="2179080" y="136044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gree 3 polynomial kern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498320" y="558324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in. sepa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097600" y="557208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in. non-sepa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372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41400" y="1322280"/>
            <a:ext cx="7367400" cy="452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 examples have been run with the 2D graphic interface of SVMLIB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hang and Lin, National University of Taiwa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lang="es-ES_tradnl" sz="1600" spc="-1" strike="noStrike">
                <a:solidFill>
                  <a:srgbClr val="ff9900"/>
                </a:solidFill>
                <a:latin typeface="Comic Sans MS"/>
              </a:rPr>
              <a:t>LIBSVM</a:t>
            </a: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is an integrated software for support vector classification, (C-SVC, nu-SVC), regression (epsilon-SVR, un-SVR) and distribution estimation (one-class SVM). It supports multi-class classification. The basic algorithm is a simplification of both SMO by Platt and SVMLight by Joachims. It is also a simplification of the modification 2 of SMO by Keerthy et al. Our goal is to help users from other fields to easily use SVM as a tool. </a:t>
            </a: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LIBSVM </a:t>
            </a:r>
            <a:r>
              <a:rPr b="0" lang="es-ES_tradnl" sz="1600" spc="-1" strike="noStrike">
                <a:solidFill>
                  <a:srgbClr val="ffffff"/>
                </a:solidFill>
                <a:latin typeface="Comic Sans MS"/>
              </a:rPr>
              <a:t>provides a simple interface where users can easily link it with their own programs…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vailable from: </a:t>
            </a:r>
            <a:r>
              <a:rPr b="1" lang="es-ES_tradnl" sz="1800" spc="-1" strike="noStrike">
                <a:solidFill>
                  <a:srgbClr val="ff9900"/>
                </a:solidFill>
                <a:latin typeface="Courier New"/>
              </a:rPr>
              <a:t>www.csie.ntu.edu.tw/~cjlin/libsvm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it icludes a Web integrated demo too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7" name="" descr=""/>
          <p:cNvPicPr/>
          <p:nvPr/>
        </p:nvPicPr>
        <p:blipFill>
          <a:blip r:embed="rId1"/>
          <a:stretch/>
        </p:blipFill>
        <p:spPr>
          <a:xfrm>
            <a:off x="690480" y="1598760"/>
            <a:ext cx="4437000" cy="4498920"/>
          </a:xfrm>
          <a:prstGeom prst="rect">
            <a:avLst/>
          </a:prstGeom>
          <a:ln w="0">
            <a:noFill/>
          </a:ln>
        </p:spPr>
      </p:pic>
      <p:grpSp>
        <p:nvGrpSpPr>
          <p:cNvPr id="1448" name=""/>
          <p:cNvGrpSpPr/>
          <p:nvPr/>
        </p:nvGrpSpPr>
        <p:grpSpPr>
          <a:xfrm>
            <a:off x="1154160" y="4305240"/>
            <a:ext cx="6286320" cy="1774800"/>
            <a:chOff x="1154160" y="4305240"/>
            <a:chExt cx="6286320" cy="1774800"/>
          </a:xfrm>
        </p:grpSpPr>
        <p:sp>
          <p:nvSpPr>
            <p:cNvPr id="1449" name=""/>
            <p:cNvSpPr/>
            <p:nvPr/>
          </p:nvSpPr>
          <p:spPr>
            <a:xfrm>
              <a:off x="1154160" y="4305240"/>
              <a:ext cx="30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600" spc="-1" strike="noStrike">
                  <a:solidFill>
                    <a:srgbClr val="009999"/>
                  </a:solidFill>
                  <a:latin typeface="Tahoma"/>
                </a:rPr>
                <a:t>.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201680" y="4672080"/>
              <a:ext cx="211320" cy="1969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95680" y="4381560"/>
              <a:ext cx="3844800" cy="1698480"/>
            </a:xfrm>
            <a:prstGeom prst="wedgeEllipseCallout">
              <a:avLst>
                <a:gd name="adj1" fmla="val -106277"/>
                <a:gd name="adj2" fmla="val -26074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What happens if we ad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a blue training examp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3366"/>
                  </a:solidFill>
                  <a:latin typeface="Tahoma"/>
                </a:rPr>
                <a:t>here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52" name=""/>
          <p:cNvSpPr/>
          <p:nvPr/>
        </p:nvSpPr>
        <p:spPr>
          <a:xfrm>
            <a:off x="5070240" y="2301840"/>
            <a:ext cx="358704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nearly separable data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near 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ximal margin Hyper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6" name="" descr=""/>
          <p:cNvPicPr/>
          <p:nvPr/>
        </p:nvPicPr>
        <p:blipFill>
          <a:blip r:embed="rId1"/>
          <a:stretch/>
        </p:blipFill>
        <p:spPr>
          <a:xfrm>
            <a:off x="701640" y="1601640"/>
            <a:ext cx="4437000" cy="449604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>
            <a:off x="1195560" y="4675320"/>
            <a:ext cx="210960" cy="1965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5208480" y="2301840"/>
            <a:ext cx="3394080" cy="21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(still) Linearly separable data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near 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High value of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Maximal margin Hyper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90920" y="4762440"/>
            <a:ext cx="2990880" cy="1382760"/>
          </a:xfrm>
          <a:prstGeom prst="wedgeEllipseCallout">
            <a:avLst>
              <a:gd name="adj1" fmla="val -119745"/>
              <a:gd name="adj2" fmla="val -46212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The example 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correctly classifi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208480" y="2301840"/>
            <a:ext cx="339408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(still) Linearly separable data s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inear 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Low value of </a:t>
            </a: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C</a:t>
            </a: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 parame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66"/>
                </a:solidFill>
                <a:latin typeface="Tahoma"/>
              </a:rPr>
              <a:t>Trade-off between: margin and training err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64" name="" descr=""/>
          <p:cNvPicPr/>
          <p:nvPr/>
        </p:nvPicPr>
        <p:blipFill>
          <a:blip r:embed="rId1"/>
          <a:stretch/>
        </p:blipFill>
        <p:spPr>
          <a:xfrm>
            <a:off x="692280" y="1584360"/>
            <a:ext cx="4433760" cy="4513320"/>
          </a:xfrm>
          <a:prstGeom prst="rect">
            <a:avLst/>
          </a:prstGeom>
          <a:ln w="0">
            <a:noFill/>
          </a:ln>
        </p:spPr>
      </p:pic>
      <p:sp>
        <p:nvSpPr>
          <p:cNvPr id="1465" name=""/>
          <p:cNvSpPr/>
          <p:nvPr/>
        </p:nvSpPr>
        <p:spPr>
          <a:xfrm>
            <a:off x="1182600" y="4662360"/>
            <a:ext cx="211320" cy="196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490920" y="4762440"/>
            <a:ext cx="2990880" cy="1382760"/>
          </a:xfrm>
          <a:prstGeom prst="wedgeEllipseCallout">
            <a:avLst>
              <a:gd name="adj1" fmla="val -119745"/>
              <a:gd name="adj2" fmla="val -46212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The example i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now a bounded S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182600" y="4738680"/>
            <a:ext cx="211320" cy="196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1" name="" descr=""/>
          <p:cNvPicPr/>
          <p:nvPr/>
        </p:nvPicPr>
        <p:blipFill>
          <a:blip r:embed="rId1"/>
          <a:stretch/>
        </p:blipFill>
        <p:spPr>
          <a:xfrm>
            <a:off x="662040" y="1636560"/>
            <a:ext cx="3895560" cy="4400640"/>
          </a:xfrm>
          <a:prstGeom prst="rect">
            <a:avLst/>
          </a:prstGeom>
          <a:ln w="0">
            <a:noFill/>
          </a:ln>
        </p:spPr>
      </p:pic>
      <p:grpSp>
        <p:nvGrpSpPr>
          <p:cNvPr id="1472" name=""/>
          <p:cNvGrpSpPr/>
          <p:nvPr/>
        </p:nvGrpSpPr>
        <p:grpSpPr>
          <a:xfrm>
            <a:off x="1306440" y="2368440"/>
            <a:ext cx="2777760" cy="1409760"/>
            <a:chOff x="1306440" y="2368440"/>
            <a:chExt cx="2777760" cy="1409760"/>
          </a:xfrm>
        </p:grpSpPr>
        <p:sp>
          <p:nvSpPr>
            <p:cNvPr id="1473" name=""/>
            <p:cNvSpPr/>
            <p:nvPr/>
          </p:nvSpPr>
          <p:spPr>
            <a:xfrm rot="661200">
              <a:off x="1353600" y="3228840"/>
              <a:ext cx="301680" cy="52524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rot="3196200">
              <a:off x="3632400" y="2383560"/>
              <a:ext cx="301680" cy="52524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rot="19708200">
              <a:off x="2207880" y="3168360"/>
              <a:ext cx="1143000" cy="2383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6" name=""/>
          <p:cNvSpPr/>
          <p:nvPr/>
        </p:nvSpPr>
        <p:spPr>
          <a:xfrm>
            <a:off x="2581200" y="5686560"/>
            <a:ext cx="720720" cy="4204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7" name=""/>
          <p:cNvGrpSpPr/>
          <p:nvPr/>
        </p:nvGrpSpPr>
        <p:grpSpPr>
          <a:xfrm>
            <a:off x="4624560" y="1623960"/>
            <a:ext cx="3855960" cy="4465800"/>
            <a:chOff x="4624560" y="1623960"/>
            <a:chExt cx="3855960" cy="4465800"/>
          </a:xfrm>
        </p:grpSpPr>
        <p:pic>
          <p:nvPicPr>
            <p:cNvPr id="1478" name="" descr=""/>
            <p:cNvPicPr/>
            <p:nvPr/>
          </p:nvPicPr>
          <p:blipFill>
            <a:blip r:embed="rId2"/>
            <a:stretch/>
          </p:blipFill>
          <p:spPr>
            <a:xfrm>
              <a:off x="4624560" y="1623960"/>
              <a:ext cx="3855960" cy="439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 rot="661200">
              <a:off x="5264280" y="3217680"/>
              <a:ext cx="733320" cy="617400"/>
            </a:xfrm>
            <a:prstGeom prst="ellipse">
              <a:avLst/>
            </a:prstGeom>
            <a:noFill/>
            <a:ln w="255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rot="19708200">
              <a:off x="6105240" y="3188880"/>
              <a:ext cx="1143000" cy="238320"/>
            </a:xfrm>
            <a:prstGeom prst="ellipse">
              <a:avLst/>
            </a:prstGeom>
            <a:noFill/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29320" y="5668920"/>
              <a:ext cx="879480" cy="4208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8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85720" y="401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ropositional vs.           Relational Learn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87400" y="1536840"/>
            <a:ext cx="7505640" cy="32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5640" y="2489040"/>
            <a:ext cx="8212320" cy="833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83160" y="2573280"/>
            <a:ext cx="532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color(red) </a:t>
            </a:r>
            <a:r>
              <a:rPr b="1" lang="es-ES" sz="2800" spc="-1" strike="noStrike">
                <a:solidFill>
                  <a:srgbClr val="000099"/>
                </a:solidFill>
                <a:latin typeface="Symbol"/>
                <a:ea typeface="Symbol"/>
              </a:rPr>
              <a:t>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shape(circle)  </a:t>
            </a:r>
            <a:r>
              <a:rPr b="1" lang="es-ES" sz="2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s-ES" sz="32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s-ES" sz="2400" spc="-1" strike="noStrike">
                <a:solidFill>
                  <a:srgbClr val="000099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cla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469800" y="3538440"/>
            <a:ext cx="8372520" cy="2373480"/>
            <a:chOff x="469800" y="3538440"/>
            <a:chExt cx="8372520" cy="2373480"/>
          </a:xfrm>
        </p:grpSpPr>
        <p:grpSp>
          <p:nvGrpSpPr>
            <p:cNvPr id="178" name=""/>
            <p:cNvGrpSpPr/>
            <p:nvPr/>
          </p:nvGrpSpPr>
          <p:grpSpPr>
            <a:xfrm>
              <a:off x="469800" y="4076640"/>
              <a:ext cx="8372520" cy="1835280"/>
              <a:chOff x="469800" y="4076640"/>
              <a:chExt cx="8372520" cy="1835280"/>
            </a:xfrm>
          </p:grpSpPr>
          <p:sp>
            <p:nvSpPr>
              <p:cNvPr id="179" name=""/>
              <p:cNvSpPr/>
              <p:nvPr/>
            </p:nvSpPr>
            <p:spPr>
              <a:xfrm>
                <a:off x="469800" y="4076640"/>
                <a:ext cx="8212320" cy="183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056600" y="4184640"/>
                <a:ext cx="6904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course(X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person(Y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link_to(Y,X) 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</a:t>
                </a:r>
                <a:r>
                  <a:rPr b="1" lang="es-ES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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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instructor_of(X,Y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9800" y="4894560"/>
                <a:ext cx="8213760" cy="0"/>
              </a:xfrm>
              <a:prstGeom prst="line">
                <a:avLst/>
              </a:prstGeom>
              <a:ln w="507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6360" y="4970520"/>
                <a:ext cx="8265960" cy="80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research_project(X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person(Z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link_to(L</a:t>
                </a:r>
                <a:r>
                  <a:rPr b="0" lang="en-GB" sz="1400" spc="-1" strike="noStrike">
                    <a:solidFill>
                      <a:srgbClr val="000099"/>
                    </a:solidFill>
                    <a:latin typeface="Tahoma"/>
                  </a:rPr>
                  <a:t>1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,X,Y)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link_to(L</a:t>
                </a:r>
                <a:r>
                  <a:rPr b="0" lang="es-ES" sz="1400" spc="-1" strike="noStrike">
                    <a:solidFill>
                      <a:srgbClr val="000099"/>
                    </a:solidFill>
                    <a:latin typeface="Tahoma"/>
                  </a:rPr>
                  <a:t>2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,Y,Z)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Arial"/>
                  </a:rPr>
                  <a:t>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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neighbour_word_</a:t>
                </a:r>
                <a:r>
                  <a:rPr b="0" i="1" lang="es-ES" sz="2400" spc="-1" strike="noStrike">
                    <a:solidFill>
                      <a:srgbClr val="000099"/>
                    </a:solidFill>
                    <a:latin typeface="Times New Roman"/>
                  </a:rPr>
                  <a:t>people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(L</a:t>
                </a:r>
                <a:r>
                  <a:rPr b="0" lang="es-ES" sz="1400" spc="-1" strike="noStrike">
                    <a:solidFill>
                      <a:srgbClr val="000099"/>
                    </a:solidFill>
                    <a:latin typeface="Tahoma"/>
                  </a:rPr>
                  <a:t>1</a:t>
                </a:r>
                <a:r>
                  <a:rPr b="0" lang="es-ES" sz="2000" spc="-1" strike="noStrike">
                    <a:solidFill>
                      <a:srgbClr val="000099"/>
                    </a:solidFill>
                    <a:latin typeface="Tahoma"/>
                  </a:rPr>
                  <a:t>)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 </a:t>
                </a:r>
                <a:r>
                  <a:rPr b="1" lang="es-ES" sz="24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</a:t>
                </a:r>
                <a:r>
                  <a:rPr b="1" lang="es-ES" sz="2800" spc="-1" strike="noStrike">
                    <a:solidFill>
                      <a:srgbClr val="000099"/>
                    </a:solidFill>
                    <a:latin typeface="Symbol"/>
                    <a:ea typeface="Symbol"/>
                  </a:rPr>
                  <a:t></a:t>
                </a:r>
                <a:r>
                  <a:rPr b="0" lang="en-GB" sz="2000" spc="-1" strike="noStrike">
                    <a:solidFill>
                      <a:srgbClr val="000099"/>
                    </a:solidFill>
                    <a:latin typeface="Tahoma"/>
                  </a:rPr>
                  <a:t>member_proj(X,Z)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547560" y="3538440"/>
              <a:ext cx="7926480" cy="6843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Aft>
                  <a:spcPts val="2401"/>
                </a:spcAft>
                <a:buClr>
                  <a:srgbClr val="99cc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Relational learning = ILP (induction of logic programs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549360" y="1936800"/>
            <a:ext cx="7926480" cy="684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positional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182600" y="4662360"/>
            <a:ext cx="211320" cy="196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6" name="" descr=""/>
          <p:cNvPicPr/>
          <p:nvPr/>
        </p:nvPicPr>
        <p:blipFill>
          <a:blip r:embed="rId1"/>
          <a:stretch/>
        </p:blipFill>
        <p:spPr>
          <a:xfrm>
            <a:off x="655560" y="1663560"/>
            <a:ext cx="3903840" cy="4375440"/>
          </a:xfrm>
          <a:prstGeom prst="rect">
            <a:avLst/>
          </a:prstGeom>
          <a:ln w="0">
            <a:noFill/>
          </a:ln>
        </p:spPr>
      </p:pic>
      <p:sp>
        <p:nvSpPr>
          <p:cNvPr id="1487" name=""/>
          <p:cNvSpPr/>
          <p:nvPr/>
        </p:nvSpPr>
        <p:spPr>
          <a:xfrm rot="661200">
            <a:off x="1388880" y="3165120"/>
            <a:ext cx="301320" cy="358920"/>
          </a:xfrm>
          <a:prstGeom prst="ellipse">
            <a:avLst/>
          </a:prstGeom>
          <a:noFill/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2583000" y="5689440"/>
            <a:ext cx="1089000" cy="4208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9" name=""/>
          <p:cNvGrpSpPr/>
          <p:nvPr/>
        </p:nvGrpSpPr>
        <p:grpSpPr>
          <a:xfrm>
            <a:off x="4618080" y="1668600"/>
            <a:ext cx="3870360" cy="4422600"/>
            <a:chOff x="4618080" y="1668600"/>
            <a:chExt cx="3870360" cy="4422600"/>
          </a:xfrm>
        </p:grpSpPr>
        <p:pic>
          <p:nvPicPr>
            <p:cNvPr id="1490" name="" descr=""/>
            <p:cNvPicPr/>
            <p:nvPr/>
          </p:nvPicPr>
          <p:blipFill>
            <a:blip r:embed="rId2"/>
            <a:stretch/>
          </p:blipFill>
          <p:spPr>
            <a:xfrm>
              <a:off x="4618080" y="1668600"/>
              <a:ext cx="3870360" cy="437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6559560" y="5684760"/>
              <a:ext cx="1089000" cy="4064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9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"/>
          <p:cNvSpPr/>
          <p:nvPr/>
        </p:nvSpPr>
        <p:spPr>
          <a:xfrm>
            <a:off x="2152800" y="1494000"/>
            <a:ext cx="46195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95" name="" descr=""/>
          <p:cNvPicPr/>
          <p:nvPr/>
        </p:nvPicPr>
        <p:blipFill>
          <a:blip r:embed="rId1"/>
          <a:stretch/>
        </p:blipFill>
        <p:spPr>
          <a:xfrm>
            <a:off x="2333520" y="1585800"/>
            <a:ext cx="4260960" cy="4529160"/>
          </a:xfrm>
          <a:prstGeom prst="rect">
            <a:avLst/>
          </a:prstGeom>
          <a:ln w="0">
            <a:noFill/>
          </a:ln>
        </p:spPr>
      </p:pic>
      <p:sp>
        <p:nvSpPr>
          <p:cNvPr id="1496" name=""/>
          <p:cNvSpPr/>
          <p:nvPr/>
        </p:nvSpPr>
        <p:spPr>
          <a:xfrm>
            <a:off x="4448160" y="5769000"/>
            <a:ext cx="1312920" cy="4208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603360" y="1494000"/>
            <a:ext cx="7942320" cy="4678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Toy Examples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(III)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82600" y="4662360"/>
            <a:ext cx="211320" cy="19692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1" name="" descr=""/>
          <p:cNvPicPr/>
          <p:nvPr/>
        </p:nvPicPr>
        <p:blipFill>
          <a:blip r:embed="rId1"/>
          <a:stretch/>
        </p:blipFill>
        <p:spPr>
          <a:xfrm>
            <a:off x="655560" y="1673280"/>
            <a:ext cx="3905280" cy="4390920"/>
          </a:xfrm>
          <a:prstGeom prst="rect">
            <a:avLst/>
          </a:prstGeom>
          <a:ln w="0">
            <a:noFill/>
          </a:ln>
        </p:spPr>
      </p:pic>
      <p:pic>
        <p:nvPicPr>
          <p:cNvPr id="1502" name="" descr=""/>
          <p:cNvPicPr/>
          <p:nvPr/>
        </p:nvPicPr>
        <p:blipFill>
          <a:blip r:embed="rId2"/>
          <a:stretch/>
        </p:blipFill>
        <p:spPr>
          <a:xfrm>
            <a:off x="4600440" y="1638360"/>
            <a:ext cx="3892680" cy="4414680"/>
          </a:xfrm>
          <a:prstGeom prst="rect">
            <a:avLst/>
          </a:prstGeom>
          <a:ln w="0">
            <a:noFill/>
          </a:ln>
        </p:spPr>
      </p:pic>
      <p:sp>
        <p:nvSpPr>
          <p:cNvPr id="1503" name=""/>
          <p:cNvSpPr/>
          <p:nvPr/>
        </p:nvSpPr>
        <p:spPr>
          <a:xfrm>
            <a:off x="2620800" y="5730840"/>
            <a:ext cx="1076400" cy="38088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6545160" y="5711760"/>
            <a:ext cx="1258920" cy="393840"/>
          </a:xfrm>
          <a:prstGeom prst="ellipse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88880" y="309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VM: Summa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804960" y="1411200"/>
            <a:ext cx="7813440" cy="420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VMs introduced in COLT’92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(Boser, Guyon, &amp; Vapnik, 1992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 Great developement since 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Kernel-induced feature spaces: SVMs work efficiently in very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 dimension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eature spaces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 bias: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aximal margi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ptimisation. Reduces the danger of overfitting. Generalization bounds for SVMs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ct representation of the induced hypothesis. The solution is sparse in terms of SVs 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88880" y="309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VM: Summar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804960" y="1268280"/>
            <a:ext cx="7813440" cy="488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ue to Mercer’s conditions on the kernels the optimi-sation problems are convex. No local minima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misation theory guides the implementation. Efficient learning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inly for classification but also for regression, density estimation, cluster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ccess in many real-world applications: OCR, vision, bioinformatics, speech recognition, NLP: TextCat, POS tagging, chunking, parsing, etc.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+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ameter tuning (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  <a:ea typeface="Tahoma"/>
              </a:rPr>
              <a:t>–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. Implications in convergence times, sparsity of the solution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ext Categorization:                The proble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947880" y="1776240"/>
            <a:ext cx="6875280" cy="1629000"/>
            <a:chOff x="947880" y="1776240"/>
            <a:chExt cx="6875280" cy="1629000"/>
          </a:xfrm>
        </p:grpSpPr>
        <p:sp>
          <p:nvSpPr>
            <p:cNvPr id="1515" name=""/>
            <p:cNvSpPr/>
            <p:nvPr/>
          </p:nvSpPr>
          <p:spPr>
            <a:xfrm>
              <a:off x="1130400" y="1776240"/>
              <a:ext cx="6692760" cy="14288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947880" y="1789200"/>
              <a:ext cx="6646680" cy="16160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11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Text Categorization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(</a:t>
              </a: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TC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) is the problem of classifying free text documents into a set of predefined categories or class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7" name=""/>
          <p:cNvSpPr/>
          <p:nvPr/>
        </p:nvSpPr>
        <p:spPr>
          <a:xfrm>
            <a:off x="866880" y="3575160"/>
            <a:ext cx="7505640" cy="248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C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proper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Multiclas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&amp;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multi-labe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lassification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y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igh dimensiona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pars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cepts and featu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-181080" y="3516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520560" y="185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876240" y="1160640"/>
            <a:ext cx="7515360" cy="497016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JAPAN BUYS MODEST AMOUNT OF DOLL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24-MAR-1987, 20:06:00.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Bank of Japan bought a modest amount of dollars thi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morning, possibly around 200 to 300 mln, dealers said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One dealer said the central bank bought about 200 mln dlr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rough brokers and the rest through banks. The buying be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when the dollar was at about 149.60 yen, and helped driv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U.S. Currency up to around 150, he said.  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Another said the central bank seemed to be trying to push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e dollar up above 150 yen. But heavy selling at aroun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that level quickly pushed the dollar back down towards 149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yen, dealers said. REU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ES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money-fx dol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20560" y="340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extCat Approach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89000" y="1209600"/>
            <a:ext cx="7194600" cy="16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the 80’s:                                       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Manually defin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et of classification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rul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ONSTRU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Hayes et al., 9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5" name="" descr=""/>
          <p:cNvPicPr/>
          <p:nvPr/>
        </p:nvPicPr>
        <p:blipFill>
          <a:blip r:embed="rId1"/>
          <a:stretch/>
        </p:blipFill>
        <p:spPr>
          <a:xfrm>
            <a:off x="504720" y="2685960"/>
            <a:ext cx="8096400" cy="625680"/>
          </a:xfrm>
          <a:prstGeom prst="rect">
            <a:avLst/>
          </a:prstGeom>
          <a:ln w="0">
            <a:noFill/>
          </a:ln>
        </p:spPr>
      </p:pic>
      <p:grpSp>
        <p:nvGrpSpPr>
          <p:cNvPr id="1526" name=""/>
          <p:cNvGrpSpPr/>
          <p:nvPr/>
        </p:nvGrpSpPr>
        <p:grpSpPr>
          <a:xfrm>
            <a:off x="1960560" y="3344760"/>
            <a:ext cx="5124600" cy="2992680"/>
            <a:chOff x="1960560" y="3344760"/>
            <a:chExt cx="5124600" cy="2992680"/>
          </a:xfrm>
        </p:grpSpPr>
        <p:pic>
          <p:nvPicPr>
            <p:cNvPr id="1527" name="" descr=""/>
            <p:cNvPicPr/>
            <p:nvPr/>
          </p:nvPicPr>
          <p:blipFill>
            <a:blip r:embed="rId2"/>
            <a:stretch/>
          </p:blipFill>
          <p:spPr>
            <a:xfrm>
              <a:off x="2322360" y="3344760"/>
              <a:ext cx="4326120" cy="168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8" name="" descr=""/>
            <p:cNvPicPr/>
            <p:nvPr/>
          </p:nvPicPr>
          <p:blipFill>
            <a:blip r:embed="rId3"/>
            <a:stretch/>
          </p:blipFill>
          <p:spPr>
            <a:xfrm>
              <a:off x="1960560" y="5076720"/>
              <a:ext cx="5124600" cy="1260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20560" y="340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extCat Approach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68320" y="1870200"/>
            <a:ext cx="7470720" cy="374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29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om 90’s to the present:                                      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Statistical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nd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Machine Learning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pproaches (Sebastiani, 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29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thers:                                           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Knowledge-bas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“unsupervised”) systems, e.g., based on WordNet 1.6 domai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520560" y="223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Document represent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4" name=""/>
          <p:cNvGrpSpPr/>
          <p:nvPr/>
        </p:nvGrpSpPr>
        <p:grpSpPr>
          <a:xfrm>
            <a:off x="914400" y="1150920"/>
            <a:ext cx="6834240" cy="1254240"/>
            <a:chOff x="914400" y="1150920"/>
            <a:chExt cx="6834240" cy="1254240"/>
          </a:xfrm>
        </p:grpSpPr>
        <p:sp>
          <p:nvSpPr>
            <p:cNvPr id="1535" name=""/>
            <p:cNvSpPr/>
            <p:nvPr/>
          </p:nvSpPr>
          <p:spPr>
            <a:xfrm>
              <a:off x="1046160" y="1150920"/>
              <a:ext cx="6702480" cy="115092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914400" y="1231920"/>
              <a:ext cx="6786720" cy="117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marL="322200" indent="-322200">
                <a:lnSpc>
                  <a:spcPct val="110000"/>
                </a:lnSpc>
                <a:spcBef>
                  <a:spcPts val="601"/>
                </a:spcBef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Training documents are represented as a set of </a:t>
              </a: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features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plus a set of associated </a:t>
              </a:r>
              <a:r>
                <a:rPr b="1" lang="en-GB" sz="2400" spc="-1" strike="noStrike">
                  <a:solidFill>
                    <a:srgbClr val="ffffff"/>
                  </a:solidFill>
                  <a:latin typeface="Tahoma"/>
                </a:rPr>
                <a:t>labe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7" name=""/>
          <p:cNvSpPr/>
          <p:nvPr/>
        </p:nvSpPr>
        <p:spPr>
          <a:xfrm>
            <a:off x="933480" y="2495520"/>
            <a:ext cx="7194600" cy="374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ich featur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ag of words: each word occurring in a document. Stemming and Stop-word list can be 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inguistic phrases (usually extracted using IE method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irst-order rel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eature values can b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inary: appears or n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function of the number of occurr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FIDF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1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1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5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5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5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5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5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2720" y="302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Classification Setting</a:t>
            </a:r>
            <a:br>
              <a:rPr sz="3600"/>
            </a:b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Class, Point, Example, Data Set, ...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36520" y="1743120"/>
            <a:ext cx="7689960" cy="4394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put Space: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R</a:t>
            </a:r>
            <a:r>
              <a:rPr b="0" i="1" lang="en-GB" sz="2800" spc="-1" strike="noStrike" baseline="40000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binary) Output Space: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= {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,-1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point, pattern or instance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= (x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x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…, x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: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th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x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, y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ining Set: a set of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m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amples generated i.i.d. according to an unknown distributio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 = {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, …, 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}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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n-GB" sz="2800" spc="-1" strike="noStrike" baseline="30000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Aft>
                <a:spcPts val="1749"/>
              </a:spcAft>
              <a:buClr>
                <a:srgbClr val="99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35600" y="1295280"/>
            <a:ext cx="1784520" cy="1121040"/>
          </a:xfrm>
          <a:prstGeom prst="wedgeEllipseCallout">
            <a:avLst>
              <a:gd name="adj1" fmla="val -46175"/>
              <a:gd name="adj2" fmla="val -5509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oLT/SL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20560" y="223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FIDF meas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896760" y="4124160"/>
            <a:ext cx="7742520" cy="147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he more often a term occurs in a document the more it is representative of its cont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20000"/>
              </a:lnSpc>
              <a:spcBef>
                <a:spcPts val="601"/>
              </a:spcBef>
              <a:spcAft>
                <a:spcPts val="3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he more documents the term occurs in, the less discriminating it 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120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1" name=""/>
          <p:cNvGrpSpPr/>
          <p:nvPr/>
        </p:nvGrpSpPr>
        <p:grpSpPr>
          <a:xfrm>
            <a:off x="1324080" y="1050840"/>
            <a:ext cx="6259320" cy="2979720"/>
            <a:chOff x="1324080" y="1050840"/>
            <a:chExt cx="6259320" cy="2979720"/>
          </a:xfrm>
        </p:grpSpPr>
        <p:sp>
          <p:nvSpPr>
            <p:cNvPr id="1542" name=""/>
            <p:cNvSpPr/>
            <p:nvPr/>
          </p:nvSpPr>
          <p:spPr>
            <a:xfrm>
              <a:off x="1324080" y="1050840"/>
              <a:ext cx="6259320" cy="297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3" name=""/>
                <p:cNvSpPr txBox="1"/>
                <p:nvPr/>
              </p:nvSpPr>
              <p:spPr>
                <a:xfrm>
                  <a:off x="2210040" y="1310040"/>
                  <a:ext cx="4065480" cy="93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tfidf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,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⋅</m:t>
                      </m:r>
                      <m:r>
                        <m:rPr>
                          <m:lit/>
                          <m:nor/>
                        </m:rPr>
                        <m:t xml:space="preserve">log</m:t>
                      </m:r>
                      <m:f>
                        <m:num>
                          <m:r>
                            <m:t xml:space="preserve">|</m:t>
                          </m:r>
                          <m:r>
                            <m:t xml:space="preserve">T</m:t>
                          </m:r>
                          <m:r>
                            <m:t xml:space="preserve">|</m:t>
                          </m:r>
                        </m:num>
                        <m:den>
                          <m:sSub>
                            <m:e/>
                            <m:sub>
                              <m:r>
                                <m:t xml:space="preserve">T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t</m:t>
                          </m:r>
                          <m:r>
                            <m:t xml:space="preserve">)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4" name=""/>
                <p:cNvSpPr txBox="1"/>
                <p:nvPr/>
              </p:nvSpPr>
              <p:spPr>
                <a:xfrm>
                  <a:off x="1854360" y="2531880"/>
                  <a:ext cx="5337000" cy="1247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w</m:t>
                          </m:r>
                        </m:e>
                        <m:sub>
                          <m:r>
                            <m:t xml:space="preserve">i</m:t>
                          </m:r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φ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 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tfid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(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tfidf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,</m:t>
                                  </m:r>
                                  <m:r>
                                    <m:t xml:space="preserve">y</m:t>
                                  </m:r>
                                  <m:r>
                                    <m:t xml:space="preserve">)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e>
                              </m:nary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20560" y="23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Exampl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876240" y="1160640"/>
            <a:ext cx="7515360" cy="4970160"/>
          </a:xfrm>
          <a:prstGeom prst="flowChartDocumen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CLASSES: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{money-fx,dollar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FEATURES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## 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##.##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#:##:##.##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#-mar-####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mount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nother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ck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nk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ank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.s.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was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yen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33520" y="223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Evaluation Measur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0" name="" descr=""/>
          <p:cNvPicPr/>
          <p:nvPr/>
        </p:nvPicPr>
        <p:blipFill>
          <a:blip r:embed="rId1"/>
          <a:stretch/>
        </p:blipFill>
        <p:spPr>
          <a:xfrm>
            <a:off x="1136520" y="884160"/>
            <a:ext cx="6867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20560" y="10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C architectur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735120" y="930240"/>
            <a:ext cx="7512120" cy="3357720"/>
            <a:chOff x="735120" y="930240"/>
            <a:chExt cx="7512120" cy="3357720"/>
          </a:xfrm>
        </p:grpSpPr>
        <p:sp>
          <p:nvSpPr>
            <p:cNvPr id="1554" name=""/>
            <p:cNvSpPr/>
            <p:nvPr/>
          </p:nvSpPr>
          <p:spPr>
            <a:xfrm>
              <a:off x="1254240" y="930240"/>
              <a:ext cx="6993000" cy="335772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07160" y="2260440"/>
              <a:ext cx="380880" cy="540000"/>
            </a:xfrm>
            <a:prstGeom prst="downArrow">
              <a:avLst>
                <a:gd name="adj1" fmla="val 50000"/>
                <a:gd name="adj2" fmla="val 3544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8200" y="124128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ssembl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iction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141720" y="149868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483160" y="149868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63760" y="1065240"/>
              <a:ext cx="1508040" cy="1546200"/>
            </a:xfrm>
            <a:prstGeom prst="flowChartMultidocumen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Trai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u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114960" y="124128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x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e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778200" y="2886120"/>
              <a:ext cx="1587600" cy="93024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lgorith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107040" y="287640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eatur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xtr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5451480" y="311148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rot="16215000">
              <a:off x="203400" y="227484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RAI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784080" y="4425840"/>
            <a:ext cx="7463160" cy="1835280"/>
            <a:chOff x="784080" y="4425840"/>
            <a:chExt cx="7463160" cy="1835280"/>
          </a:xfrm>
        </p:grpSpPr>
        <p:sp>
          <p:nvSpPr>
            <p:cNvPr id="1566" name=""/>
            <p:cNvSpPr/>
            <p:nvPr/>
          </p:nvSpPr>
          <p:spPr>
            <a:xfrm>
              <a:off x="1266840" y="4425840"/>
              <a:ext cx="6980400" cy="183528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649520" y="4597560"/>
              <a:ext cx="1239840" cy="1546200"/>
            </a:xfrm>
            <a:prstGeom prst="flowChartMultidocumen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New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224760" y="4591080"/>
              <a:ext cx="1239840" cy="1546200"/>
            </a:xfrm>
            <a:prstGeom prst="flowChartMultidocumen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Classifi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s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049560" y="516096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526000" y="515304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rot="16200000">
              <a:off x="603360" y="5167800"/>
              <a:ext cx="759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3735360" y="3994200"/>
            <a:ext cx="1636920" cy="1963800"/>
            <a:chOff x="3735360" y="3994200"/>
            <a:chExt cx="1636920" cy="1963800"/>
          </a:xfrm>
        </p:grpSpPr>
        <p:sp>
          <p:nvSpPr>
            <p:cNvPr id="1573" name=""/>
            <p:cNvSpPr/>
            <p:nvPr/>
          </p:nvSpPr>
          <p:spPr>
            <a:xfrm>
              <a:off x="3735360" y="4767120"/>
              <a:ext cx="1636920" cy="11908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classifi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rul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381560" y="3994200"/>
              <a:ext cx="380880" cy="620640"/>
            </a:xfrm>
            <a:prstGeom prst="downArrow">
              <a:avLst>
                <a:gd name="adj1" fmla="val 50000"/>
                <a:gd name="adj2" fmla="val 40737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520560" y="77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Decision Tre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15760" y="8366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(Weiss et al.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534960" y="1585800"/>
            <a:ext cx="7512120" cy="3357720"/>
            <a:chOff x="534960" y="1585800"/>
            <a:chExt cx="7512120" cy="3357720"/>
          </a:xfrm>
        </p:grpSpPr>
        <p:sp>
          <p:nvSpPr>
            <p:cNvPr id="1579" name=""/>
            <p:cNvSpPr/>
            <p:nvPr/>
          </p:nvSpPr>
          <p:spPr>
            <a:xfrm>
              <a:off x="1054080" y="1585800"/>
              <a:ext cx="6993000" cy="335772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507000" y="2916000"/>
              <a:ext cx="380880" cy="540000"/>
            </a:xfrm>
            <a:prstGeom prst="downArrow">
              <a:avLst>
                <a:gd name="adj1" fmla="val 50000"/>
                <a:gd name="adj2" fmla="val 3544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578040" y="189684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ssembl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dictiona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941560" y="215424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283000" y="215424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263600" y="1720800"/>
              <a:ext cx="1508040" cy="1546200"/>
            </a:xfrm>
            <a:prstGeom prst="flowChartMultidocumen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Trai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Tahoma"/>
                </a:rPr>
                <a:t>Documen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914800" y="189684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Text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epresent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578040" y="3541680"/>
              <a:ext cx="1587600" cy="93024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Learning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lgorith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06880" y="3531960"/>
              <a:ext cx="1587600" cy="9306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Featur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extrac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>
              <a:off x="5251320" y="3767040"/>
              <a:ext cx="533520" cy="380880"/>
            </a:xfrm>
            <a:prstGeom prst="rightArrow">
              <a:avLst>
                <a:gd name="adj1" fmla="val 50000"/>
                <a:gd name="adj2" fmla="val 35019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rot="16215000">
              <a:off x="3240" y="293040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RAIN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90" name=""/>
          <p:cNvSpPr/>
          <p:nvPr/>
        </p:nvSpPr>
        <p:spPr>
          <a:xfrm>
            <a:off x="2197080" y="776160"/>
            <a:ext cx="2252520" cy="1417680"/>
          </a:xfrm>
          <a:prstGeom prst="wedgeEllipseCallout">
            <a:avLst>
              <a:gd name="adj1" fmla="val -43750"/>
              <a:gd name="adj2" fmla="val 70000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Reuters-2157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ModAp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952880" y="446040"/>
            <a:ext cx="2820960" cy="2009880"/>
          </a:xfrm>
          <a:prstGeom prst="wedgeEllipseCallout">
            <a:avLst>
              <a:gd name="adj1" fmla="val -52814"/>
              <a:gd name="adj2" fmla="val 45657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Pooled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dictiona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Stop-wo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No stemm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965400" y="3057480"/>
            <a:ext cx="2252880" cy="1487520"/>
          </a:xfrm>
          <a:prstGeom prst="wedgeEllipseCallout">
            <a:avLst>
              <a:gd name="adj1" fmla="val 45490"/>
              <a:gd name="adj2" fmla="val -76148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Bag of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4524480" y="4638600"/>
            <a:ext cx="2252520" cy="1487520"/>
          </a:xfrm>
          <a:prstGeom prst="wedgeEllipseCallout">
            <a:avLst>
              <a:gd name="adj1" fmla="val 40837"/>
              <a:gd name="adj2" fmla="val -72944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cou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Tahoma"/>
              </a:rPr>
              <a:t>headli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1631880" y="4441680"/>
            <a:ext cx="2252880" cy="1487520"/>
          </a:xfrm>
          <a:prstGeom prst="wedgeEllipseCallout">
            <a:avLst>
              <a:gd name="adj1" fmla="val 45490"/>
              <a:gd name="adj2" fmla="val -76148"/>
            </a:avLst>
          </a:prstGeom>
          <a:gradFill rotWithShape="0">
            <a:gsLst>
              <a:gs pos="0">
                <a:srgbClr val="000099"/>
              </a:gs>
              <a:gs pos="100000">
                <a:srgbClr val="000046"/>
              </a:gs>
            </a:gsLst>
            <a:lin ang="81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TDI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1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07" dur="1" fill="hold"/>
                                  <p:tgtEl>
                                    <p:spTgt spid="1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"/>
          <p:cNvSpPr/>
          <p:nvPr/>
        </p:nvSpPr>
        <p:spPr>
          <a:xfrm>
            <a:off x="1054080" y="1585800"/>
            <a:ext cx="6993000" cy="3357720"/>
          </a:xfrm>
          <a:prstGeom prst="rect">
            <a:avLst/>
          </a:prstGeom>
          <a:solidFill>
            <a:srgbClr val="6b9c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520560" y="77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Decision Tre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4415760" y="83664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(Weiss et al.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507000" y="2916360"/>
            <a:ext cx="381240" cy="539640"/>
          </a:xfrm>
          <a:prstGeom prst="downArrow">
            <a:avLst>
              <a:gd name="adj1" fmla="val 50000"/>
              <a:gd name="adj2" fmla="val 35387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578400" y="1897200"/>
            <a:ext cx="1587240" cy="9302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ssembl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ctiona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941560" y="215424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83360" y="215424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263600" y="1720800"/>
            <a:ext cx="1508040" cy="1546200"/>
          </a:xfrm>
          <a:prstGeom prst="flowChartMultidocumen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rai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Docu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915160" y="1897200"/>
            <a:ext cx="1587240" cy="9302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x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3578400" y="3541680"/>
            <a:ext cx="1587240" cy="9302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rning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lgorith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907240" y="3532320"/>
            <a:ext cx="1587240" cy="9302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atu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xtra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 flipH="1">
            <a:off x="5251320" y="376704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 rot="16215000">
            <a:off x="3240" y="293112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9" name=""/>
          <p:cNvGrpSpPr/>
          <p:nvPr/>
        </p:nvGrpSpPr>
        <p:grpSpPr>
          <a:xfrm>
            <a:off x="1144440" y="3444840"/>
            <a:ext cx="2280960" cy="1190520"/>
            <a:chOff x="1144440" y="3444840"/>
            <a:chExt cx="2280960" cy="1190520"/>
          </a:xfrm>
        </p:grpSpPr>
        <p:sp>
          <p:nvSpPr>
            <p:cNvPr id="1610" name=""/>
            <p:cNvSpPr/>
            <p:nvPr/>
          </p:nvSpPr>
          <p:spPr>
            <a:xfrm>
              <a:off x="1144440" y="3444840"/>
              <a:ext cx="1636920" cy="119052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Docu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classific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Tahoma"/>
                </a:rPr>
                <a:t>TRE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2891880" y="3763800"/>
              <a:ext cx="533160" cy="381240"/>
            </a:xfrm>
            <a:prstGeom prst="rightArrow">
              <a:avLst>
                <a:gd name="adj1" fmla="val 50000"/>
                <a:gd name="adj2" fmla="val 3496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2876400" y="567360"/>
            <a:ext cx="5945040" cy="5036040"/>
            <a:chOff x="2876400" y="567360"/>
            <a:chExt cx="5945040" cy="5036040"/>
          </a:xfrm>
        </p:grpSpPr>
        <p:sp>
          <p:nvSpPr>
            <p:cNvPr id="1613" name=""/>
            <p:cNvSpPr/>
            <p:nvPr/>
          </p:nvSpPr>
          <p:spPr>
            <a:xfrm>
              <a:off x="2876400" y="598320"/>
              <a:ext cx="5945040" cy="5005080"/>
            </a:xfrm>
            <a:prstGeom prst="wedgeEllipseCallout">
              <a:avLst>
                <a:gd name="adj1" fmla="val -57023"/>
                <a:gd name="adj2" fmla="val 26055"/>
              </a:avLst>
            </a:pr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81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501520" y="567360"/>
              <a:ext cx="72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216400" y="942840"/>
              <a:ext cx="1266840" cy="647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kick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986080" y="1587240"/>
              <a:ext cx="649440" cy="549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832280" y="486432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9900"/>
                  </a:solidFill>
                  <a:latin typeface="Tahoma"/>
                </a:rPr>
                <a:t>lea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582800" y="15739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240600" y="15800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489200" y="2095200"/>
              <a:ext cx="1266840" cy="647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runn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5217840" y="3241440"/>
              <a:ext cx="1266840" cy="647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bac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163920" y="2185920"/>
              <a:ext cx="1289160" cy="39492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footb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482720" y="4471920"/>
              <a:ext cx="1289160" cy="39492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footb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962320" y="4476600"/>
              <a:ext cx="1765440" cy="39492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ot-footb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285720" y="3375000"/>
              <a:ext cx="1765440" cy="39492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ot-footbal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5150880" y="1599840"/>
              <a:ext cx="555480" cy="4917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4280760" y="2739960"/>
              <a:ext cx="706680" cy="585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244840" y="2749320"/>
              <a:ext cx="555480" cy="4917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3795480" y="275976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515200" y="2765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5117760" y="3889080"/>
              <a:ext cx="625680" cy="5616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987880" y="3900240"/>
              <a:ext cx="649080" cy="549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576680" y="392328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fals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07200" y="39279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ourier New"/>
                </a:rPr>
                <a:t>tr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5" name=""/>
          <p:cNvSpPr/>
          <p:nvPr/>
        </p:nvSpPr>
        <p:spPr>
          <a:xfrm>
            <a:off x="1062000" y="5052960"/>
            <a:ext cx="6989760" cy="1150920"/>
          </a:xfrm>
          <a:prstGeom prst="rect">
            <a:avLst/>
          </a:prstGeom>
          <a:solidFill>
            <a:srgbClr val="6b9c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eak-even point =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78.9%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1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1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"/>
          <p:cNvSpPr/>
          <p:nvPr/>
        </p:nvSpPr>
        <p:spPr>
          <a:xfrm>
            <a:off x="1041480" y="2468520"/>
            <a:ext cx="7248600" cy="3751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520560" y="54000"/>
            <a:ext cx="7772400" cy="92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Decision Trees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(2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 rot="5408400">
            <a:off x="7396560" y="328860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(Weiss et al.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2525760" y="3479400"/>
            <a:ext cx="1748880" cy="2755080"/>
            <a:chOff x="2525760" y="3479400"/>
            <a:chExt cx="1748880" cy="2755080"/>
          </a:xfrm>
        </p:grpSpPr>
        <p:sp>
          <p:nvSpPr>
            <p:cNvPr id="1641" name=""/>
            <p:cNvSpPr/>
            <p:nvPr/>
          </p:nvSpPr>
          <p:spPr>
            <a:xfrm>
              <a:off x="3322440" y="5102280"/>
              <a:ext cx="952200" cy="94140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S</a:t>
              </a:r>
              <a:r>
                <a:rPr b="0" lang="en-US" sz="24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671560" y="5364000"/>
              <a:ext cx="533160" cy="381240"/>
            </a:xfrm>
            <a:prstGeom prst="rightArrow">
              <a:avLst>
                <a:gd name="adj1" fmla="val 50000"/>
                <a:gd name="adj2" fmla="val 3496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20320" y="5724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44" name=""/>
            <p:cNvCxnSpPr>
              <a:stCxn id="1645" idx="4"/>
            </p:cNvCxnSpPr>
            <p:nvPr/>
          </p:nvCxnSpPr>
          <p:spPr>
            <a:xfrm flipH="1" rot="16200000">
              <a:off x="1785600" y="4219200"/>
              <a:ext cx="1864440" cy="384480"/>
            </a:xfrm>
            <a:prstGeom prst="bentConnector3">
              <a:avLst>
                <a:gd name="adj1" fmla="val 77"/>
              </a:avLst>
            </a:prstGeom>
            <a:ln w="5076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6" name=""/>
          <p:cNvGrpSpPr/>
          <p:nvPr/>
        </p:nvGrpSpPr>
        <p:grpSpPr>
          <a:xfrm>
            <a:off x="1169640" y="2549520"/>
            <a:ext cx="1392480" cy="3636000"/>
            <a:chOff x="1169640" y="2549520"/>
            <a:chExt cx="1392480" cy="3636000"/>
          </a:xfrm>
        </p:grpSpPr>
        <p:sp>
          <p:nvSpPr>
            <p:cNvPr id="1647" name=""/>
            <p:cNvSpPr/>
            <p:nvPr/>
          </p:nvSpPr>
          <p:spPr>
            <a:xfrm>
              <a:off x="1584000" y="5067360"/>
              <a:ext cx="952560" cy="94140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S</a:t>
              </a:r>
              <a:r>
                <a:rPr b="0" lang="en-US" sz="24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rot="16200000">
              <a:off x="1852920" y="4813560"/>
              <a:ext cx="405000" cy="380880"/>
            </a:xfrm>
            <a:prstGeom prst="rightArrow">
              <a:avLst>
                <a:gd name="adj1" fmla="val 50000"/>
                <a:gd name="adj2" fmla="val 265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169640" y="567540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539720" y="4002120"/>
              <a:ext cx="1022400" cy="766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TDID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84000" y="2549520"/>
              <a:ext cx="941400" cy="930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8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rot="16200000">
              <a:off x="1834200" y="3540960"/>
              <a:ext cx="404640" cy="380880"/>
            </a:xfrm>
            <a:prstGeom prst="rightArrow">
              <a:avLst>
                <a:gd name="adj1" fmla="val 50000"/>
                <a:gd name="adj2" fmla="val 26560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52" name=""/>
          <p:cNvSpPr/>
          <p:nvPr/>
        </p:nvSpPr>
        <p:spPr>
          <a:xfrm>
            <a:off x="5340240" y="499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3" name=""/>
          <p:cNvGrpSpPr/>
          <p:nvPr/>
        </p:nvGrpSpPr>
        <p:grpSpPr>
          <a:xfrm>
            <a:off x="3270240" y="2550960"/>
            <a:ext cx="1022400" cy="2705040"/>
            <a:chOff x="3270240" y="2550960"/>
            <a:chExt cx="1022400" cy="2705040"/>
          </a:xfrm>
        </p:grpSpPr>
        <p:sp>
          <p:nvSpPr>
            <p:cNvPr id="1654" name=""/>
            <p:cNvSpPr/>
            <p:nvPr/>
          </p:nvSpPr>
          <p:spPr>
            <a:xfrm>
              <a:off x="3270240" y="4021200"/>
              <a:ext cx="1022400" cy="766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TDID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3344760" y="2550960"/>
              <a:ext cx="941400" cy="93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8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rot="16200000">
              <a:off x="3609000" y="4862880"/>
              <a:ext cx="405000" cy="380880"/>
            </a:xfrm>
            <a:prstGeom prst="rightArrow">
              <a:avLst>
                <a:gd name="adj1" fmla="val 50000"/>
                <a:gd name="adj2" fmla="val 265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rot="16200000">
              <a:off x="3585240" y="3549960"/>
              <a:ext cx="405000" cy="381240"/>
            </a:xfrm>
            <a:prstGeom prst="rightArrow">
              <a:avLst>
                <a:gd name="adj1" fmla="val 50000"/>
                <a:gd name="adj2" fmla="val 26558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4280400" y="2529000"/>
            <a:ext cx="3415680" cy="3700800"/>
            <a:chOff x="4280400" y="2529000"/>
            <a:chExt cx="3415680" cy="3700800"/>
          </a:xfrm>
        </p:grpSpPr>
        <p:sp>
          <p:nvSpPr>
            <p:cNvPr id="1659" name=""/>
            <p:cNvSpPr/>
            <p:nvPr/>
          </p:nvSpPr>
          <p:spPr>
            <a:xfrm rot="16200000">
              <a:off x="6979320" y="3528000"/>
              <a:ext cx="404640" cy="381240"/>
            </a:xfrm>
            <a:prstGeom prst="rightArrow">
              <a:avLst>
                <a:gd name="adj1" fmla="val 50000"/>
                <a:gd name="adj2" fmla="val 2653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60" name=""/>
            <p:cNvGrpSpPr/>
            <p:nvPr/>
          </p:nvGrpSpPr>
          <p:grpSpPr>
            <a:xfrm>
              <a:off x="4280400" y="2529000"/>
              <a:ext cx="3415680" cy="3700800"/>
              <a:chOff x="4280400" y="2529000"/>
              <a:chExt cx="3415680" cy="3700800"/>
            </a:xfrm>
          </p:grpSpPr>
          <p:sp>
            <p:nvSpPr>
              <p:cNvPr id="1661" name=""/>
              <p:cNvSpPr/>
              <p:nvPr/>
            </p:nvSpPr>
            <p:spPr>
              <a:xfrm>
                <a:off x="6724800" y="5068800"/>
                <a:ext cx="952200" cy="941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TS</a:t>
                </a:r>
                <a:r>
                  <a:rPr b="0" lang="en-US" sz="2400" spc="-1" strike="noStrike" baseline="-20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146200" y="5215680"/>
                <a:ext cx="65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. . 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424400" y="5386320"/>
                <a:ext cx="533520" cy="381240"/>
              </a:xfrm>
              <a:prstGeom prst="rightArrow">
                <a:avLst>
                  <a:gd name="adj1" fmla="val 50000"/>
                  <a:gd name="adj2" fmla="val 34986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000840" y="5388120"/>
                <a:ext cx="533160" cy="380880"/>
              </a:xfrm>
              <a:prstGeom prst="rightArrow">
                <a:avLst>
                  <a:gd name="adj1" fmla="val 50000"/>
                  <a:gd name="adj2" fmla="val 34995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827600" y="4479480"/>
                <a:ext cx="16239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Adaptive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ahoma"/>
                  </a:rPr>
                  <a:t>resamplin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330600" y="5719680"/>
                <a:ext cx="508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r>
                  <a:rPr b="1" lang="es-ES_tradnl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673680" y="3992400"/>
                <a:ext cx="1022400" cy="766800"/>
              </a:xfrm>
              <a:prstGeom prst="rect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00"/>
                  </a:spcBef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 baseline="-20000">
                    <a:solidFill>
                      <a:srgbClr val="ffffff"/>
                    </a:solidFill>
                    <a:latin typeface="Tahoma"/>
                  </a:rPr>
                  <a:t>TDID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707160" y="2529000"/>
                <a:ext cx="941400" cy="9302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h</a:t>
                </a:r>
                <a:r>
                  <a:rPr b="0" lang="en-US" sz="2800" spc="-1" strike="noStrike" baseline="-20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109840" y="2679120"/>
                <a:ext cx="65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. . 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rot="16200000">
                <a:off x="7023960" y="4826880"/>
                <a:ext cx="404640" cy="380880"/>
              </a:xfrm>
              <a:prstGeom prst="rightArrow">
                <a:avLst>
                  <a:gd name="adj1" fmla="val 50000"/>
                  <a:gd name="adj2" fmla="val 26560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71" name=""/>
              <p:cNvCxnSpPr/>
              <p:nvPr/>
            </p:nvCxnSpPr>
            <p:spPr>
              <a:xfrm flipH="1" rot="16200000">
                <a:off x="3540600" y="4208040"/>
                <a:ext cx="1864440" cy="384840"/>
              </a:xfrm>
              <a:prstGeom prst="bentConnector3">
                <a:avLst>
                  <a:gd name="adj1" fmla="val 1255"/>
                </a:avLst>
              </a:prstGeom>
              <a:ln w="50760">
                <a:solidFill>
                  <a:srgbClr val="cccc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1672" name=""/>
          <p:cNvSpPr/>
          <p:nvPr/>
        </p:nvSpPr>
        <p:spPr>
          <a:xfrm rot="16215000">
            <a:off x="47520" y="407412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3" name=""/>
          <p:cNvGrpSpPr/>
          <p:nvPr/>
        </p:nvGrpSpPr>
        <p:grpSpPr>
          <a:xfrm>
            <a:off x="604800" y="993600"/>
            <a:ext cx="7674120" cy="1555560"/>
            <a:chOff x="604800" y="993600"/>
            <a:chExt cx="7674120" cy="1555560"/>
          </a:xfrm>
        </p:grpSpPr>
        <p:sp>
          <p:nvSpPr>
            <p:cNvPr id="1674" name=""/>
            <p:cNvSpPr/>
            <p:nvPr/>
          </p:nvSpPr>
          <p:spPr>
            <a:xfrm>
              <a:off x="1030320" y="993600"/>
              <a:ext cx="7248600" cy="13590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V="1">
              <a:off x="2060640" y="2017440"/>
              <a:ext cx="2560680" cy="53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3813120" y="2014560"/>
              <a:ext cx="1000080" cy="525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 flipV="1">
              <a:off x="5022360" y="2033280"/>
              <a:ext cx="2143080" cy="48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4824360" y="1025280"/>
              <a:ext cx="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653080" y="1478520"/>
              <a:ext cx="99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vo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943440" y="1407960"/>
              <a:ext cx="1708200" cy="603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068720" y="1600200"/>
              <a:ext cx="159876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F(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,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,...,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T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rot="16215000">
              <a:off x="425880" y="1388160"/>
              <a:ext cx="759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793320" y="1946520"/>
              <a:ext cx="4824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w</a:t>
              </a:r>
              <a:r>
                <a:rPr b="1" lang="en-US" sz="20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704320" y="1919520"/>
              <a:ext cx="4824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w</a:t>
              </a:r>
              <a:r>
                <a:rPr b="1" lang="en-US" sz="20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56720" y="1956240"/>
              <a:ext cx="49608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w</a:t>
              </a:r>
              <a:r>
                <a:rPr b="1" lang="en-US" sz="2000" spc="-1" strike="noStrike" baseline="-20000">
                  <a:solidFill>
                    <a:srgbClr val="ffffff"/>
                  </a:solidFill>
                  <a:latin typeface="Tahoma"/>
                </a:rPr>
                <a:t>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Decision Trees </a:t>
            </a:r>
            <a:r>
              <a:rPr b="1" lang="en-GB" sz="2800" spc="-1" strike="noStrike">
                <a:solidFill>
                  <a:srgbClr val="ffff00"/>
                </a:solidFill>
                <a:latin typeface="Tahoma"/>
              </a:rPr>
              <a:t>(3)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4728240" y="958680"/>
            <a:ext cx="242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(Weiss et al.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89" name=""/>
          <p:cNvGraphicFramePr/>
          <p:nvPr/>
        </p:nvGraphicFramePr>
        <p:xfrm>
          <a:off x="1633680" y="1479600"/>
          <a:ext cx="6784920" cy="627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3680" y="1479600"/>
                    <a:ext cx="6784920" cy="62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1" name=""/>
          <p:cNvSpPr/>
          <p:nvPr/>
        </p:nvSpPr>
        <p:spPr>
          <a:xfrm>
            <a:off x="1073160" y="4657680"/>
            <a:ext cx="7007040" cy="14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1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Ensemble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of decision tre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help reducing the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varia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the acquired models and, thus, increasing the generalization ability.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Dietterich, 97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1"/>
          <a:stretch/>
        </p:blipFill>
        <p:spPr>
          <a:xfrm>
            <a:off x="4572000" y="1012680"/>
            <a:ext cx="3508200" cy="2630520"/>
          </a:xfrm>
          <a:prstGeom prst="rect">
            <a:avLst/>
          </a:prstGeom>
          <a:ln w="0">
            <a:noFill/>
          </a:ln>
        </p:spPr>
      </p:pic>
      <p:pic>
        <p:nvPicPr>
          <p:cNvPr id="1694" name="" descr=""/>
          <p:cNvPicPr/>
          <p:nvPr/>
        </p:nvPicPr>
        <p:blipFill>
          <a:blip r:embed="rId2"/>
          <a:stretch/>
        </p:blipFill>
        <p:spPr>
          <a:xfrm>
            <a:off x="938160" y="3695760"/>
            <a:ext cx="3451320" cy="2598840"/>
          </a:xfrm>
          <a:prstGeom prst="rect">
            <a:avLst/>
          </a:prstGeom>
          <a:ln w="0">
            <a:noFill/>
          </a:ln>
        </p:spPr>
      </p:pic>
      <p:pic>
        <p:nvPicPr>
          <p:cNvPr id="1695" name="" descr=""/>
          <p:cNvPicPr/>
          <p:nvPr/>
        </p:nvPicPr>
        <p:blipFill>
          <a:blip r:embed="rId3"/>
          <a:stretch/>
        </p:blipFill>
        <p:spPr>
          <a:xfrm>
            <a:off x="939960" y="1033560"/>
            <a:ext cx="3457440" cy="2603520"/>
          </a:xfrm>
          <a:prstGeom prst="rect">
            <a:avLst/>
          </a:prstGeom>
          <a:ln w="0">
            <a:noFill/>
          </a:ln>
        </p:spPr>
      </p:pic>
      <p:sp>
        <p:nvSpPr>
          <p:cNvPr id="1696" name=""/>
          <p:cNvSpPr/>
          <p:nvPr/>
        </p:nvSpPr>
        <p:spPr>
          <a:xfrm>
            <a:off x="4684680" y="4194000"/>
            <a:ext cx="3987720" cy="1814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nd so on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e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Sebastiani,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520560" y="77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Learning Paradig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20560" y="16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Learning Paradig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641520" y="1262160"/>
            <a:ext cx="8216640" cy="3349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3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Linear Text Classifi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ceptron, Widrow-Hoff algorithm, and  Kivinen &amp; Warmuth’s EG algorithm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Lewis et al., 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leeping Experts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ohen &amp; Singer, 96;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nnow and Balanced Winnow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Dagan, Karov &amp; Roth,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arge margin Winnow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(Zhang, 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41520" y="4614840"/>
            <a:ext cx="8205480" cy="104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upport Vector Machine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                 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Joachims, 98; Dumais et al.,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Classification Setting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Learning, Error, 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14560" y="1706400"/>
            <a:ext cx="7583400" cy="431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hypotheses space,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is the set of functions 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: X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that the learner can consider as possible definitions. In SVM are of the fo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goal is to find a functio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longing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uch that the expected misclassification error on new examples, also drawn from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is minimal              (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Risk Minimiz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171960" y="3246480"/>
                <a:ext cx="262548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20560" y="16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Empirical Comparis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6" name="" descr=""/>
          <p:cNvPicPr/>
          <p:nvPr/>
        </p:nvPicPr>
        <p:blipFill>
          <a:blip r:embed="rId1"/>
          <a:stretch/>
        </p:blipFill>
        <p:spPr>
          <a:xfrm>
            <a:off x="108000" y="47520"/>
            <a:ext cx="8985240" cy="674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17640" y="49320"/>
            <a:ext cx="189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20560" y="39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58800" y="1417680"/>
            <a:ext cx="8193240" cy="488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piric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uters-21578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orpus and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hsum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ol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tfidf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vector representation of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9,962 (Reuters) and 15,561 (Ohsumed) terms after preprocessing and filtering using IG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ault parameter setting using a VCdim criter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euristic for eliminating possible outl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gnificantly outperforms Bayes, Rocchio, C4.5, k-NN in a comparative experiment. BEP =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86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 overfitting observed (poly of degree 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200320" y="824040"/>
            <a:ext cx="42894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(Joachims, 1998) </a:t>
            </a:r>
            <a:r>
              <a:rPr b="1" i="1" lang="en-GB" sz="2400" spc="-1" strike="noStrike">
                <a:solidFill>
                  <a:srgbClr val="ff9900"/>
                </a:solidFill>
                <a:latin typeface="Tahoma"/>
              </a:rPr>
              <a:t>ECML’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1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3" dur="500"/>
                                        <p:tgtEl>
                                          <p:spTgt spid="1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17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17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17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5" dur="500"/>
                                        <p:tgtEl>
                                          <p:spTgt spid="17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7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73200" y="59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17640" y="49320"/>
            <a:ext cx="189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755640" y="1058760"/>
            <a:ext cx="8032680" cy="468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pirical evalu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uters-21578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or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gressive attribute filtering using Mutual Information: 300 binary te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near SVM’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gnificantly outperforms a number of systems in a comparative experiment. BEP on Reuters =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87.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so impressive training and classification speed (0.26 CPU seconds to train each categor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20560" y="39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38360" y="874800"/>
            <a:ext cx="75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Dumais, Platt, Heckerman, &amp; Sahami, 1998)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SIKM’9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17640" y="49320"/>
            <a:ext cx="18982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SV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30280" y="1211400"/>
            <a:ext cx="7869240" cy="468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th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Drucker, Vapnik, and Wu, 1999)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 IEEE Transactions on Neural Networks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ti spam email filter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Yang and Liu, 1999) 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SIGIR’99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                       Statistical significance tests for TC measur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Li and Yamanishi, 1999) 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SIKM’9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Kwok, 1998)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combination with Latent Semantic Indexing. Using SVMs for detecting outli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20560" y="39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C using SV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520560" y="166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Why they are appropriate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41520" y="1211400"/>
            <a:ext cx="7746840" cy="468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Joachims, 199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VMs are tolerant to overfitting in high dimensional input spac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ew irrelevant features (dense concept vect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cument vectors are sparse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Kivinen et al. 19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ost text categorization problems are linearly separ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VMs are relatively insensitive to the relative number of training instances of each cla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"/>
          <p:cNvSpPr/>
          <p:nvPr/>
        </p:nvSpPr>
        <p:spPr>
          <a:xfrm>
            <a:off x="520560" y="177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Few irrelevant featur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887400" y="1932120"/>
            <a:ext cx="7505640" cy="32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1795320" y="1608120"/>
            <a:ext cx="5502240" cy="3930840"/>
          </a:xfrm>
          <a:prstGeom prst="rect">
            <a:avLst/>
          </a:prstGeom>
          <a:ln w="0">
            <a:noFill/>
          </a:ln>
        </p:spPr>
      </p:pic>
      <p:sp>
        <p:nvSpPr>
          <p:cNvPr id="1728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"/>
          <p:cNvSpPr/>
          <p:nvPr/>
        </p:nvSpPr>
        <p:spPr>
          <a:xfrm>
            <a:off x="379440" y="1749600"/>
            <a:ext cx="8435880" cy="343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Appropriate task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all have in common that there is little training data, but a very large training set, e.g. text classification tasks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Joachims 99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levance Feedback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etnews Filt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organizing a collection of docu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he semi-supervised approach: Transductive SV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04640" y="1285920"/>
            <a:ext cx="8164800" cy="236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Transductiv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nstead of inductive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Vapnik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SVMs take into account a particular test set and try    to minimize misclassifications of just those particular examp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rmal setting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812880" y="3544920"/>
            <a:ext cx="7670880" cy="2635200"/>
            <a:chOff x="812880" y="3544920"/>
            <a:chExt cx="7670880" cy="2635200"/>
          </a:xfrm>
        </p:grpSpPr>
        <p:grpSp>
          <p:nvGrpSpPr>
            <p:cNvPr id="1735" name=""/>
            <p:cNvGrpSpPr/>
            <p:nvPr/>
          </p:nvGrpSpPr>
          <p:grpSpPr>
            <a:xfrm>
              <a:off x="812880" y="3544920"/>
              <a:ext cx="7670880" cy="2635200"/>
              <a:chOff x="812880" y="3544920"/>
              <a:chExt cx="7670880" cy="2635200"/>
            </a:xfrm>
          </p:grpSpPr>
          <p:sp>
            <p:nvSpPr>
              <p:cNvPr id="1736" name=""/>
              <p:cNvSpPr/>
              <p:nvPr/>
            </p:nvSpPr>
            <p:spPr>
              <a:xfrm>
                <a:off x="812880" y="3544920"/>
                <a:ext cx="7670880" cy="2635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37" name=""/>
                  <p:cNvSpPr txBox="1"/>
                  <p:nvPr/>
                </p:nvSpPr>
                <p:spPr>
                  <a:xfrm>
                    <a:off x="969840" y="3716280"/>
                    <a:ext cx="7402680" cy="1846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in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…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st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/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acc>
                                      <m:accPr>
                                        <m:chr m:val="⃗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/>
                                </m:sSubSup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 </m:t>
                                </m:r>
                                <m:r>
                                  <m:t xml:space="preserve">…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,  {</m:t>
                                </m:r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e/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/>
                                </m:sSup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normally  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&gt;&gt;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oal of the transductive learner L:</m:t>
                            </m:r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ind a function 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in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es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so that the expected number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738" name=""/>
            <p:cNvSpPr/>
            <p:nvPr/>
          </p:nvSpPr>
          <p:spPr>
            <a:xfrm>
              <a:off x="1027080" y="5462640"/>
              <a:ext cx="737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of erroneous predictions on the test examples is minimiz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0" name=""/>
          <p:cNvGraphicFramePr/>
          <p:nvPr/>
        </p:nvGraphicFramePr>
        <p:xfrm>
          <a:off x="1360440" y="2728800"/>
          <a:ext cx="74962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0440" y="2728800"/>
                    <a:ext cx="74962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2" name=""/>
          <p:cNvSpPr/>
          <p:nvPr/>
        </p:nvSpPr>
        <p:spPr>
          <a:xfrm>
            <a:off x="827640" y="1417680"/>
            <a:ext cx="7614720" cy="1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Tahoma"/>
              </a:rPr>
              <a:t>Why should TSVMs perform better than SVM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the field of information retrieval it is well known that word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natural language occur in strong co-ocurrence 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Classification Setting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Learning, Error, 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3600" y="1703520"/>
            <a:ext cx="7466040" cy="39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ected error (risk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22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blem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tself is unknown. Known are training examples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induction principl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s need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Empirical Risk Minimiz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ERM): Find the function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longing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which the training error (empirical risk) is minim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571840" y="2328840"/>
                <a:ext cx="3630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430360" y="5497560"/>
                <a:ext cx="39909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mp</m:t>
                        </m:r>
                      </m:sub>
                    </m:sSub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h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m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5" name=""/>
          <p:cNvGraphicFramePr/>
          <p:nvPr/>
        </p:nvGraphicFramePr>
        <p:xfrm>
          <a:off x="1360440" y="2733840"/>
          <a:ext cx="749628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0440" y="2733840"/>
                    <a:ext cx="749628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27640" y="1417680"/>
            <a:ext cx="7614720" cy="119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Tahoma"/>
              </a:rPr>
              <a:t>Why should TSVMs perform better than SVM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the field of information retrieval it is well known that word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natural language occur in strong co-ocurrence patter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"/>
          <p:cNvGrpSpPr/>
          <p:nvPr/>
        </p:nvGrpSpPr>
        <p:grpSpPr>
          <a:xfrm>
            <a:off x="2217600" y="2424240"/>
            <a:ext cx="4994280" cy="3392280"/>
            <a:chOff x="2217600" y="2424240"/>
            <a:chExt cx="4994280" cy="3392280"/>
          </a:xfrm>
        </p:grpSpPr>
        <p:sp>
          <p:nvSpPr>
            <p:cNvPr id="1751" name=""/>
            <p:cNvSpPr/>
            <p:nvPr/>
          </p:nvSpPr>
          <p:spPr>
            <a:xfrm>
              <a:off x="2217600" y="2424240"/>
              <a:ext cx="4994280" cy="3392280"/>
            </a:xfrm>
            <a:prstGeom prst="rect">
              <a:avLst/>
            </a:prstGeom>
            <a:solidFill>
              <a:srgbClr val="00004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2" name=""/>
            <p:cNvGrpSpPr/>
            <p:nvPr/>
          </p:nvGrpSpPr>
          <p:grpSpPr>
            <a:xfrm>
              <a:off x="2987640" y="3313080"/>
              <a:ext cx="209520" cy="209160"/>
              <a:chOff x="2987640" y="3313080"/>
              <a:chExt cx="209520" cy="209160"/>
            </a:xfrm>
          </p:grpSpPr>
          <p:sp>
            <p:nvSpPr>
              <p:cNvPr id="1753" name=""/>
              <p:cNvSpPr/>
              <p:nvPr/>
            </p:nvSpPr>
            <p:spPr>
              <a:xfrm>
                <a:off x="3090960" y="3313080"/>
                <a:ext cx="0" cy="20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2987640" y="3416040"/>
                <a:ext cx="20952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55" name=""/>
            <p:cNvSpPr/>
            <p:nvPr/>
          </p:nvSpPr>
          <p:spPr>
            <a:xfrm flipH="1">
              <a:off x="3706920" y="470664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6132600" y="5126040"/>
              <a:ext cx="209520" cy="1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5332320" y="470664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H="1">
              <a:off x="4824360" y="529092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9" name=""/>
            <p:cNvGrpSpPr/>
            <p:nvPr/>
          </p:nvGrpSpPr>
          <p:grpSpPr>
            <a:xfrm>
              <a:off x="5425920" y="2792160"/>
              <a:ext cx="209520" cy="209160"/>
              <a:chOff x="5425920" y="2792160"/>
              <a:chExt cx="209520" cy="209160"/>
            </a:xfrm>
          </p:grpSpPr>
          <p:sp>
            <p:nvSpPr>
              <p:cNvPr id="1760" name=""/>
              <p:cNvSpPr/>
              <p:nvPr/>
            </p:nvSpPr>
            <p:spPr>
              <a:xfrm>
                <a:off x="5529240" y="2792160"/>
                <a:ext cx="0" cy="20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5425920" y="2895120"/>
                <a:ext cx="20952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2" name=""/>
            <p:cNvGrpSpPr/>
            <p:nvPr/>
          </p:nvGrpSpPr>
          <p:grpSpPr>
            <a:xfrm>
              <a:off x="4246560" y="2860560"/>
              <a:ext cx="209520" cy="209160"/>
              <a:chOff x="4246560" y="2860560"/>
              <a:chExt cx="209520" cy="209160"/>
            </a:xfrm>
          </p:grpSpPr>
          <p:sp>
            <p:nvSpPr>
              <p:cNvPr id="1763" name=""/>
              <p:cNvSpPr/>
              <p:nvPr/>
            </p:nvSpPr>
            <p:spPr>
              <a:xfrm>
                <a:off x="4349880" y="2860560"/>
                <a:ext cx="0" cy="20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4246560" y="2963520"/>
                <a:ext cx="20952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5" name=""/>
            <p:cNvGrpSpPr/>
            <p:nvPr/>
          </p:nvGrpSpPr>
          <p:grpSpPr>
            <a:xfrm>
              <a:off x="3879720" y="3309840"/>
              <a:ext cx="209520" cy="209160"/>
              <a:chOff x="3879720" y="3309840"/>
              <a:chExt cx="209520" cy="209160"/>
            </a:xfrm>
          </p:grpSpPr>
          <p:sp>
            <p:nvSpPr>
              <p:cNvPr id="1766" name=""/>
              <p:cNvSpPr/>
              <p:nvPr/>
            </p:nvSpPr>
            <p:spPr>
              <a:xfrm>
                <a:off x="3983040" y="3309840"/>
                <a:ext cx="0" cy="2091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3879720" y="3412800"/>
                <a:ext cx="20952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8" name=""/>
          <p:cNvSpPr/>
          <p:nvPr/>
        </p:nvSpPr>
        <p:spPr>
          <a:xfrm>
            <a:off x="2222640" y="4064040"/>
            <a:ext cx="4978440" cy="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154320" y="565164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511280" y="1609560"/>
            <a:ext cx="6377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How does the transductive approach wor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"/>
          <p:cNvSpPr/>
          <p:nvPr/>
        </p:nvSpPr>
        <p:spPr>
          <a:xfrm>
            <a:off x="2217600" y="2424240"/>
            <a:ext cx="4994280" cy="3392280"/>
          </a:xfrm>
          <a:prstGeom prst="rect">
            <a:avLst/>
          </a:prstGeom>
          <a:solidFill>
            <a:srgbClr val="00004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379680" y="366876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5" name=""/>
          <p:cNvGrpSpPr/>
          <p:nvPr/>
        </p:nvGrpSpPr>
        <p:grpSpPr>
          <a:xfrm>
            <a:off x="2987640" y="3313080"/>
            <a:ext cx="209520" cy="209520"/>
            <a:chOff x="2987640" y="3313080"/>
            <a:chExt cx="209520" cy="209520"/>
          </a:xfrm>
        </p:grpSpPr>
        <p:sp>
          <p:nvSpPr>
            <p:cNvPr id="1776" name=""/>
            <p:cNvSpPr/>
            <p:nvPr/>
          </p:nvSpPr>
          <p:spPr>
            <a:xfrm>
              <a:off x="3090960" y="3313080"/>
              <a:ext cx="0" cy="20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2987640" y="341640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8" name=""/>
          <p:cNvSpPr/>
          <p:nvPr/>
        </p:nvSpPr>
        <p:spPr>
          <a:xfrm flipH="1">
            <a:off x="3706920" y="4707000"/>
            <a:ext cx="209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 flipH="1">
            <a:off x="6132600" y="5126040"/>
            <a:ext cx="209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5332320" y="4707000"/>
            <a:ext cx="209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 flipH="1">
            <a:off x="4824360" y="5291280"/>
            <a:ext cx="2095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2" name=""/>
          <p:cNvGrpSpPr/>
          <p:nvPr/>
        </p:nvGrpSpPr>
        <p:grpSpPr>
          <a:xfrm>
            <a:off x="5425920" y="2792520"/>
            <a:ext cx="209520" cy="209520"/>
            <a:chOff x="5425920" y="2792520"/>
            <a:chExt cx="209520" cy="209520"/>
          </a:xfrm>
        </p:grpSpPr>
        <p:sp>
          <p:nvSpPr>
            <p:cNvPr id="1783" name=""/>
            <p:cNvSpPr/>
            <p:nvPr/>
          </p:nvSpPr>
          <p:spPr>
            <a:xfrm>
              <a:off x="5529240" y="2792520"/>
              <a:ext cx="0" cy="20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H="1">
              <a:off x="5425920" y="289584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5" name=""/>
          <p:cNvGrpSpPr/>
          <p:nvPr/>
        </p:nvGrpSpPr>
        <p:grpSpPr>
          <a:xfrm>
            <a:off x="4246560" y="2860560"/>
            <a:ext cx="209520" cy="209520"/>
            <a:chOff x="4246560" y="2860560"/>
            <a:chExt cx="209520" cy="209520"/>
          </a:xfrm>
        </p:grpSpPr>
        <p:sp>
          <p:nvSpPr>
            <p:cNvPr id="1786" name=""/>
            <p:cNvSpPr/>
            <p:nvPr/>
          </p:nvSpPr>
          <p:spPr>
            <a:xfrm>
              <a:off x="4349880" y="2860560"/>
              <a:ext cx="0" cy="20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H="1">
              <a:off x="4246560" y="296388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88" name=""/>
          <p:cNvGrpSpPr/>
          <p:nvPr/>
        </p:nvGrpSpPr>
        <p:grpSpPr>
          <a:xfrm>
            <a:off x="3879720" y="3309840"/>
            <a:ext cx="209520" cy="209520"/>
            <a:chOff x="3879720" y="3309840"/>
            <a:chExt cx="209520" cy="209520"/>
          </a:xfrm>
        </p:grpSpPr>
        <p:sp>
          <p:nvSpPr>
            <p:cNvPr id="1789" name=""/>
            <p:cNvSpPr/>
            <p:nvPr/>
          </p:nvSpPr>
          <p:spPr>
            <a:xfrm>
              <a:off x="3983040" y="3309840"/>
              <a:ext cx="0" cy="209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3879720" y="3413160"/>
              <a:ext cx="209520" cy="14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1" name=""/>
          <p:cNvSpPr/>
          <p:nvPr/>
        </p:nvSpPr>
        <p:spPr>
          <a:xfrm>
            <a:off x="2973240" y="281772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3646440" y="290664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703840" y="380844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3925800" y="516744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357800" y="5408640"/>
            <a:ext cx="12996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624560" y="4786200"/>
            <a:ext cx="12996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5513400" y="426564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237360" y="3922560"/>
            <a:ext cx="12996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5970600" y="537048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865760" y="2614680"/>
            <a:ext cx="12996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916520" y="3071880"/>
            <a:ext cx="130320" cy="131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22640" y="4064040"/>
            <a:ext cx="4978440" cy="0"/>
          </a:xfrm>
          <a:prstGeom prst="line">
            <a:avLst/>
          </a:prstGeom>
          <a:ln w="1908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 flipV="1">
            <a:off x="2235240" y="2768400"/>
            <a:ext cx="4978440" cy="2006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511280" y="1609560"/>
            <a:ext cx="6377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How does the transductive approach work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"/>
          <p:cNvSpPr/>
          <p:nvPr/>
        </p:nvSpPr>
        <p:spPr>
          <a:xfrm>
            <a:off x="379440" y="1235160"/>
            <a:ext cx="8323200" cy="499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mpirical evaluation 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Joachims 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rison between Naive Bayes, SVMs and TSV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atase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Reuters-21578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corpus (News agenc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WebKB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llection (Documents: Web pages from a universit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85760" indent="-21708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Ohsumed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corpus (Medical domain, many categor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mpressive results when only few training examples are available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.g. using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88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raining examples and testing a set of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3,299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examples, TSVM achieves the same accuracy that Naive Bayes (trained on the whole corpus of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9,603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examples!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"/>
          <p:cNvSpPr/>
          <p:nvPr/>
        </p:nvSpPr>
        <p:spPr>
          <a:xfrm>
            <a:off x="520560" y="7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887400" y="1932120"/>
            <a:ext cx="7505640" cy="32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2" name="" descr=""/>
          <p:cNvPicPr/>
          <p:nvPr/>
        </p:nvPicPr>
        <p:blipFill>
          <a:blip r:embed="rId1"/>
          <a:stretch/>
        </p:blipFill>
        <p:spPr>
          <a:xfrm>
            <a:off x="2048040" y="1168560"/>
            <a:ext cx="5140080" cy="5133960"/>
          </a:xfrm>
          <a:prstGeom prst="rect">
            <a:avLst/>
          </a:prstGeom>
          <a:ln w="0">
            <a:noFill/>
          </a:ln>
        </p:spPr>
      </p:pic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"/>
          <p:cNvSpPr/>
          <p:nvPr/>
        </p:nvSpPr>
        <p:spPr>
          <a:xfrm>
            <a:off x="520560" y="7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87400" y="1932120"/>
            <a:ext cx="7505640" cy="32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7" name="" descr=""/>
          <p:cNvPicPr/>
          <p:nvPr/>
        </p:nvPicPr>
        <p:blipFill>
          <a:blip r:embed="rId1"/>
          <a:stretch/>
        </p:blipFill>
        <p:spPr>
          <a:xfrm>
            <a:off x="1986120" y="1157400"/>
            <a:ext cx="5157720" cy="5121000"/>
          </a:xfrm>
          <a:prstGeom prst="rect">
            <a:avLst/>
          </a:prstGeom>
          <a:ln w="0">
            <a:noFill/>
          </a:ln>
        </p:spPr>
      </p:pic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801720" y="361800"/>
            <a:ext cx="7602480" cy="135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Transductive SVM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9720" y="49320"/>
            <a:ext cx="1863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&amp;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498600" y="122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Applications of TextCa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812880" y="1201680"/>
            <a:ext cx="7608960" cy="47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ocument rout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ews agencies, message (e-mail) classif.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Document filt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pam or junk e-mail, netnews, IR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(Re)organizing a document collec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xtual DB’s, Internet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pic Detection and Tracking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http://www.lsi.upc.es/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~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nlp/seminari/mlnlp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697040" y="5964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1" dur="500"/>
                                        <p:tgtEl>
                                          <p:spTgt spid="18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18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18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18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"/>
          <p:cNvSpPr/>
          <p:nvPr/>
        </p:nvSpPr>
        <p:spPr>
          <a:xfrm>
            <a:off x="7200" y="49320"/>
            <a:ext cx="11620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TextC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98600" y="122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Applications of TextCat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(2)</a:t>
            </a: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12880" y="1335240"/>
            <a:ext cx="7608960" cy="44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New opportunitie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bjective classification – closer to pragmatics (emotions, intentions, opinion polarity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IE new opportunitie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ining information from unstructured sites (blogs, user opinions on products, etc.); mining non-explicit information that has to be deduced – relation to Q&amp;A;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1697040" y="596412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1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9" dur="500"/>
                                        <p:tgtEl>
                                          <p:spTgt spid="1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9440" y="2519280"/>
            <a:ext cx="8732880" cy="270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The Classification Setting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Error, Over(under)fitting,..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3600" y="1563840"/>
            <a:ext cx="7466040" cy="431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ow training error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low true err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overfitting dilemm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96840" y="5275440"/>
            <a:ext cx="7466040" cy="131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de-off between training error and complexit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ifferent learning biases can be u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111400" y="4038480"/>
            <a:ext cx="13968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77760" y="3249720"/>
            <a:ext cx="13968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768320" y="3616200"/>
            <a:ext cx="139680" cy="149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20840" y="3298680"/>
            <a:ext cx="138240" cy="149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523960" y="3589200"/>
            <a:ext cx="140040" cy="149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500120" y="3206880"/>
            <a:ext cx="13968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9160" y="3606840"/>
            <a:ext cx="138240" cy="1490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16080" y="3597120"/>
            <a:ext cx="137880" cy="149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160" y="3952800"/>
            <a:ext cx="138240" cy="149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49440" y="3979800"/>
            <a:ext cx="13968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16040" y="4535640"/>
            <a:ext cx="137880" cy="149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12840" y="4538520"/>
            <a:ext cx="138240" cy="149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73080" y="4313160"/>
            <a:ext cx="13824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55680" y="4568760"/>
            <a:ext cx="13968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665440" y="3990960"/>
            <a:ext cx="13824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20800" y="4294080"/>
            <a:ext cx="138240" cy="147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96880" y="3827520"/>
            <a:ext cx="2330640" cy="87120"/>
          </a:xfrm>
          <a:prstGeom prst="line">
            <a:avLst/>
          </a:prstGeom>
          <a:ln w="255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79320" y="3413160"/>
            <a:ext cx="2235240" cy="958680"/>
          </a:xfrm>
          <a:custGeom>
            <a:avLst/>
            <a:gdLst/>
            <a:ahLst/>
            <a:rect l="l" t="t" r="r" b="b"/>
            <a:pathLst>
              <a:path w="1500" h="578">
                <a:moveTo>
                  <a:pt x="0" y="552"/>
                </a:moveTo>
                <a:cubicBezTo>
                  <a:pt x="119" y="283"/>
                  <a:pt x="239" y="14"/>
                  <a:pt x="395" y="7"/>
                </a:cubicBezTo>
                <a:cubicBezTo>
                  <a:pt x="551" y="0"/>
                  <a:pt x="801" y="446"/>
                  <a:pt x="939" y="512"/>
                </a:cubicBezTo>
                <a:cubicBezTo>
                  <a:pt x="1077" y="578"/>
                  <a:pt x="1130" y="466"/>
                  <a:pt x="1223" y="402"/>
                </a:cubicBezTo>
                <a:cubicBezTo>
                  <a:pt x="1316" y="338"/>
                  <a:pt x="1408" y="232"/>
                  <a:pt x="1500" y="126"/>
                </a:cubicBezTo>
              </a:path>
            </a:pathLst>
          </a:custGeom>
          <a:noFill/>
          <a:ln w="25560">
            <a:solidFill>
              <a:srgbClr val="0000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7800">
            <a:off x="-1150560" y="3387600"/>
            <a:ext cx="26985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(Müller et al., 200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3103560" y="3135240"/>
            <a:ext cx="2820960" cy="2037600"/>
            <a:chOff x="3103560" y="3135240"/>
            <a:chExt cx="2820960" cy="2037600"/>
          </a:xfrm>
        </p:grpSpPr>
        <p:sp>
          <p:nvSpPr>
            <p:cNvPr id="223" name=""/>
            <p:cNvSpPr/>
            <p:nvPr/>
          </p:nvSpPr>
          <p:spPr>
            <a:xfrm>
              <a:off x="4818240" y="4052880"/>
              <a:ext cx="129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41840" y="33526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91000" y="36781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921200" y="33973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10280" y="3654360"/>
              <a:ext cx="129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237200" y="33148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24400" y="3670200"/>
              <a:ext cx="1299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67200" y="36622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00360" y="39783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82920" y="40006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92360" y="44942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963960" y="44974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91080" y="42958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59280" y="45226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42040" y="40100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00640" y="42800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517920" y="42991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736800" y="44974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57680" y="37321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27400" y="37450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38680" y="35784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62360" y="39607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552840" y="41403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56040" y="38545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780000" y="41673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81360" y="4325760"/>
              <a:ext cx="130320" cy="132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929040" y="40165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95640" y="35146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4040" y="41511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40200" y="42656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110120" y="43560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233960" y="4164120"/>
              <a:ext cx="131760" cy="12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32440" y="39369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90840" y="44467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370400" y="42879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425840" y="41068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94240" y="44355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778280" y="43210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75320" y="44686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59360" y="42879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105520" y="41860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38560" y="44467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200480" y="42879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62400" y="43448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30800" y="44910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253120" y="411804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45000" y="4164120"/>
              <a:ext cx="131760" cy="1299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24560" y="39924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33840" y="38577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70640" y="37558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61000" y="389088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51360" y="37101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27520" y="357336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81800" y="429912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45000" y="4411800"/>
              <a:ext cx="131760" cy="131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27440" y="38149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27440" y="39736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0760" y="4006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37200" y="3871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43440" y="38829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978440" y="37926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97360" y="37465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9760" y="36338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19680" y="35654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013360" y="36226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92560" y="3463920"/>
              <a:ext cx="13032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86320" y="3600360"/>
              <a:ext cx="13176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273640" y="37702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08640" y="34066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8720" y="34862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21080" y="35877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79840" y="35082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49760" y="34527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40120" y="32940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344840" y="3430440"/>
              <a:ext cx="131760" cy="130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03600" y="33163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164120" y="34527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641760" y="35082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914640" y="32940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073400" y="3316320"/>
              <a:ext cx="13032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208400" y="31352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78320" y="3214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75160" y="333864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778200" y="31687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16520" y="31464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71840" y="34974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38360" y="3849840"/>
              <a:ext cx="13176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348000" y="4006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268800" y="416556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178080" y="40068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348000" y="369108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35320" y="3849840"/>
              <a:ext cx="131760" cy="129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94080" y="3351240"/>
              <a:ext cx="13032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90760" y="353232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608280" y="3146400"/>
              <a:ext cx="131760" cy="131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5120" y="4713120"/>
              <a:ext cx="198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66"/>
                  </a:solidFill>
                  <a:latin typeface="Tahoma"/>
                </a:rPr>
                <a:t>Under</a:t>
              </a:r>
              <a:r>
                <a:rPr b="0" lang="es-ES" sz="2400" spc="-1" strike="noStrike">
                  <a:solidFill>
                    <a:srgbClr val="003366"/>
                  </a:solidFill>
                  <a:latin typeface="Tahoma"/>
                </a:rPr>
                <a:t>fit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103560" y="3854160"/>
              <a:ext cx="2820960" cy="9828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457440" y="3497400"/>
              <a:ext cx="2122560" cy="850680"/>
            </a:xfrm>
            <a:custGeom>
              <a:avLst/>
              <a:gdLst/>
              <a:ahLst/>
              <a:rect l="l" t="t" r="r" b="b"/>
              <a:pathLst>
                <a:path w="1500" h="578">
                  <a:moveTo>
                    <a:pt x="0" y="552"/>
                  </a:moveTo>
                  <a:cubicBezTo>
                    <a:pt x="119" y="283"/>
                    <a:pt x="239" y="14"/>
                    <a:pt x="395" y="7"/>
                  </a:cubicBezTo>
                  <a:cubicBezTo>
                    <a:pt x="551" y="0"/>
                    <a:pt x="801" y="446"/>
                    <a:pt x="939" y="512"/>
                  </a:cubicBezTo>
                  <a:cubicBezTo>
                    <a:pt x="1077" y="578"/>
                    <a:pt x="1130" y="466"/>
                    <a:pt x="1223" y="402"/>
                  </a:cubicBezTo>
                  <a:cubicBezTo>
                    <a:pt x="1316" y="338"/>
                    <a:pt x="1408" y="232"/>
                    <a:pt x="1500" y="126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961240" y="3162240"/>
            <a:ext cx="2638080" cy="2009160"/>
            <a:chOff x="5961240" y="3162240"/>
            <a:chExt cx="2638080" cy="2009160"/>
          </a:xfrm>
        </p:grpSpPr>
        <p:sp>
          <p:nvSpPr>
            <p:cNvPr id="322" name=""/>
            <p:cNvSpPr/>
            <p:nvPr/>
          </p:nvSpPr>
          <p:spPr>
            <a:xfrm>
              <a:off x="7597800" y="40244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86560" y="33670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91440" y="36734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694640" y="3408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66080" y="3649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53120" y="33307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381720" y="36655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99320" y="36576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454800" y="3954600"/>
              <a:ext cx="123840" cy="122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095960" y="3975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53280" y="44388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96080" y="44416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85040" y="425304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37400" y="44658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091360" y="39844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051760" y="42372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7040" y="42559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83320" y="44416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602400" y="3724200"/>
              <a:ext cx="123840" cy="122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50160" y="37353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678720" y="3578400"/>
              <a:ext cx="123840" cy="123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607080" y="393696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410160" y="41068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89600" y="38386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622920" y="4132440"/>
              <a:ext cx="123840" cy="123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29320" y="42814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62600" y="39895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826320" y="3519360"/>
              <a:ext cx="123840" cy="122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89680" y="4118040"/>
              <a:ext cx="123840" cy="122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773760" y="422424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932520" y="43084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050240" y="41274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954840" y="391464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02440" y="439416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176960" y="4245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30960" y="40752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94680" y="43830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61440" y="4276800"/>
              <a:ext cx="12348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464600" y="4414680"/>
              <a:ext cx="12348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31000" y="4245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69240" y="41497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05880" y="439416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18200" y="4245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923240" y="4299120"/>
              <a:ext cx="122040" cy="1220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986600" y="44370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07480" y="408456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88200" y="41274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63080" y="396864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77040" y="384012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05920" y="3745080"/>
              <a:ext cx="123840" cy="123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389800" y="387180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475840" y="37018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58120" y="35751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17080" y="4255920"/>
              <a:ext cx="1220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188200" y="4362480"/>
              <a:ext cx="123840" cy="123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19960" y="38005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19960" y="394956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770960" y="398160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897680" y="385452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1560" y="386388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750080" y="3780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78720" y="37368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440480" y="36306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01040" y="35672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781760" y="36194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56640" y="34704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132760" y="3598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026560" y="3757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153280" y="34178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94520" y="34923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32680" y="35877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81720" y="35132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440480" y="3460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26160" y="3311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153200" y="34383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02600" y="33321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83280" y="34606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494400" y="35132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750000" y="33116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897600" y="33321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26120" y="31622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84880" y="32367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31040" y="3354480"/>
              <a:ext cx="1220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621480" y="319392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45400" y="31734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34200" y="35020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02520" y="38322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18280" y="3981600"/>
              <a:ext cx="1220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43760" y="4130640"/>
              <a:ext cx="12384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58080" y="3981600"/>
              <a:ext cx="123480" cy="123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218280" y="3683160"/>
              <a:ext cx="1220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11720" y="3832200"/>
              <a:ext cx="12240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259680" y="3363840"/>
              <a:ext cx="12348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64280" y="35352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462720" y="31734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961240" y="3838320"/>
              <a:ext cx="2636640" cy="9180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19800" y="3502080"/>
              <a:ext cx="1995480" cy="799920"/>
            </a:xfrm>
            <a:custGeom>
              <a:avLst/>
              <a:gdLst/>
              <a:ahLst/>
              <a:rect l="l" t="t" r="r" b="b"/>
              <a:pathLst>
                <a:path w="1500" h="578">
                  <a:moveTo>
                    <a:pt x="0" y="552"/>
                  </a:moveTo>
                  <a:cubicBezTo>
                    <a:pt x="119" y="283"/>
                    <a:pt x="239" y="14"/>
                    <a:pt x="395" y="7"/>
                  </a:cubicBezTo>
                  <a:cubicBezTo>
                    <a:pt x="551" y="0"/>
                    <a:pt x="801" y="446"/>
                    <a:pt x="939" y="512"/>
                  </a:cubicBezTo>
                  <a:cubicBezTo>
                    <a:pt x="1077" y="578"/>
                    <a:pt x="1130" y="466"/>
                    <a:pt x="1223" y="402"/>
                  </a:cubicBezTo>
                  <a:cubicBezTo>
                    <a:pt x="1316" y="338"/>
                    <a:pt x="1408" y="232"/>
                    <a:pt x="1500" y="126"/>
                  </a:cubicBezTo>
                </a:path>
              </a:pathLst>
            </a:custGeom>
            <a:noFill/>
            <a:ln w="25560">
              <a:solidFill>
                <a:srgbClr val="0000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390000" y="4711680"/>
              <a:ext cx="17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66"/>
                  </a:solidFill>
                  <a:latin typeface="Tahoma"/>
                </a:rPr>
                <a:t>Over</a:t>
              </a:r>
              <a:r>
                <a:rPr b="0" lang="es-ES" sz="2400" spc="-1" strike="noStrike">
                  <a:solidFill>
                    <a:srgbClr val="003366"/>
                  </a:solidFill>
                  <a:latin typeface="Tahoma"/>
                </a:rPr>
                <a:t>fitt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1030320" y="1344600"/>
            <a:ext cx="7810560" cy="44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049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Statistical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learning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HMM, Bayesian Networks, ME, CRF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raditional methods from </a:t>
            </a: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Artificial Intelligence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ML, AI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cision trees/lists, exemplar-based learning, rule induction, neural network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9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thods from </a:t>
            </a: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Computational Learning  Theory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LT/SLT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Winnow, AdaBoost, SVM’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2056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Learning Paradigm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068480" y="1573200"/>
            <a:ext cx="7272360" cy="443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049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ssifier</a:t>
            </a: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 combination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agging, Boosting, Randomization, ECOC, Stack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049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ahoma"/>
              </a:rPr>
              <a:t>Semi-supervised learning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: learning from labelled and unlabelled examp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Aft>
                <a:spcPts val="1800"/>
              </a:spcAft>
              <a:buClr>
                <a:srgbClr val="99ccff"/>
              </a:buClr>
              <a:buSzPct val="10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ootstrapping, EM, Transductive learning (SVM’s, AdaBoost), Co-Training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20560" y="277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00"/>
                </a:solidFill>
                <a:latin typeface="Tahoma"/>
              </a:rPr>
              <a:t>Learning Paradig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87520" y="25668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cision Tre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14360" y="1278000"/>
            <a:ext cx="8166240" cy="482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74040" indent="-37404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cision trees are a way to represent rules underlying training data, with hierarchical structures that recursively partition the dat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have been used by many research communities (Pattern Recognition, Statistics, ML, etc.) for data exploration with some of the following purposes: Description,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Classific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nd Generaliz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Aft>
                <a:spcPts val="2401"/>
              </a:spcAft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rom a machine-learning perspective: Decision Trees ar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i="1" lang="en-GB" sz="1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ary branching trees that represent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classification rul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classifying the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object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a certain domain into a set of mutually exclusive </a:t>
            </a:r>
            <a:r>
              <a:rPr b="0" i="1" lang="en-GB" sz="2400" spc="-1" strike="noStrike">
                <a:solidFill>
                  <a:srgbClr val="ff9900"/>
                </a:solidFill>
                <a:latin typeface="Tahoma"/>
              </a:rPr>
              <a:t>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87520" y="25668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Decision Tre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7720" y="1357200"/>
            <a:ext cx="7785000" cy="424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78000" indent="-37800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cquisition:                                           Top-Down Induction of Decision Trees (TDID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ystem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RT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Breiman et al. 84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D3, C4.5, C5.0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Quinlan 86,93,98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SISTAN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SISTAN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R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estnik et al. 87; Kononenko et al.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20" y="49320"/>
            <a:ext cx="122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L4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2560" y="1147320"/>
            <a:ext cx="7616880" cy="104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re are many general-purpose definitions of Machine Learning (or artificial learning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896760" y="2173320"/>
            <a:ext cx="6750000" cy="941400"/>
            <a:chOff x="896760" y="2173320"/>
            <a:chExt cx="6750000" cy="941400"/>
          </a:xfrm>
        </p:grpSpPr>
        <p:sp>
          <p:nvSpPr>
            <p:cNvPr id="63" name=""/>
            <p:cNvSpPr/>
            <p:nvPr/>
          </p:nvSpPr>
          <p:spPr>
            <a:xfrm>
              <a:off x="896760" y="2173320"/>
              <a:ext cx="6750000" cy="94140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85680" y="2284560"/>
              <a:ext cx="6432480" cy="703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ffffff"/>
                  </a:solidFill>
                  <a:latin typeface="Tahoma"/>
                </a:rPr>
                <a:t>Making a computer automatically acquire some kind of knowledge from a concrete data doma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690480" y="3449520"/>
            <a:ext cx="7570800" cy="264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arners are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computer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: we study learning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algorithm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esources are scarce: time, memory, data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t has (almost) nothing to do with: Cognitive science, neuroscience, theory of scientific discovery and research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iological plausibility is welcome but not the main go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25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630360" y="193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Machine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701640" y="155520"/>
            <a:ext cx="777240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n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048120" y="950760"/>
            <a:ext cx="4695840" cy="5283360"/>
            <a:chOff x="3048120" y="950760"/>
            <a:chExt cx="4695840" cy="5283360"/>
          </a:xfrm>
        </p:grpSpPr>
        <p:sp>
          <p:nvSpPr>
            <p:cNvPr id="434" name=""/>
            <p:cNvSpPr/>
            <p:nvPr/>
          </p:nvSpPr>
          <p:spPr>
            <a:xfrm>
              <a:off x="3048120" y="950760"/>
              <a:ext cx="4695840" cy="528336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3997800" y="1263600"/>
              <a:ext cx="2598480" cy="4513320"/>
              <a:chOff x="3997800" y="1263600"/>
              <a:chExt cx="2598480" cy="4513320"/>
            </a:xfrm>
          </p:grpSpPr>
          <p:sp>
            <p:nvSpPr>
              <p:cNvPr id="436" name=""/>
              <p:cNvSpPr/>
              <p:nvPr/>
            </p:nvSpPr>
            <p:spPr>
              <a:xfrm>
                <a:off x="5213520" y="1430280"/>
                <a:ext cx="365040" cy="3650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073400" y="2222640"/>
                <a:ext cx="36540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840200" y="2243160"/>
                <a:ext cx="36540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73800" y="5411880"/>
                <a:ext cx="365040" cy="365040"/>
              </a:xfrm>
              <a:prstGeom prst="ellipse">
                <a:avLst/>
              </a:prstGeom>
              <a:solidFill>
                <a:srgbClr val="cc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70560" y="3294000"/>
                <a:ext cx="36504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335560" y="3303720"/>
                <a:ext cx="36504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127920" y="2217600"/>
                <a:ext cx="365040" cy="36540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145120" y="4389480"/>
                <a:ext cx="365040" cy="365040"/>
              </a:xfrm>
              <a:prstGeom prst="ellipse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A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872320" y="4359240"/>
                <a:ext cx="365040" cy="365040"/>
              </a:xfrm>
              <a:prstGeom prst="ellipse">
                <a:avLst/>
              </a:prstGeom>
              <a:solidFill>
                <a:srgbClr val="cc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746600" y="5397480"/>
                <a:ext cx="365040" cy="365040"/>
              </a:xfrm>
              <a:prstGeom prst="ellipse">
                <a:avLst/>
              </a:prstGeom>
              <a:solidFill>
                <a:srgbClr val="cc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46" name=""/>
              <p:cNvCxnSpPr>
                <a:stCxn id="436" idx="4"/>
                <a:endCxn id="437" idx="0"/>
              </p:cNvCxnSpPr>
              <p:nvPr/>
            </p:nvCxnSpPr>
            <p:spPr>
              <a:xfrm flipH="1">
                <a:off x="4255920" y="1794960"/>
                <a:ext cx="1140480" cy="42804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47" name=""/>
              <p:cNvCxnSpPr>
                <a:stCxn id="436" idx="4"/>
                <a:endCxn id="438" idx="0"/>
              </p:cNvCxnSpPr>
              <p:nvPr/>
            </p:nvCxnSpPr>
            <p:spPr>
              <a:xfrm flipH="1">
                <a:off x="5022000" y="1795320"/>
                <a:ext cx="374040" cy="44856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48" name=""/>
              <p:cNvCxnSpPr>
                <a:stCxn id="436" idx="4"/>
                <a:endCxn id="442" idx="0"/>
              </p:cNvCxnSpPr>
              <p:nvPr/>
            </p:nvCxnSpPr>
            <p:spPr>
              <a:xfrm>
                <a:off x="5396040" y="1794960"/>
                <a:ext cx="915120" cy="42300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49" name=""/>
              <p:cNvCxnSpPr>
                <a:endCxn id="440" idx="0"/>
              </p:cNvCxnSpPr>
              <p:nvPr/>
            </p:nvCxnSpPr>
            <p:spPr>
              <a:xfrm flipH="1">
                <a:off x="4752360" y="2607840"/>
                <a:ext cx="270360" cy="6865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0" name=""/>
              <p:cNvCxnSpPr>
                <a:stCxn id="438" idx="4"/>
                <a:endCxn id="441" idx="0"/>
              </p:cNvCxnSpPr>
              <p:nvPr/>
            </p:nvCxnSpPr>
            <p:spPr>
              <a:xfrm>
                <a:off x="5022720" y="2608200"/>
                <a:ext cx="496080" cy="69624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1" name=""/>
              <p:cNvCxnSpPr>
                <a:stCxn id="441" idx="4"/>
                <a:endCxn id="443" idx="0"/>
              </p:cNvCxnSpPr>
              <p:nvPr/>
            </p:nvCxnSpPr>
            <p:spPr>
              <a:xfrm flipH="1">
                <a:off x="5326920" y="3668760"/>
                <a:ext cx="191160" cy="72144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2" name=""/>
              <p:cNvCxnSpPr>
                <a:stCxn id="441" idx="4"/>
                <a:endCxn id="444" idx="0"/>
              </p:cNvCxnSpPr>
              <p:nvPr/>
            </p:nvCxnSpPr>
            <p:spPr>
              <a:xfrm>
                <a:off x="5517720" y="3668760"/>
                <a:ext cx="537480" cy="68184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453" name=""/>
              <p:cNvSpPr/>
              <p:nvPr/>
            </p:nvSpPr>
            <p:spPr>
              <a:xfrm>
                <a:off x="4011480" y="5394240"/>
                <a:ext cx="365400" cy="365400"/>
              </a:xfrm>
              <a:prstGeom prst="ellipse">
                <a:avLst/>
              </a:prstGeom>
              <a:solidFill>
                <a:srgbClr val="cc66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ahoma"/>
                  </a:rPr>
                  <a:t>C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454" name=""/>
              <p:cNvCxnSpPr>
                <a:stCxn id="443" idx="4"/>
                <a:endCxn id="453" idx="0"/>
              </p:cNvCxnSpPr>
              <p:nvPr/>
            </p:nvCxnSpPr>
            <p:spPr>
              <a:xfrm flipH="1">
                <a:off x="4194000" y="4754160"/>
                <a:ext cx="1134000" cy="63108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5" name=""/>
              <p:cNvCxnSpPr>
                <a:stCxn id="443" idx="4"/>
                <a:endCxn id="445" idx="0"/>
              </p:cNvCxnSpPr>
              <p:nvPr/>
            </p:nvCxnSpPr>
            <p:spPr>
              <a:xfrm flipH="1">
                <a:off x="4928400" y="4754520"/>
                <a:ext cx="399240" cy="63432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cxnSp>
            <p:nvCxnSpPr>
              <p:cNvPr id="456" name=""/>
              <p:cNvCxnSpPr>
                <a:stCxn id="443" idx="4"/>
                <a:endCxn id="439" idx="0"/>
              </p:cNvCxnSpPr>
              <p:nvPr/>
            </p:nvCxnSpPr>
            <p:spPr>
              <a:xfrm>
                <a:off x="5327280" y="4754160"/>
                <a:ext cx="329040" cy="648360"/>
              </a:xfrm>
              <a:prstGeom prst="straightConnector1">
                <a:avLst/>
              </a:prstGeom>
              <a:ln w="19080">
                <a:solidFill>
                  <a:srgbClr val="ffffff"/>
                </a:solidFill>
                <a:miter/>
                <a:tailEnd len="lg" type="triangle" w="med"/>
              </a:ln>
            </p:spPr>
          </p:cxnSp>
          <p:sp>
            <p:nvSpPr>
              <p:cNvPr id="457" name=""/>
              <p:cNvSpPr/>
              <p:nvPr/>
            </p:nvSpPr>
            <p:spPr>
              <a:xfrm>
                <a:off x="4550040" y="3633840"/>
                <a:ext cx="42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135840" y="2624040"/>
                <a:ext cx="460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3997800" y="2592360"/>
                <a:ext cx="42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440680" y="2133720"/>
                <a:ext cx="427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536000" y="16160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183640" y="18986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760000" y="16509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96600" y="264168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539240" y="269100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4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75640" y="370836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435920" y="4791240"/>
                <a:ext cx="3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Tahoma"/>
                  </a:rPr>
                  <a:t>v</a:t>
                </a:r>
                <a:r>
                  <a:rPr b="0" lang="en-GB" sz="1200" spc="-1" strike="noStrike">
                    <a:solidFill>
                      <a:srgbClr val="ffffff"/>
                    </a:solidFill>
                    <a:latin typeface="Tahoma"/>
                  </a:rPr>
                  <a:t>7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397480" y="1263600"/>
                <a:ext cx="0" cy="182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9" name=""/>
          <p:cNvGrpSpPr/>
          <p:nvPr/>
        </p:nvGrpSpPr>
        <p:grpSpPr>
          <a:xfrm>
            <a:off x="268200" y="3214800"/>
            <a:ext cx="4041720" cy="2949480"/>
            <a:chOff x="268200" y="3214800"/>
            <a:chExt cx="4041720" cy="2949480"/>
          </a:xfrm>
        </p:grpSpPr>
        <p:sp>
          <p:nvSpPr>
            <p:cNvPr id="470" name=""/>
            <p:cNvSpPr/>
            <p:nvPr/>
          </p:nvSpPr>
          <p:spPr>
            <a:xfrm>
              <a:off x="268200" y="3724560"/>
              <a:ext cx="4041720" cy="243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398680" y="4321440"/>
              <a:ext cx="70776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249200" y="42433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sma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79200" y="426060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bi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498320" y="4311720"/>
              <a:ext cx="773280" cy="43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92160" y="4746960"/>
              <a:ext cx="99036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HA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03000" y="5678640"/>
              <a:ext cx="62568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p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916920" y="5248440"/>
              <a:ext cx="498600" cy="43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95160" y="5258160"/>
              <a:ext cx="31428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5440" y="52146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463480" y="52099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r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787400" y="3826080"/>
              <a:ext cx="99072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IZ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139400" y="3214800"/>
              <a:ext cx="222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Decision Tre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51040" y="4759560"/>
              <a:ext cx="99036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COL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2709360" y="5274000"/>
              <a:ext cx="312840" cy="393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43240" y="5270760"/>
              <a:ext cx="350640" cy="40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08120" y="5216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tria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36480" y="52228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bl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587240" y="5678640"/>
              <a:ext cx="64764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22440" y="5675400"/>
              <a:ext cx="62532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p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19200" y="5672160"/>
              <a:ext cx="62568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61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74560" y="270000"/>
            <a:ext cx="777240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Learning Decision Tre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630800" y="979560"/>
            <a:ext cx="5260680" cy="2475000"/>
            <a:chOff x="1630800" y="979560"/>
            <a:chExt cx="5260680" cy="2475000"/>
          </a:xfrm>
        </p:grpSpPr>
        <p:sp>
          <p:nvSpPr>
            <p:cNvPr id="494" name=""/>
            <p:cNvSpPr/>
            <p:nvPr/>
          </p:nvSpPr>
          <p:spPr>
            <a:xfrm>
              <a:off x="1630800" y="979560"/>
              <a:ext cx="1370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Tahoma"/>
                </a:rPr>
                <a:t>Train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1805040" y="1471680"/>
              <a:ext cx="5086440" cy="1982880"/>
              <a:chOff x="1805040" y="1471680"/>
              <a:chExt cx="5086440" cy="1982880"/>
            </a:xfrm>
          </p:grpSpPr>
          <p:sp>
            <p:nvSpPr>
              <p:cNvPr id="496" name=""/>
              <p:cNvSpPr/>
              <p:nvPr/>
            </p:nvSpPr>
            <p:spPr>
              <a:xfrm>
                <a:off x="1805040" y="1471680"/>
                <a:ext cx="5086440" cy="19828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233800" y="1876320"/>
                <a:ext cx="1082520" cy="1135080"/>
              </a:xfrm>
              <a:custGeom>
                <a:avLst/>
                <a:gdLst>
                  <a:gd name="textAreaLeft" fmla="*/ 52560 w 1082520"/>
                  <a:gd name="textAreaRight" fmla="*/ 1029960 w 1082520"/>
                  <a:gd name="textAreaTop" fmla="*/ 52560 h 1135080"/>
                  <a:gd name="textAreaBottom" fmla="*/ 1082520 h 1135080"/>
                </a:gdLst>
                <a:ahLst/>
                <a:rect l="textAreaLeft" t="textAreaTop" r="textAreaRight" b="textAreaBottom"/>
                <a:pathLst>
                  <a:path w="21600" h="22648">
                    <a:moveTo>
                      <a:pt x="3600" y="0"/>
                    </a:moveTo>
                    <a:arcTo wR="3600" hR="3600" stAng="16200000" swAng="-5400000"/>
                    <a:lnTo>
                      <a:pt x="0" y="19048"/>
                    </a:lnTo>
                    <a:arcTo wR="3600" hR="3600" stAng="10800000" swAng="-5400000"/>
                    <a:lnTo>
                      <a:pt x="18000" y="2264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Training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Se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57320" y="2192400"/>
                <a:ext cx="106776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9900"/>
                    </a:solidFill>
                    <a:latin typeface="Tahoma"/>
                  </a:rPr>
                  <a:t>TDID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431160" y="21798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253120" y="1679760"/>
                <a:ext cx="1133640" cy="153972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ff"/>
                    </a:solidFill>
                    <a:latin typeface="Tahoma"/>
                  </a:rPr>
                  <a:t>D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22920" y="2224080"/>
                <a:ext cx="419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"/>
          <p:cNvGrpSpPr/>
          <p:nvPr/>
        </p:nvGrpSpPr>
        <p:grpSpPr>
          <a:xfrm>
            <a:off x="1737720" y="3605040"/>
            <a:ext cx="5139360" cy="2473200"/>
            <a:chOff x="1737720" y="3605040"/>
            <a:chExt cx="5139360" cy="2473200"/>
          </a:xfrm>
        </p:grpSpPr>
        <p:sp>
          <p:nvSpPr>
            <p:cNvPr id="503" name=""/>
            <p:cNvSpPr/>
            <p:nvPr/>
          </p:nvSpPr>
          <p:spPr>
            <a:xfrm>
              <a:off x="1737720" y="3605040"/>
              <a:ext cx="77796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Tahoma"/>
                </a:rPr>
                <a:t>Te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4" name=""/>
            <p:cNvGrpSpPr/>
            <p:nvPr/>
          </p:nvGrpSpPr>
          <p:grpSpPr>
            <a:xfrm>
              <a:off x="1791000" y="4095720"/>
              <a:ext cx="5086080" cy="1982520"/>
              <a:chOff x="1791000" y="4095720"/>
              <a:chExt cx="5086080" cy="1982520"/>
            </a:xfrm>
          </p:grpSpPr>
          <p:sp>
            <p:nvSpPr>
              <p:cNvPr id="505" name=""/>
              <p:cNvSpPr/>
              <p:nvPr/>
            </p:nvSpPr>
            <p:spPr>
              <a:xfrm>
                <a:off x="1791000" y="4095720"/>
                <a:ext cx="5086080" cy="198252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986360" y="4873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=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811680" y="4327200"/>
                <a:ext cx="1132920" cy="153936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ff"/>
                    </a:solidFill>
                    <a:latin typeface="Tahoma"/>
                  </a:rPr>
                  <a:t>D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157480" y="4882680"/>
                <a:ext cx="1318680" cy="4172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ff"/>
                    </a:solidFill>
                    <a:latin typeface="Tahoma"/>
                  </a:rPr>
                  <a:t>Exampl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586320" y="48430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+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402520" y="4895640"/>
                <a:ext cx="91512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9900"/>
                    </a:solidFill>
                    <a:latin typeface="Tahoma"/>
                  </a:rPr>
                  <a:t>Class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1" name=""/>
          <p:cNvSpPr/>
          <p:nvPr/>
        </p:nvSpPr>
        <p:spPr>
          <a:xfrm>
            <a:off x="61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 rot="16200000">
            <a:off x="-1222920" y="2802600"/>
            <a:ext cx="604836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General Induction Algorith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171880" y="290520"/>
            <a:ext cx="5545080" cy="6251040"/>
            <a:chOff x="2171880" y="290520"/>
            <a:chExt cx="5545080" cy="6251040"/>
          </a:xfrm>
        </p:grpSpPr>
        <p:sp>
          <p:nvSpPr>
            <p:cNvPr id="514" name=""/>
            <p:cNvSpPr/>
            <p:nvPr/>
          </p:nvSpPr>
          <p:spPr>
            <a:xfrm>
              <a:off x="2171880" y="290520"/>
              <a:ext cx="5545080" cy="5867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304000" y="385560"/>
              <a:ext cx="5258880" cy="61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functio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TDIDT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(X:set-of-examples; A:set-of-feature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var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: 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: decision-tree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X’: set-of-examples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’: set-of-features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if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(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stopping_criterion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))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th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create_leaf_tree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l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feature_selection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A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create_tree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 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for-all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val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values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X’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select_examples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val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’ := A - {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}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TDIDT</a:t>
              </a:r>
              <a:r>
                <a:rPr b="0" i="1" lang="en-GB" sz="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’,A’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add_branch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val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f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i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return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functio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 rot="16200000">
            <a:off x="-1222920" y="2802600"/>
            <a:ext cx="604836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General Induction Algorithm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171880" y="290520"/>
            <a:ext cx="5545080" cy="6251040"/>
            <a:chOff x="2171880" y="290520"/>
            <a:chExt cx="5545080" cy="6251040"/>
          </a:xfrm>
        </p:grpSpPr>
        <p:sp>
          <p:nvSpPr>
            <p:cNvPr id="519" name=""/>
            <p:cNvSpPr/>
            <p:nvPr/>
          </p:nvSpPr>
          <p:spPr>
            <a:xfrm>
              <a:off x="2171880" y="290520"/>
              <a:ext cx="5545080" cy="5867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304000" y="385560"/>
              <a:ext cx="5258880" cy="61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functio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TDIDT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(X:set-of-examples; A:set-of-features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var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: 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: decision-tree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X’: set-of-examples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’: set-of-features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va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if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(</a:t>
              </a:r>
              <a:r>
                <a:rPr b="1" i="1" lang="en-GB" sz="1600" spc="-1" strike="noStrike">
                  <a:solidFill>
                    <a:srgbClr val="ffff00"/>
                  </a:solidFill>
                  <a:latin typeface="Tahoma"/>
                </a:rPr>
                <a:t>stopping_criterion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))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the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create_leaf_tree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l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1" i="1" lang="en-GB" sz="1600" spc="-1" strike="noStrike">
                  <a:solidFill>
                    <a:srgbClr val="ffff00"/>
                  </a:solidFill>
                  <a:latin typeface="Tahoma"/>
                </a:rPr>
                <a:t>feature_selection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A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create_tree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 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for-all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val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values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X’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select_examples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,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val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A’ := A - {a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max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}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TDIDT</a:t>
              </a:r>
              <a:r>
                <a:rPr b="0" i="1" lang="en-GB" sz="8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X’,A’)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:= </a:t>
              </a:r>
              <a:r>
                <a:rPr b="0" i="1" lang="en-GB" sz="1600" spc="-1" strike="noStrike">
                  <a:solidFill>
                    <a:srgbClr val="ffffff"/>
                  </a:solidFill>
                  <a:latin typeface="Tahoma"/>
                </a:rPr>
                <a:t>add_branch</a:t>
              </a:r>
              <a:r>
                <a:rPr b="0" i="1" lang="en-GB" sz="1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,val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f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if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return</a:t>
              </a:r>
              <a:r>
                <a:rPr b="1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(tree</a:t>
              </a:r>
              <a:r>
                <a:rPr b="0" lang="en-GB" sz="16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end-function</a:t>
              </a: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0640" y="425160"/>
            <a:ext cx="7772400" cy="94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Feature Selection Criteri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47720" y="1349280"/>
            <a:ext cx="7772400" cy="5067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unctions derived from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Information Theor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ormation Gain, Gain Ratio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Quinlan 8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unctions derived from Distance Measu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ini Diversity Index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Breiman et al. 8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LM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López de Mántaras 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atistically-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hi-square test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estito &amp; Dillon 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ymmetrical Tau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Zhou &amp; Dillon 9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0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IEF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-IG: variant of 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LIEF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Kononenko 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98320" y="493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Information Gai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155520" y="1782720"/>
            <a:ext cx="8810640" cy="3979800"/>
          </a:xfrm>
          <a:prstGeom prst="rect">
            <a:avLst/>
          </a:prstGeom>
          <a:ln w="0">
            <a:noFill/>
          </a:ln>
        </p:spPr>
      </p:pic>
      <p:sp>
        <p:nvSpPr>
          <p:cNvPr id="528" name=""/>
          <p:cNvSpPr/>
          <p:nvPr/>
        </p:nvSpPr>
        <p:spPr>
          <a:xfrm>
            <a:off x="5326920" y="1147680"/>
            <a:ext cx="143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Quinlan7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25360" y="1835280"/>
            <a:ext cx="8744040" cy="40575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422320" y="1122480"/>
            <a:ext cx="143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Quinlan7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52320" y="49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Information Gai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91640" y="66600"/>
            <a:ext cx="7216920" cy="1062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Gain Rati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544680" y="1096920"/>
            <a:ext cx="8316720" cy="524052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5814360" y="571680"/>
            <a:ext cx="1430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Quinlan86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87520" y="333360"/>
            <a:ext cx="7772400" cy="830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xtensions of D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47800" y="1682640"/>
            <a:ext cx="7773840" cy="435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Pruning 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pre/pos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inimize the effect of the greedy approach: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lookahe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Non-line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spl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Combin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of multiple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Incremental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learning (on-lin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843800" y="847800"/>
            <a:ext cx="15613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00"/>
                </a:solidFill>
                <a:latin typeface="Tahoma"/>
              </a:rPr>
              <a:t>(Murthy 9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480" y="520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xample</a:t>
            </a: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: POS Tagging using DT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63480" y="2251080"/>
            <a:ext cx="7395480" cy="2861640"/>
            <a:chOff x="663480" y="2251080"/>
            <a:chExt cx="7395480" cy="2861640"/>
          </a:xfrm>
        </p:grpSpPr>
        <p:sp>
          <p:nvSpPr>
            <p:cNvPr id="544" name=""/>
            <p:cNvSpPr/>
            <p:nvPr/>
          </p:nvSpPr>
          <p:spPr>
            <a:xfrm>
              <a:off x="1050840" y="2751120"/>
              <a:ext cx="6994440" cy="179064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63480" y="2952720"/>
              <a:ext cx="7258320" cy="1263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3200" spc="-1" strike="noStrike">
                  <a:solidFill>
                    <a:srgbClr val="ffffff"/>
                  </a:solidFill>
                  <a:latin typeface="Times New Roman"/>
                </a:rPr>
                <a:t>He was </a:t>
              </a:r>
              <a:r>
                <a:rPr b="1" i="1" lang="es-ES" sz="3200" spc="-1" strike="noStrike">
                  <a:solidFill>
                    <a:srgbClr val="ff9900"/>
                  </a:solidFill>
                  <a:latin typeface="Times New Roman"/>
                </a:rPr>
                <a:t>shot</a:t>
              </a:r>
              <a:r>
                <a:rPr b="1" i="1" lang="es-ES" sz="3200" spc="-1" strike="noStrike">
                  <a:solidFill>
                    <a:srgbClr val="ffffff"/>
                  </a:solidFill>
                  <a:latin typeface="Times New Roman"/>
                </a:rPr>
                <a:t> in the </a:t>
              </a:r>
              <a:r>
                <a:rPr b="1" i="1" lang="es-ES" sz="3200" spc="-1" strike="noStrike">
                  <a:solidFill>
                    <a:srgbClr val="ff9900"/>
                  </a:solidFill>
                  <a:latin typeface="Times New Roman"/>
                </a:rPr>
                <a:t>hand</a:t>
              </a:r>
              <a:r>
                <a:rPr b="1" i="1" lang="es-ES" sz="3200" spc="-1" strike="noStrike">
                  <a:solidFill>
                    <a:srgbClr val="ffffff"/>
                  </a:solidFill>
                  <a:latin typeface="Times New Roman"/>
                </a:rPr>
                <a:t> as he </a:t>
              </a:r>
              <a:r>
                <a:rPr b="1" i="1" lang="es-ES" sz="3200" spc="-1" strike="noStrike">
                  <a:solidFill>
                    <a:srgbClr val="ff9900"/>
                  </a:solidFill>
                  <a:latin typeface="Times New Roman"/>
                </a:rPr>
                <a:t>chased</a:t>
              </a:r>
              <a:r>
                <a:rPr b="1" i="1" lang="es-ES" sz="3200" spc="-1" strike="noStrike">
                  <a:solidFill>
                    <a:srgbClr val="ffffff"/>
                  </a:solidFill>
                  <a:latin typeface="Times New Roman"/>
                </a:rPr>
                <a:t> the robbers in the back stree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58960" y="3543480"/>
              <a:ext cx="825480" cy="1104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c0c0c0"/>
                  </a:solidFill>
                  <a:latin typeface="Tahoma"/>
                </a:rPr>
                <a:t>N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ffff"/>
                  </a:solidFill>
                  <a:latin typeface="Tahoma"/>
                </a:rPr>
                <a:t>V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550200" y="3556080"/>
              <a:ext cx="1081080" cy="11048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c0c0c0"/>
                  </a:solidFill>
                  <a:latin typeface="Tahoma"/>
                </a:rPr>
                <a:t>JJ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ffff"/>
                  </a:solidFill>
                  <a:latin typeface="Tahoma"/>
                </a:rPr>
                <a:t>V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565520" y="3559320"/>
              <a:ext cx="873360" cy="10810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ffff"/>
                  </a:solidFill>
                  <a:latin typeface="Tahoma"/>
                </a:rPr>
                <a:t>N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c0c0c0"/>
                  </a:solidFill>
                  <a:latin typeface="Tahoma"/>
                </a:rPr>
                <a:t>V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21120" y="4229280"/>
              <a:ext cx="40644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860560" y="3927600"/>
              <a:ext cx="452520" cy="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913440" y="3949560"/>
              <a:ext cx="395280" cy="11160"/>
            </a:xfrm>
            <a:prstGeom prst="line">
              <a:avLst/>
            </a:prstGeom>
            <a:ln w="507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299480" y="4775040"/>
              <a:ext cx="3759480" cy="337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(</a:t>
              </a:r>
              <a:r>
                <a:rPr b="0" i="1" lang="es-ES" sz="2000" spc="-1" strike="noStrike">
                  <a:solidFill>
                    <a:srgbClr val="ffffff"/>
                  </a:solidFill>
                  <a:latin typeface="Tahoma"/>
                </a:rPr>
                <a:t>The Wall Street Journal Corpus</a:t>
              </a:r>
              <a:r>
                <a:rPr b="0" lang="es-ES" sz="20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987120" y="2251080"/>
              <a:ext cx="2096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POS Taggin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30360" y="193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Machine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2320" y="1274760"/>
            <a:ext cx="7662960" cy="2959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... but what fo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30000"/>
              </a:lnSpc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perform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some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articular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a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30000"/>
              </a:lnSpc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o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reac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to environmental inpu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lnSpc>
                <a:spcPct val="130000"/>
              </a:lnSpc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Concept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learning from dat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modell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concepts underlying da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predicting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unseen observa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compact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the knowledge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repres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51560" indent="-210240">
              <a:lnSpc>
                <a:spcPct val="130000"/>
              </a:lnSpc>
              <a:buClr>
                <a:srgbClr val="99cc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9900"/>
                </a:solidFill>
                <a:latin typeface="Tahoma"/>
              </a:rPr>
              <a:t>knowledge discovery</a:t>
            </a:r>
            <a:r>
              <a:rPr b="0" lang="es-ES_tradnl" sz="1800" spc="-1" strike="noStrike">
                <a:solidFill>
                  <a:srgbClr val="ffffff"/>
                </a:solidFill>
                <a:latin typeface="Tahoma"/>
              </a:rPr>
              <a:t> for expert system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4616280"/>
            <a:ext cx="7835760" cy="155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e will concentrate 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Supervised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inductiv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learning for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20" y="49320"/>
            <a:ext cx="122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L4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"/>
          <p:cNvGrpSpPr/>
          <p:nvPr/>
        </p:nvGrpSpPr>
        <p:grpSpPr>
          <a:xfrm>
            <a:off x="4038480" y="1955880"/>
            <a:ext cx="2286000" cy="3123720"/>
            <a:chOff x="4038480" y="1955880"/>
            <a:chExt cx="2286000" cy="3123720"/>
          </a:xfrm>
        </p:grpSpPr>
        <p:sp>
          <p:nvSpPr>
            <p:cNvPr id="555" name=""/>
            <p:cNvSpPr/>
            <p:nvPr/>
          </p:nvSpPr>
          <p:spPr>
            <a:xfrm>
              <a:off x="4038480" y="1955880"/>
              <a:ext cx="2286000" cy="1295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anguage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29200" y="33271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08480" y="4012920"/>
              <a:ext cx="1846080" cy="106668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Disambiguation</a:t>
              </a: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Algorith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3868560" y="1727280"/>
            <a:ext cx="2590920" cy="426708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4920" y="4013280"/>
            <a:ext cx="1066680" cy="114300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840360" y="4013280"/>
            <a:ext cx="1067040" cy="114300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63880" y="4089240"/>
            <a:ext cx="1587240" cy="9306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628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7920" y="439416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98336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8465040" y="431712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23088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028760" y="524592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 ta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976680" y="1203480"/>
            <a:ext cx="2669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Màrquez, PhD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OS Tagging using Decision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4038480" y="1955880"/>
            <a:ext cx="2286000" cy="12952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029200" y="332748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308480" y="4013280"/>
            <a:ext cx="1846080" cy="10666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isambigua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3868560" y="1727280"/>
            <a:ext cx="2590920" cy="4267080"/>
          </a:xfrm>
          <a:prstGeom prst="rect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04920" y="4013280"/>
            <a:ext cx="1066680" cy="114300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840360" y="4013280"/>
            <a:ext cx="1067040" cy="114300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63880" y="4089240"/>
            <a:ext cx="1587240" cy="9306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71628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447920" y="439416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98336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65040" y="431712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230880" y="439416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028760" y="524592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 tagg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12760" y="2183040"/>
            <a:ext cx="147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is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4191120" y="2031840"/>
            <a:ext cx="1828800" cy="1067040"/>
            <a:chOff x="4191120" y="2031840"/>
            <a:chExt cx="1828800" cy="1067040"/>
          </a:xfrm>
        </p:grpSpPr>
        <p:sp>
          <p:nvSpPr>
            <p:cNvPr id="586" name=""/>
            <p:cNvSpPr/>
            <p:nvPr/>
          </p:nvSpPr>
          <p:spPr>
            <a:xfrm>
              <a:off x="4952880" y="2031840"/>
              <a:ext cx="533520" cy="106704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191120" y="2260440"/>
              <a:ext cx="68580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562720" y="2260440"/>
              <a:ext cx="457200" cy="533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OS Tagging using Decision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76680" y="1203480"/>
            <a:ext cx="2669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Màrquez, PhD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8465040" y="457128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04920" y="1727280"/>
            <a:ext cx="8211960" cy="4267080"/>
            <a:chOff x="304920" y="1727280"/>
            <a:chExt cx="8211960" cy="4267080"/>
          </a:xfrm>
        </p:grpSpPr>
        <p:sp>
          <p:nvSpPr>
            <p:cNvPr id="594" name=""/>
            <p:cNvSpPr/>
            <p:nvPr/>
          </p:nvSpPr>
          <p:spPr>
            <a:xfrm>
              <a:off x="4038480" y="1955520"/>
              <a:ext cx="2286000" cy="12952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Language</a:t>
              </a:r>
              <a:r>
                <a:rPr b="0" lang="en-US" sz="2400" spc="-1" strike="noStrike">
                  <a:solidFill>
                    <a:srgbClr val="003399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29200" y="3327120"/>
              <a:ext cx="380880" cy="609480"/>
            </a:xfrm>
            <a:prstGeom prst="downArrow">
              <a:avLst>
                <a:gd name="adj1" fmla="val 50000"/>
                <a:gd name="adj2" fmla="val 40005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08480" y="4012920"/>
              <a:ext cx="1846080" cy="12189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R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S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ahoma"/>
                </a:rPr>
                <a:t>R</a:t>
              </a:r>
              <a:r>
                <a:rPr b="0" lang="en-US" sz="1800" spc="-1" strike="noStrike">
                  <a:solidFill>
                    <a:srgbClr val="ffff00"/>
                  </a:solidFill>
                  <a:latin typeface="Tahoma"/>
                </a:rPr>
                <a:t>EL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68560" y="1727280"/>
              <a:ext cx="2590920" cy="4267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920" y="4012920"/>
              <a:ext cx="1066680" cy="114264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a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40360" y="4012920"/>
              <a:ext cx="1067040" cy="114264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agge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tex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063880" y="4089240"/>
              <a:ext cx="1587240" cy="92988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Morphologic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nalysi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16280" y="4394160"/>
              <a:ext cx="533520" cy="380520"/>
            </a:xfrm>
            <a:prstGeom prst="rightArrow">
              <a:avLst>
                <a:gd name="adj1" fmla="val 50000"/>
                <a:gd name="adj2" fmla="val 3505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447920" y="4394160"/>
              <a:ext cx="533160" cy="380520"/>
            </a:xfrm>
            <a:prstGeom prst="rightArrow">
              <a:avLst>
                <a:gd name="adj1" fmla="val 50000"/>
                <a:gd name="adj2" fmla="val 35028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983360" y="4394160"/>
              <a:ext cx="533520" cy="380520"/>
            </a:xfrm>
            <a:prstGeom prst="rightArrow">
              <a:avLst>
                <a:gd name="adj1" fmla="val 50000"/>
                <a:gd name="adj2" fmla="val 3505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230880" y="4394160"/>
              <a:ext cx="533520" cy="380520"/>
            </a:xfrm>
            <a:prstGeom prst="rightArrow">
              <a:avLst>
                <a:gd name="adj1" fmla="val 50000"/>
                <a:gd name="adj2" fmla="val 3505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046400" y="5321880"/>
              <a:ext cx="2253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POS tagging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POS Tagging using Decision Tre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976680" y="1203480"/>
            <a:ext cx="2669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(Màrquez, PhD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27200" y="31860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T-based Language Model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3314880" y="1266120"/>
            <a:ext cx="4797000" cy="5115600"/>
            <a:chOff x="3314880" y="1266120"/>
            <a:chExt cx="4797000" cy="5115600"/>
          </a:xfrm>
        </p:grpSpPr>
        <p:sp>
          <p:nvSpPr>
            <p:cNvPr id="611" name=""/>
            <p:cNvSpPr/>
            <p:nvPr/>
          </p:nvSpPr>
          <p:spPr>
            <a:xfrm>
              <a:off x="4355640" y="12661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93920" y="168300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8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1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Word 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67080" y="2503440"/>
              <a:ext cx="555480" cy="492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6585840" y="4916520"/>
              <a:ext cx="492120" cy="555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507000" y="3691080"/>
              <a:ext cx="555480" cy="492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468400" y="3740400"/>
              <a:ext cx="492120" cy="555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3879360" y="2563920"/>
              <a:ext cx="492120" cy="555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59440" y="5666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lea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584680" y="282276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8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tag(+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845040" y="405792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8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tag(+2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644800" y="540864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(IN)=0.0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(RB)=0.98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35280" y="2320200"/>
              <a:ext cx="106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s”,“as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39280" y="3547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27080" y="483660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14880" y="25362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h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905360" y="3715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h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72200" y="27932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923080" y="40046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101760" y="937440"/>
            <a:ext cx="320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position-adverb” t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65600" y="4270320"/>
            <a:ext cx="5014440" cy="1598760"/>
            <a:chOff x="165600" y="4270320"/>
            <a:chExt cx="5014440" cy="1598760"/>
          </a:xfrm>
        </p:grpSpPr>
        <p:sp>
          <p:nvSpPr>
            <p:cNvPr id="631" name=""/>
            <p:cNvSpPr/>
            <p:nvPr/>
          </p:nvSpPr>
          <p:spPr>
            <a:xfrm>
              <a:off x="165600" y="4388400"/>
              <a:ext cx="312660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Statistical interpretation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77560" y="4955040"/>
              <a:ext cx="477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 RB | word=“A/as” &amp; tag(+1)=RB &amp; tag(+2)=IN) = 0.98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6920" y="4270320"/>
              <a:ext cx="4983120" cy="159876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89080" y="5362920"/>
              <a:ext cx="4748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 IN | word=“A/as” &amp; tag(+1)=RB &amp; tag(+2)=IN) = 0.0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8240" y="5292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^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37600" y="4882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^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8" name=""/>
          <p:cNvGrpSpPr/>
          <p:nvPr/>
        </p:nvGrpSpPr>
        <p:grpSpPr>
          <a:xfrm>
            <a:off x="3314880" y="1266120"/>
            <a:ext cx="4797000" cy="5115600"/>
            <a:chOff x="3314880" y="1266120"/>
            <a:chExt cx="4797000" cy="5115600"/>
          </a:xfrm>
        </p:grpSpPr>
        <p:sp>
          <p:nvSpPr>
            <p:cNvPr id="639" name=""/>
            <p:cNvSpPr/>
            <p:nvPr/>
          </p:nvSpPr>
          <p:spPr>
            <a:xfrm>
              <a:off x="4355640" y="1266120"/>
              <a:ext cx="68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roo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93920" y="168300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8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1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Word Form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167080" y="2503440"/>
              <a:ext cx="555480" cy="492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6585840" y="4916520"/>
              <a:ext cx="492120" cy="55584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07000" y="3691080"/>
              <a:ext cx="555480" cy="4921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>
              <a:off x="5468400" y="3740400"/>
              <a:ext cx="492120" cy="555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3879360" y="2563920"/>
              <a:ext cx="492120" cy="5554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59440" y="5666400"/>
              <a:ext cx="75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lea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584680" y="282276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8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tag(+1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45040" y="405792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IN)=0.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Tahoma"/>
                </a:rPr>
                <a:t>P(RB)=0.8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tag(+2)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644800" y="5408640"/>
              <a:ext cx="1266840" cy="973080"/>
            </a:xfrm>
            <a:prstGeom prst="ellipse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(IN)=0.01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P(RB)=0.987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435280" y="2320200"/>
              <a:ext cx="106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As”,“as”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39280" y="3547440"/>
              <a:ext cx="47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R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27080" y="4836600"/>
              <a:ext cx="43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I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314880" y="253620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h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905360" y="3715560"/>
              <a:ext cx="87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</a:rPr>
                <a:t>oth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72200" y="27932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23080" y="4004640"/>
              <a:ext cx="46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...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701640" y="3549600"/>
            <a:ext cx="3373560" cy="2468520"/>
            <a:chOff x="701640" y="3549600"/>
            <a:chExt cx="3373560" cy="2468520"/>
          </a:xfrm>
        </p:grpSpPr>
        <p:sp>
          <p:nvSpPr>
            <p:cNvPr id="658" name=""/>
            <p:cNvSpPr/>
            <p:nvPr/>
          </p:nvSpPr>
          <p:spPr>
            <a:xfrm>
              <a:off x="924840" y="4336200"/>
              <a:ext cx="29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as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much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as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857160" y="3706200"/>
              <a:ext cx="23068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00"/>
                  </a:solidFill>
                  <a:latin typeface="Tahoma"/>
                </a:rPr>
                <a:t>Collocations: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29880" y="5342760"/>
              <a:ext cx="276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as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well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as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23040" y="4853520"/>
              <a:ext cx="288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“</a:t>
              </a:r>
              <a:r>
                <a:rPr b="0" lang="en-US" sz="2000" spc="-1" strike="noStrike">
                  <a:solidFill>
                    <a:srgbClr val="ffff00"/>
                  </a:solidFill>
                  <a:latin typeface="Tahoma"/>
                </a:rPr>
                <a:t>as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soon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RB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as_</a:t>
              </a:r>
              <a:r>
                <a:rPr b="0" lang="en-US" sz="2000" spc="-1" strike="noStrike">
                  <a:solidFill>
                    <a:srgbClr val="ff9900"/>
                  </a:solidFill>
                  <a:latin typeface="Tahoma"/>
                </a:rPr>
                <a:t>IN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01640" y="3549600"/>
              <a:ext cx="3373560" cy="2468520"/>
            </a:xfrm>
            <a:prstGeom prst="rect">
              <a:avLst/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27200" y="30744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DT-based Language Modelling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01760" y="937440"/>
            <a:ext cx="320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position-adverb” tre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20560" y="328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Language Modelling using DT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68160" y="1985760"/>
            <a:ext cx="7772400" cy="4524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gorithm: Top-Down Induction of Decision Trees (TDIDT). Supervised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RT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Breiman et al. 84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C4.5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Quinlan 95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ttributes: Local context (-3,+2) to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articular implement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ranch-merg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RT post-pru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mooth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ttributes with many val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everal functions for attribute sel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3724200" y="4334040"/>
            <a:ext cx="4693320" cy="1033200"/>
            <a:chOff x="3724200" y="4334040"/>
            <a:chExt cx="4693320" cy="1033200"/>
          </a:xfrm>
        </p:grpSpPr>
        <p:sp>
          <p:nvSpPr>
            <p:cNvPr id="669" name=""/>
            <p:cNvSpPr/>
            <p:nvPr/>
          </p:nvSpPr>
          <p:spPr>
            <a:xfrm>
              <a:off x="3724200" y="4334040"/>
              <a:ext cx="198360" cy="103320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26640 h 1033200"/>
                <a:gd name="textAreaBottom" fmla="*/ 1006560 h 1033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882600" y="4537080"/>
              <a:ext cx="4534920" cy="644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Minimizing the effect of over-fitting,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data fragmentation &amp; sparsenes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665280" y="1157400"/>
            <a:ext cx="7772400" cy="112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ranularity? Ambiguity class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adjective-noun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adjective-noun-verb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6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6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54120" y="316080"/>
            <a:ext cx="7772400" cy="93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Model Evaluation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87240" y="1814400"/>
            <a:ext cx="7772400" cy="4267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,170,000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agset size: 45 ta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ise: 2-3% of mistagged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49,000 word-form frequency lexic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anual filtering of 200 most frequent ent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36.4% ambiguous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.44 (1.52) average tags per wo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243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mbiguity cla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01200" y="979560"/>
            <a:ext cx="783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Wall Street Journal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(WSJ) annotated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54120" y="316080"/>
            <a:ext cx="7772400" cy="9302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Model Evaluation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1200" y="979560"/>
            <a:ext cx="7838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he </a:t>
            </a:r>
            <a:r>
              <a:rPr b="0" i="1" lang="en-GB" sz="2800" spc="-1" strike="noStrike">
                <a:solidFill>
                  <a:srgbClr val="ffff00"/>
                </a:solidFill>
                <a:latin typeface="Tahoma"/>
              </a:rPr>
              <a:t>Wall Street Journal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(WSJ) annotated corp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352440" y="1598760"/>
          <a:ext cx="8815320" cy="189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598760"/>
                    <a:ext cx="8815320" cy="18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"/>
          <p:cNvSpPr/>
          <p:nvPr/>
        </p:nvSpPr>
        <p:spPr>
          <a:xfrm>
            <a:off x="545040" y="3129120"/>
            <a:ext cx="799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Number of ambiguity classes that cover </a:t>
            </a:r>
            <a:r>
              <a:rPr b="0" i="1" lang="en-GB" sz="2000" spc="-1" strike="noStrike">
                <a:solidFill>
                  <a:srgbClr val="ff9900"/>
                </a:solidFill>
                <a:latin typeface="Tahoma"/>
              </a:rPr>
              <a:t>x%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of the training corp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1432080" y="3703680"/>
          <a:ext cx="6894360" cy="211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2080" y="3703680"/>
                    <a:ext cx="689436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>
            <a:off x="2393640" y="5408640"/>
            <a:ext cx="4298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Arity of the classification proble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035760" y="1824120"/>
            <a:ext cx="836640" cy="133488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854440" y="4019400"/>
            <a:ext cx="2022480" cy="1335240"/>
          </a:xfrm>
          <a:prstGeom prst="ellipse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62040" y="248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12</a:t>
            </a: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 Ambiguity Class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69880" y="1406520"/>
            <a:ext cx="7631280" cy="3763800"/>
            <a:chOff x="569880" y="1406520"/>
            <a:chExt cx="7631280" cy="3763800"/>
          </a:xfrm>
        </p:grpSpPr>
        <p:sp>
          <p:nvSpPr>
            <p:cNvPr id="690" name=""/>
            <p:cNvSpPr/>
            <p:nvPr/>
          </p:nvSpPr>
          <p:spPr>
            <a:xfrm>
              <a:off x="569880" y="1406520"/>
              <a:ext cx="7631280" cy="37638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91" name="" descr=""/>
            <p:cNvPicPr/>
            <p:nvPr/>
          </p:nvPicPr>
          <p:blipFill>
            <a:blip r:embed="rId1"/>
            <a:stretch/>
          </p:blipFill>
          <p:spPr>
            <a:xfrm>
              <a:off x="738000" y="1585800"/>
              <a:ext cx="7282080" cy="340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2" name=""/>
          <p:cNvSpPr/>
          <p:nvPr/>
        </p:nvSpPr>
        <p:spPr>
          <a:xfrm>
            <a:off x="755640" y="5286960"/>
            <a:ext cx="7363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cover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57.90%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the ambiguous occurrenc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01720" y="3670200"/>
            <a:ext cx="7132680" cy="30168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92640" y="5733000"/>
            <a:ext cx="6711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erimental setting: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10-fold cross valid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74640" y="213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Size: </a:t>
            </a: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Number of Node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97" name=""/>
          <p:cNvGraphicFramePr/>
          <p:nvPr/>
        </p:nvGraphicFramePr>
        <p:xfrm>
          <a:off x="1587600" y="1233360"/>
          <a:ext cx="6080040" cy="38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1233360"/>
                    <a:ext cx="6080040" cy="38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99" name=""/>
          <p:cNvGrpSpPr/>
          <p:nvPr/>
        </p:nvGrpSpPr>
        <p:grpSpPr>
          <a:xfrm>
            <a:off x="1616400" y="5259960"/>
            <a:ext cx="5872680" cy="875520"/>
            <a:chOff x="1616400" y="5259960"/>
            <a:chExt cx="5872680" cy="875520"/>
          </a:xfrm>
        </p:grpSpPr>
        <p:grpSp>
          <p:nvGrpSpPr>
            <p:cNvPr id="700" name=""/>
            <p:cNvGrpSpPr/>
            <p:nvPr/>
          </p:nvGrpSpPr>
          <p:grpSpPr>
            <a:xfrm>
              <a:off x="1616400" y="5259960"/>
              <a:ext cx="5872680" cy="459720"/>
              <a:chOff x="1616400" y="5259960"/>
              <a:chExt cx="5872680" cy="459720"/>
            </a:xfrm>
          </p:grpSpPr>
          <p:sp>
            <p:nvSpPr>
              <p:cNvPr id="701" name=""/>
              <p:cNvSpPr/>
              <p:nvPr/>
            </p:nvSpPr>
            <p:spPr>
              <a:xfrm>
                <a:off x="1616400" y="5259960"/>
                <a:ext cx="58726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Average size reduction: </a:t>
                </a:r>
                <a:r>
                  <a:rPr b="0" lang="en-GB" sz="2400" spc="-1" strike="noStrike">
                    <a:solidFill>
                      <a:srgbClr val="ff9900"/>
                    </a:solidFill>
                    <a:latin typeface="Tahoma"/>
                  </a:rPr>
                  <a:t>51.7%</a:t>
                </a:r>
                <a:r>
                  <a:rPr b="0" lang="en-GB" sz="2400" spc="-1" strike="noStrike">
                    <a:solidFill>
                      <a:srgbClr val="ffffff"/>
                    </a:solidFill>
                    <a:latin typeface="Tahoma"/>
                  </a:rPr>
                  <a:t>       </a:t>
                </a:r>
                <a:r>
                  <a:rPr b="0" lang="en-GB" sz="2400" spc="-1" strike="noStrike">
                    <a:solidFill>
                      <a:srgbClr val="ff9900"/>
                    </a:solidFill>
                    <a:latin typeface="Tahoma"/>
                  </a:rPr>
                  <a:t>46.5%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942160" y="5316480"/>
                <a:ext cx="449280" cy="330120"/>
              </a:xfrm>
              <a:prstGeom prst="rightArrow">
                <a:avLst>
                  <a:gd name="adj1" fmla="val 50000"/>
                  <a:gd name="adj2" fmla="val 34024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4908240" y="5675760"/>
              <a:ext cx="195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9900"/>
                  </a:solidFill>
                  <a:latin typeface="Tahoma"/>
                </a:rPr>
                <a:t>74.1%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(total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847800" y="2340000"/>
            <a:ext cx="7256520" cy="2382480"/>
            <a:chOff x="847800" y="2340000"/>
            <a:chExt cx="7256520" cy="2382480"/>
          </a:xfrm>
        </p:grpSpPr>
        <p:sp>
          <p:nvSpPr>
            <p:cNvPr id="72" name=""/>
            <p:cNvSpPr/>
            <p:nvPr/>
          </p:nvSpPr>
          <p:spPr>
            <a:xfrm>
              <a:off x="988920" y="2340000"/>
              <a:ext cx="7064640" cy="2382480"/>
            </a:xfrm>
            <a:prstGeom prst="rect">
              <a:avLst/>
            </a:prstGeom>
            <a:solidFill>
              <a:srgbClr val="6b9cc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7800" y="2450880"/>
              <a:ext cx="7256520" cy="19947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400" spc="-1" strike="noStrike">
                  <a:solidFill>
                    <a:srgbClr val="ffffff"/>
                  </a:solidFill>
                  <a:latin typeface="Tahoma"/>
                </a:rPr>
                <a:t>Obtaining a description </a:t>
              </a:r>
              <a:r>
                <a:rPr b="1" i="1" lang="es-ES_tradnl" sz="2400" spc="-1" strike="noStrike">
                  <a:solidFill>
                    <a:srgbClr val="ffffff"/>
                  </a:solidFill>
                  <a:latin typeface="Tahoma"/>
                </a:rPr>
                <a:t>of the concept </a:t>
              </a:r>
              <a:r>
                <a:rPr b="1" i="1" lang="en-GB" sz="2400" spc="-1" strike="noStrike">
                  <a:solidFill>
                    <a:srgbClr val="ffffff"/>
                  </a:solidFill>
                  <a:latin typeface="Tahoma"/>
                </a:rPr>
                <a:t>in some representation language that explains observations and helps predicting new instances of the same distribu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940680" y="1623960"/>
            <a:ext cx="41050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A more precise defini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360" y="193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Machine 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20" y="49320"/>
            <a:ext cx="12200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L4NL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8040" y="4959360"/>
            <a:ext cx="7835760" cy="134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to read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Machine Learning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 (Mitchell, 19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1743120" y="1347840"/>
          <a:ext cx="5656320" cy="3809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1347840"/>
                    <a:ext cx="565632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7" name=""/>
          <p:cNvSpPr/>
          <p:nvPr/>
        </p:nvSpPr>
        <p:spPr>
          <a:xfrm>
            <a:off x="708120" y="2142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Accurac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42640" y="5247720"/>
            <a:ext cx="4877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at least) </a:t>
            </a: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No los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in accur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0" name=""/>
          <p:cNvGraphicFramePr/>
          <p:nvPr/>
        </p:nvGraphicFramePr>
        <p:xfrm>
          <a:off x="1108080" y="1684440"/>
          <a:ext cx="6807240" cy="398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8080" y="1684440"/>
                    <a:ext cx="68072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"/>
          <p:cNvSpPr/>
          <p:nvPr/>
        </p:nvSpPr>
        <p:spPr>
          <a:xfrm>
            <a:off x="3984480" y="3438360"/>
            <a:ext cx="231840" cy="91764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82480" y="325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00"/>
                </a:solidFill>
                <a:latin typeface="Tahoma"/>
              </a:rPr>
              <a:t>Feature Selection Criteri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3735360" y="1959480"/>
            <a:ext cx="3800520" cy="3146040"/>
            <a:chOff x="3735360" y="1959480"/>
            <a:chExt cx="3800520" cy="3146040"/>
          </a:xfrm>
        </p:grpSpPr>
        <p:sp>
          <p:nvSpPr>
            <p:cNvPr id="715" name=""/>
            <p:cNvSpPr/>
            <p:nvPr/>
          </p:nvSpPr>
          <p:spPr>
            <a:xfrm>
              <a:off x="3735360" y="2436840"/>
              <a:ext cx="3800520" cy="266868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78280" y="1959480"/>
              <a:ext cx="336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Statistically equival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flipV="1">
            <a:off x="3835440" y="2101680"/>
            <a:ext cx="0" cy="2267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1390680" y="1471680"/>
            <a:ext cx="5945040" cy="64296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966960" y="1577520"/>
            <a:ext cx="7772400" cy="208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ree Base = Statistic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5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T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Reductionistic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ree based 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5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T: Statistical Tree based 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011240" y="4660920"/>
            <a:ext cx="7772400" cy="18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ree Base = Compatibility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AX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Relaxation-Labelling based tag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1706400" y="2562840"/>
            <a:ext cx="3310200" cy="3485160"/>
            <a:chOff x="1706400" y="2562840"/>
            <a:chExt cx="3310200" cy="3485160"/>
          </a:xfrm>
        </p:grpSpPr>
        <p:sp>
          <p:nvSpPr>
            <p:cNvPr id="723" name=""/>
            <p:cNvSpPr/>
            <p:nvPr/>
          </p:nvSpPr>
          <p:spPr>
            <a:xfrm>
              <a:off x="1706400" y="3694680"/>
              <a:ext cx="3278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Rodríguez 99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37720" y="2562840"/>
              <a:ext cx="3278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Rodríguez 97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734120" y="5649120"/>
              <a:ext cx="2775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Padró 97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593640" y="325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ahoma"/>
              </a:rPr>
              <a:t>DT-based POS Tagg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           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T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857680" y="3419640"/>
            <a:ext cx="4638600" cy="205236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187800" y="1816200"/>
            <a:ext cx="2286000" cy="1295280"/>
          </a:xfrm>
          <a:prstGeom prst="ellipse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93880" y="1521000"/>
            <a:ext cx="5226120" cy="4636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55520" y="3886200"/>
            <a:ext cx="73188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362240" y="3952800"/>
            <a:ext cx="1110960" cy="63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39960" y="4148280"/>
            <a:ext cx="366480" cy="260280"/>
          </a:xfrm>
          <a:prstGeom prst="rightArrow">
            <a:avLst>
              <a:gd name="adj1" fmla="val 50000"/>
              <a:gd name="adj2" fmla="val 3520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158320" y="3873600"/>
            <a:ext cx="73152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336840" y="1892160"/>
            <a:ext cx="1828800" cy="1067040"/>
            <a:chOff x="3336840" y="1892160"/>
            <a:chExt cx="1828800" cy="1067040"/>
          </a:xfrm>
        </p:grpSpPr>
        <p:sp>
          <p:nvSpPr>
            <p:cNvPr id="737" name=""/>
            <p:cNvSpPr/>
            <p:nvPr/>
          </p:nvSpPr>
          <p:spPr>
            <a:xfrm>
              <a:off x="4098600" y="1892160"/>
              <a:ext cx="533520" cy="106704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336840" y="2120760"/>
              <a:ext cx="685800" cy="45720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708440" y="2120760"/>
              <a:ext cx="457200" cy="53352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986200" y="3854520"/>
            <a:ext cx="917640" cy="774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lassif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89400" y="3857760"/>
            <a:ext cx="917640" cy="774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581800" y="3849840"/>
            <a:ext cx="917280" cy="7855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l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726320" y="4129200"/>
            <a:ext cx="366840" cy="260280"/>
          </a:xfrm>
          <a:prstGeom prst="rightArrow">
            <a:avLst>
              <a:gd name="adj1" fmla="val 50000"/>
              <a:gd name="adj2" fmla="val 3523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535120" y="4135320"/>
            <a:ext cx="366840" cy="260640"/>
          </a:xfrm>
          <a:prstGeom prst="rightArrow">
            <a:avLst>
              <a:gd name="adj1" fmla="val 50000"/>
              <a:gd name="adj2" fmla="val 35186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33120" y="2092320"/>
            <a:ext cx="168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908520" y="4235400"/>
            <a:ext cx="384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224320" y="4227480"/>
            <a:ext cx="384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894360" y="4135320"/>
            <a:ext cx="297000" cy="258840"/>
          </a:xfrm>
          <a:prstGeom prst="flowChartDecision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507000" y="4260960"/>
            <a:ext cx="384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8330400">
            <a:off x="3490200" y="3274920"/>
            <a:ext cx="601560" cy="371520"/>
          </a:xfrm>
          <a:prstGeom prst="rightArrow">
            <a:avLst>
              <a:gd name="adj1" fmla="val 50000"/>
              <a:gd name="adj2" fmla="val 4048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39080" y="4395960"/>
            <a:ext cx="0" cy="766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389400" y="5162400"/>
            <a:ext cx="3649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V="1">
            <a:off x="3389400" y="4643280"/>
            <a:ext cx="0" cy="51912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50560" y="553284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mbig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186680" y="4259160"/>
            <a:ext cx="458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6723360" y="376992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stop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98600" y="65484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63920" y="42303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678360" y="4520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95640" y="313920"/>
            <a:ext cx="1581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T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444120" y="36756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N-grams (trigram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rot="5400000">
            <a:off x="4537440" y="2407320"/>
            <a:ext cx="244440" cy="2157480"/>
          </a:xfrm>
          <a:custGeom>
            <a:avLst/>
            <a:gdLst>
              <a:gd name="textAreaLeft" fmla="*/ 0 w 244440"/>
              <a:gd name="textAreaRight" fmla="*/ 88200 w 244440"/>
              <a:gd name="textAreaTop" fmla="*/ 56160 h 2157480"/>
              <a:gd name="textAreaBottom" fmla="*/ 210132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284280" y="75168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1400040" y="1852560"/>
                <a:ext cx="46227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L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"/>
              <p:cNvSpPr txBox="1"/>
              <p:nvPr/>
            </p:nvSpPr>
            <p:spPr>
              <a:xfrm>
                <a:off x="1438200" y="2610000"/>
                <a:ext cx="6029280" cy="100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⋯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8" name=""/>
              <p:cNvSpPr txBox="1"/>
              <p:nvPr/>
            </p:nvSpPr>
            <p:spPr>
              <a:xfrm>
                <a:off x="6075360" y="1968480"/>
                <a:ext cx="428760" cy="3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206800" y="313920"/>
            <a:ext cx="15811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TT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50800" y="3675600"/>
            <a:ext cx="30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Contextual probabilit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rot="5400000">
            <a:off x="4537440" y="2407320"/>
            <a:ext cx="244440" cy="2157480"/>
          </a:xfrm>
          <a:custGeom>
            <a:avLst/>
            <a:gdLst>
              <a:gd name="textAreaLeft" fmla="*/ 0 w 244440"/>
              <a:gd name="textAreaRight" fmla="*/ 88200 w 244440"/>
              <a:gd name="textAreaTop" fmla="*/ 56160 h 2157480"/>
              <a:gd name="textAreaBottom" fmla="*/ 2101320 h 215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84280" y="75168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"/>
              <p:cNvSpPr txBox="1"/>
              <p:nvPr/>
            </p:nvSpPr>
            <p:spPr>
              <a:xfrm>
                <a:off x="1319040" y="1623960"/>
                <a:ext cx="48405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L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6334200" y="1719360"/>
                <a:ext cx="48564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5" name=""/>
              <p:cNvSpPr txBox="1"/>
              <p:nvPr/>
            </p:nvSpPr>
            <p:spPr>
              <a:xfrm>
                <a:off x="5821200" y="2765520"/>
                <a:ext cx="17402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6" name=""/>
              <p:cNvSpPr txBox="1"/>
              <p:nvPr/>
            </p:nvSpPr>
            <p:spPr>
              <a:xfrm>
                <a:off x="1322280" y="2511360"/>
                <a:ext cx="237672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L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lim>
                    </m:limLow>
                    <m:r>
                      <m:rPr>
                        <m:lit/>
                        <m:nor/>
                      </m:rPr>
                      <m:t xml:space="preserve">   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3887640" y="2811600"/>
                <a:ext cx="158292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78" name=""/>
          <p:cNvGrpSpPr/>
          <p:nvPr/>
        </p:nvGrpSpPr>
        <p:grpSpPr>
          <a:xfrm>
            <a:off x="812880" y="4176720"/>
            <a:ext cx="7709760" cy="1128240"/>
            <a:chOff x="812880" y="4176720"/>
            <a:chExt cx="7709760" cy="1128240"/>
          </a:xfrm>
        </p:grpSpPr>
        <p:grpSp>
          <p:nvGrpSpPr>
            <p:cNvPr id="779" name=""/>
            <p:cNvGrpSpPr/>
            <p:nvPr/>
          </p:nvGrpSpPr>
          <p:grpSpPr>
            <a:xfrm>
              <a:off x="812880" y="4516560"/>
              <a:ext cx="3956760" cy="788400"/>
              <a:chOff x="812880" y="4516560"/>
              <a:chExt cx="3956760" cy="788400"/>
            </a:xfrm>
          </p:grpSpPr>
          <mc:AlternateContent>
            <mc:Choice xmlns:a14="http://schemas.microsoft.com/office/drawing/2010/main" Requires="a14">
              <p:sp>
                <p:nvSpPr>
                  <p:cNvPr id="780" name=""/>
                  <p:cNvSpPr txBox="1"/>
                  <p:nvPr/>
                </p:nvSpPr>
                <p:spPr>
                  <a:xfrm>
                    <a:off x="812880" y="4516560"/>
                    <a:ext cx="1968120" cy="7502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limUpp>
                          <m:e>
                            <m:r>
                              <m:t xml:space="preserve">P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Upp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781" name=""/>
                  <p:cNvSpPr txBox="1"/>
                  <p:nvPr/>
                </p:nvSpPr>
                <p:spPr>
                  <a:xfrm>
                    <a:off x="2866680" y="4714200"/>
                    <a:ext cx="1902960" cy="590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C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;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782" name=""/>
            <p:cNvSpPr/>
            <p:nvPr/>
          </p:nvSpPr>
          <p:spPr>
            <a:xfrm>
              <a:off x="4623480" y="4802760"/>
              <a:ext cx="3899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Estimated using Decision Tre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5400000">
              <a:off x="5189040" y="4259160"/>
              <a:ext cx="587520" cy="422280"/>
            </a:xfrm>
            <a:prstGeom prst="rightArrow">
              <a:avLst>
                <a:gd name="adj1" fmla="val 50000"/>
                <a:gd name="adj2" fmla="val 347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7645320" y="4672080"/>
            <a:ext cx="73188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09680" y="4673520"/>
            <a:ext cx="731880" cy="78444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16040" y="4740120"/>
            <a:ext cx="1111320" cy="6400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93760" y="4935600"/>
            <a:ext cx="366840" cy="260280"/>
          </a:xfrm>
          <a:prstGeom prst="rightArrow">
            <a:avLst>
              <a:gd name="adj1" fmla="val 50000"/>
              <a:gd name="adj2" fmla="val 35235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917800" y="174600"/>
            <a:ext cx="1581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T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6240" y="63396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013200" y="1508040"/>
            <a:ext cx="4319640" cy="4637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14880" y="4606920"/>
            <a:ext cx="2044800" cy="925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Viterb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337440" y="4927680"/>
            <a:ext cx="1204920" cy="260280"/>
          </a:xfrm>
          <a:prstGeom prst="rightArrow">
            <a:avLst>
              <a:gd name="adj1" fmla="val 50000"/>
              <a:gd name="adj2" fmla="val 11573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830680" y="4923000"/>
            <a:ext cx="1307880" cy="260280"/>
          </a:xfrm>
          <a:prstGeom prst="rightArrow">
            <a:avLst>
              <a:gd name="adj1" fmla="val 50000"/>
              <a:gd name="adj2" fmla="val 125622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904920" y="157356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993480" y="55980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mbig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5400000">
            <a:off x="4919040" y="4019400"/>
            <a:ext cx="587520" cy="422280"/>
          </a:xfrm>
          <a:prstGeom prst="rightArrow">
            <a:avLst>
              <a:gd name="adj1" fmla="val 50000"/>
              <a:gd name="adj2" fmla="val 3478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3191040" y="2112840"/>
            <a:ext cx="4005360" cy="1725840"/>
            <a:chOff x="3191040" y="2112840"/>
            <a:chExt cx="4005360" cy="1725840"/>
          </a:xfrm>
        </p:grpSpPr>
        <p:sp>
          <p:nvSpPr>
            <p:cNvPr id="799" name=""/>
            <p:cNvSpPr/>
            <p:nvPr/>
          </p:nvSpPr>
          <p:spPr>
            <a:xfrm>
              <a:off x="3191040" y="2112840"/>
              <a:ext cx="3952800" cy="1725840"/>
            </a:xfrm>
            <a:prstGeom prst="rect">
              <a:avLst/>
            </a:prstGeom>
            <a:solidFill>
              <a:srgbClr val="0066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54560" y="2400120"/>
              <a:ext cx="1090440" cy="820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Lex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prob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5208480" y="2352600"/>
              <a:ext cx="1568520" cy="947880"/>
              <a:chOff x="5208480" y="2352600"/>
              <a:chExt cx="1568520" cy="947880"/>
            </a:xfrm>
          </p:grpSpPr>
          <p:sp>
            <p:nvSpPr>
              <p:cNvPr id="802" name=""/>
              <p:cNvSpPr/>
              <p:nvPr/>
            </p:nvSpPr>
            <p:spPr>
              <a:xfrm>
                <a:off x="5208480" y="2352600"/>
                <a:ext cx="1568520" cy="947880"/>
              </a:xfrm>
              <a:prstGeom prst="rect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3" name=""/>
              <p:cNvGrpSpPr/>
              <p:nvPr/>
            </p:nvGrpSpPr>
            <p:grpSpPr>
              <a:xfrm>
                <a:off x="5357520" y="2438640"/>
                <a:ext cx="1225440" cy="765000"/>
                <a:chOff x="5357520" y="2438640"/>
                <a:chExt cx="1225440" cy="76500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5868000" y="2438640"/>
                  <a:ext cx="357480" cy="7650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357520" y="2602440"/>
                  <a:ext cx="459360" cy="327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6276600" y="2602440"/>
                  <a:ext cx="306360" cy="382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00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7" name=""/>
            <p:cNvSpPr/>
            <p:nvPr/>
          </p:nvSpPr>
          <p:spPr>
            <a:xfrm>
              <a:off x="4674600" y="25614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Tahoma"/>
                </a:rPr>
                <a:t>+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888080" y="3327840"/>
              <a:ext cx="2308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Contextual prob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/>
          <p:nvPr/>
        </p:nvSpPr>
        <p:spPr>
          <a:xfrm>
            <a:off x="2776680" y="2046240"/>
            <a:ext cx="5079960" cy="185436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693880" y="1508040"/>
            <a:ext cx="5226120" cy="4637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371840" y="4606920"/>
            <a:ext cx="2044800" cy="925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Viterb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8158320" y="4672080"/>
            <a:ext cx="73152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494400" y="4927680"/>
            <a:ext cx="1587600" cy="260280"/>
          </a:xfrm>
          <a:prstGeom prst="rightArrow">
            <a:avLst>
              <a:gd name="adj1" fmla="val 50000"/>
              <a:gd name="adj2" fmla="val 15249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55520" y="4673520"/>
            <a:ext cx="731880" cy="78444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362240" y="4740120"/>
            <a:ext cx="1110960" cy="64008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939960" y="4935600"/>
            <a:ext cx="366480" cy="260280"/>
          </a:xfrm>
          <a:prstGeom prst="rightArrow">
            <a:avLst>
              <a:gd name="adj1" fmla="val 50000"/>
              <a:gd name="adj2" fmla="val 3520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2557440" y="4923000"/>
            <a:ext cx="1738440" cy="260280"/>
          </a:xfrm>
          <a:prstGeom prst="rightArrow">
            <a:avLst>
              <a:gd name="adj1" fmla="val 50000"/>
              <a:gd name="adj2" fmla="val 16697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61880" y="157356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150800" y="559800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mbig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rot="5400000">
            <a:off x="5076720" y="4052880"/>
            <a:ext cx="587160" cy="422280"/>
          </a:xfrm>
          <a:prstGeom prst="rightArrow">
            <a:avLst>
              <a:gd name="adj1" fmla="val 50000"/>
              <a:gd name="adj2" fmla="val 3476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394320" y="2298600"/>
            <a:ext cx="1347840" cy="9144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-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889360" y="2333520"/>
            <a:ext cx="1090440" cy="8208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xic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b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4410000" y="2286000"/>
            <a:ext cx="1568520" cy="947880"/>
            <a:chOff x="4410000" y="2286000"/>
            <a:chExt cx="1568520" cy="947880"/>
          </a:xfrm>
        </p:grpSpPr>
        <p:sp>
          <p:nvSpPr>
            <p:cNvPr id="825" name=""/>
            <p:cNvSpPr/>
            <p:nvPr/>
          </p:nvSpPr>
          <p:spPr>
            <a:xfrm>
              <a:off x="4410000" y="2286000"/>
              <a:ext cx="1568520" cy="94788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4559040" y="2372040"/>
              <a:ext cx="1225440" cy="765000"/>
              <a:chOff x="4559040" y="2372040"/>
              <a:chExt cx="1225440" cy="765000"/>
            </a:xfrm>
          </p:grpSpPr>
          <p:sp>
            <p:nvSpPr>
              <p:cNvPr id="827" name=""/>
              <p:cNvSpPr/>
              <p:nvPr/>
            </p:nvSpPr>
            <p:spPr>
              <a:xfrm>
                <a:off x="5069520" y="2372040"/>
                <a:ext cx="357480" cy="765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559040" y="2535840"/>
                <a:ext cx="459360" cy="3276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478120" y="2535840"/>
                <a:ext cx="306360" cy="38232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0" name=""/>
          <p:cNvSpPr/>
          <p:nvPr/>
        </p:nvSpPr>
        <p:spPr>
          <a:xfrm>
            <a:off x="5979600" y="24822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006440" y="2483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297160" y="174600"/>
            <a:ext cx="15811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TT+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740040" y="633960"/>
            <a:ext cx="327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Rodríguez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27680" y="3459960"/>
            <a:ext cx="23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ntextual prob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rot="5400000">
            <a:off x="5900760" y="2601720"/>
            <a:ext cx="209520" cy="1603440"/>
          </a:xfrm>
          <a:custGeom>
            <a:avLst/>
            <a:gdLst>
              <a:gd name="textAreaLeft" fmla="*/ 0 w 209520"/>
              <a:gd name="textAreaRight" fmla="*/ 75600 w 209520"/>
              <a:gd name="textAreaTop" fmla="*/ 41760 h 1603440"/>
              <a:gd name="textAreaBottom" fmla="*/ 1561680 h 160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457280" y="4084560"/>
            <a:ext cx="7062840" cy="581040"/>
          </a:xfrm>
          <a:prstGeom prst="rect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933480" y="931680"/>
            <a:ext cx="7772400" cy="208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ree Base = Statistical Compon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5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RT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Reductionistic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7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ree based 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375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T: Statistical Tree based tag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1011240" y="4076640"/>
            <a:ext cx="7772400" cy="181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00"/>
                </a:solidFill>
                <a:latin typeface="Tahoma"/>
              </a:rPr>
              <a:t>Tree Base = Compatibility Constr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AX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Relaxation-Labelling based tag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1706400" y="2003760"/>
            <a:ext cx="3310200" cy="3485160"/>
            <a:chOff x="1706400" y="2003760"/>
            <a:chExt cx="3310200" cy="3485160"/>
          </a:xfrm>
        </p:grpSpPr>
        <p:sp>
          <p:nvSpPr>
            <p:cNvPr id="841" name=""/>
            <p:cNvSpPr/>
            <p:nvPr/>
          </p:nvSpPr>
          <p:spPr>
            <a:xfrm>
              <a:off x="1706400" y="3135600"/>
              <a:ext cx="3278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Rodríguez 99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737720" y="2003760"/>
              <a:ext cx="327888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Rodríguez 97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734120" y="5090040"/>
              <a:ext cx="2775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(Màrquez &amp; Padró 97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98400" y="114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             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LA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789280" y="1969920"/>
            <a:ext cx="5079960" cy="1854360"/>
          </a:xfrm>
          <a:prstGeom prst="rect">
            <a:avLst/>
          </a:prstGeom>
          <a:solidFill>
            <a:srgbClr val="0066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706840" y="1432080"/>
            <a:ext cx="5225760" cy="4636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4384800" y="4530600"/>
            <a:ext cx="2044440" cy="92556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Relaxatio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Lab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ahoma"/>
              </a:rPr>
              <a:t>(Padró 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170920" y="4595760"/>
            <a:ext cx="731880" cy="78444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agge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07000" y="4851360"/>
            <a:ext cx="1587600" cy="260280"/>
          </a:xfrm>
          <a:prstGeom prst="rightArrow">
            <a:avLst>
              <a:gd name="adj1" fmla="val 50000"/>
              <a:gd name="adj2" fmla="val 152490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168120" y="4597560"/>
            <a:ext cx="731880" cy="784080"/>
          </a:xfrm>
          <a:prstGeom prst="flowChartMagneticDisk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Ra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1374840" y="4664160"/>
            <a:ext cx="1111320" cy="63972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Morphologic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52560" y="4859280"/>
            <a:ext cx="366480" cy="260280"/>
          </a:xfrm>
          <a:prstGeom prst="rightArrow">
            <a:avLst>
              <a:gd name="adj1" fmla="val 50000"/>
              <a:gd name="adj2" fmla="val 35201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570040" y="4846680"/>
            <a:ext cx="1738440" cy="260280"/>
          </a:xfrm>
          <a:prstGeom prst="rightArrow">
            <a:avLst>
              <a:gd name="adj1" fmla="val 50000"/>
              <a:gd name="adj2" fmla="val 166978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074480" y="149760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nguage</a:t>
            </a:r>
            <a:r>
              <a:rPr b="0" lang="en-US" sz="2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4163400" y="552168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ambigu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599000" y="565920"/>
            <a:ext cx="284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Padró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rot="5400000">
            <a:off x="5088960" y="3976560"/>
            <a:ext cx="587520" cy="422280"/>
          </a:xfrm>
          <a:prstGeom prst="rightArrow">
            <a:avLst>
              <a:gd name="adj1" fmla="val 50000"/>
              <a:gd name="adj2" fmla="val 34783"/>
            </a:avLst>
          </a:prstGeom>
          <a:gradFill rotWithShape="0">
            <a:gsLst>
              <a:gs pos="0">
                <a:srgbClr val="8488c4"/>
              </a:gs>
              <a:gs pos="100000">
                <a:srgbClr val="96ab94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07280" y="2222640"/>
            <a:ext cx="1347480" cy="91440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nguis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901960" y="2257560"/>
            <a:ext cx="1090440" cy="820440"/>
          </a:xfrm>
          <a:prstGeom prst="rect">
            <a:avLst/>
          </a:prstGeom>
          <a:gradFill rotWithShape="0">
            <a:gsLst>
              <a:gs pos="0">
                <a:srgbClr val="d6b19c"/>
              </a:gs>
              <a:gs pos="100000">
                <a:srgbClr val="66301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-gra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4422600" y="2209680"/>
            <a:ext cx="1568520" cy="947880"/>
            <a:chOff x="4422600" y="2209680"/>
            <a:chExt cx="1568520" cy="947880"/>
          </a:xfrm>
        </p:grpSpPr>
        <p:sp>
          <p:nvSpPr>
            <p:cNvPr id="862" name=""/>
            <p:cNvSpPr/>
            <p:nvPr/>
          </p:nvSpPr>
          <p:spPr>
            <a:xfrm>
              <a:off x="4422600" y="2209680"/>
              <a:ext cx="1568520" cy="94788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571640" y="2295720"/>
              <a:ext cx="1225440" cy="765000"/>
              <a:chOff x="4571640" y="2295720"/>
              <a:chExt cx="1225440" cy="765000"/>
            </a:xfrm>
          </p:grpSpPr>
          <p:sp>
            <p:nvSpPr>
              <p:cNvPr id="864" name=""/>
              <p:cNvSpPr/>
              <p:nvPr/>
            </p:nvSpPr>
            <p:spPr>
              <a:xfrm>
                <a:off x="5082120" y="2295720"/>
                <a:ext cx="357480" cy="765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571640" y="2459520"/>
                <a:ext cx="459360" cy="3276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490720" y="2459520"/>
                <a:ext cx="306360" cy="38232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7" name=""/>
          <p:cNvSpPr/>
          <p:nvPr/>
        </p:nvSpPr>
        <p:spPr>
          <a:xfrm>
            <a:off x="5992200" y="24058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19040" y="2407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219560" y="3278880"/>
            <a:ext cx="225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Set of constra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101000" y="947880"/>
            <a:ext cx="1730160" cy="1066680"/>
          </a:xfrm>
          <a:prstGeom prst="wedgeEllipseCallout">
            <a:avLst>
              <a:gd name="adj1" fmla="val -61652"/>
              <a:gd name="adj2" fmla="val -4940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I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perspec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30360" y="414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Feature Vector Classif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35120" y="1763640"/>
            <a:ext cx="7578720" cy="444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instanc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is a vector: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i="1" lang="en-GB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0" i="1" lang="en-GB" sz="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 baseline="-2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…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 baseline="-20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hose components, called 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featur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(or attributes), are discrete or real-value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e the space of all possible instanc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=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{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 baseline="-20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,…, y</a:t>
            </a:r>
            <a:r>
              <a:rPr b="0" lang="en-GB" sz="2400" spc="-1" strike="noStrike" baseline="-20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e the set of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categori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(or class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goal is to learn an unknown target function,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f : X     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 example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is an instance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belonging to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labelled with the correct value for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.e., a pair &lt;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f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et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e the set of all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 examples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318440" y="410364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765000" y="101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ELA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890520" y="542160"/>
            <a:ext cx="277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Màrquez &amp; Padró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289800" y="2006640"/>
            <a:ext cx="3140280" cy="3352680"/>
            <a:chOff x="289800" y="2006640"/>
            <a:chExt cx="3140280" cy="3352680"/>
          </a:xfrm>
        </p:grpSpPr>
        <p:sp>
          <p:nvSpPr>
            <p:cNvPr id="874" name=""/>
            <p:cNvSpPr/>
            <p:nvPr/>
          </p:nvSpPr>
          <p:spPr>
            <a:xfrm>
              <a:off x="334800" y="2006640"/>
              <a:ext cx="3095280" cy="3352680"/>
            </a:xfrm>
            <a:prstGeom prst="rect">
              <a:avLst/>
            </a:prstGeom>
            <a:solidFill>
              <a:srgbClr val="0047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289800" y="2018160"/>
              <a:ext cx="3007080" cy="3211920"/>
              <a:chOff x="289800" y="2018160"/>
              <a:chExt cx="3007080" cy="3211920"/>
            </a:xfrm>
          </p:grpSpPr>
          <p:sp>
            <p:nvSpPr>
              <p:cNvPr id="876" name=""/>
              <p:cNvSpPr/>
              <p:nvPr/>
            </p:nvSpPr>
            <p:spPr>
              <a:xfrm>
                <a:off x="919080" y="2018160"/>
                <a:ext cx="48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ahoma"/>
                  </a:rPr>
                  <a:t>root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784080" y="2291760"/>
                <a:ext cx="791640" cy="6076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IN)=0.8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RB)=0.19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Word Form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1455480" y="2804760"/>
                <a:ext cx="347400" cy="30744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2342520" y="4314240"/>
                <a:ext cx="307800" cy="3474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293920" y="3547440"/>
                <a:ext cx="347040" cy="3078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flipH="1">
                <a:off x="1644120" y="3577680"/>
                <a:ext cx="307800" cy="3474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>
                <a:off x="650880" y="2842560"/>
                <a:ext cx="307440" cy="347400"/>
              </a:xfrm>
              <a:prstGeom prst="line">
                <a:avLst/>
              </a:prstGeom>
              <a:ln w="15840">
                <a:solidFill>
                  <a:srgbClr val="ffffff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514600" y="4768920"/>
                <a:ext cx="4694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Tahoma"/>
                  </a:rPr>
                  <a:t>lea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716120" y="3004560"/>
                <a:ext cx="791640" cy="6076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IN)=0.8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RB)=0.1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tag(+1)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504880" y="3776040"/>
                <a:ext cx="792000" cy="6094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IN)=0.13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Tahoma"/>
                  </a:rPr>
                  <a:t>P(RB)=0.87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tag(+2)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753920" y="4622400"/>
                <a:ext cx="792000" cy="607680"/>
              </a:xfrm>
              <a:prstGeom prst="ellipse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P(IN)=0.013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Tahoma"/>
                  </a:rPr>
                  <a:t>P(RB)=0.987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621440" y="2682720"/>
                <a:ext cx="67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“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As”,“as”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477520" y="3449520"/>
                <a:ext cx="34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R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219040" y="4256280"/>
                <a:ext cx="319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IN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89800" y="2817720"/>
                <a:ext cx="564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other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284840" y="3554280"/>
                <a:ext cx="564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other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930240" y="2980440"/>
                <a:ext cx="34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00080" y="3737520"/>
                <a:ext cx="345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ahoma"/>
                  </a:rPr>
                  <a:t>..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4" name=""/>
          <p:cNvSpPr/>
          <p:nvPr/>
        </p:nvSpPr>
        <p:spPr>
          <a:xfrm>
            <a:off x="423720" y="5716440"/>
            <a:ext cx="8434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tibility values: estimated using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 Mutual Infor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1674720" y="1033560"/>
            <a:ext cx="57934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Translating Tress into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6" name=""/>
          <p:cNvGrpSpPr/>
          <p:nvPr/>
        </p:nvGrpSpPr>
        <p:grpSpPr>
          <a:xfrm>
            <a:off x="3528720" y="2484360"/>
            <a:ext cx="5262120" cy="2325600"/>
            <a:chOff x="3528720" y="2484360"/>
            <a:chExt cx="5262120" cy="2325600"/>
          </a:xfrm>
        </p:grpSpPr>
        <p:sp>
          <p:nvSpPr>
            <p:cNvPr id="897" name=""/>
            <p:cNvSpPr/>
            <p:nvPr/>
          </p:nvSpPr>
          <p:spPr>
            <a:xfrm>
              <a:off x="6363720" y="3024000"/>
              <a:ext cx="2427120" cy="1785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6600"/>
                  </a:solidFill>
                  <a:latin typeface="Tahoma"/>
                </a:rPr>
                <a:t>-5.81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(I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0 “as” “As”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1 RB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2 I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754080" y="3019320"/>
              <a:ext cx="2427120" cy="17859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00"/>
                  </a:solidFill>
                  <a:latin typeface="Tahoma"/>
                </a:rPr>
                <a:t>2.37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(RB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0 “as” “As”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1 RB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(2 IN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528720" y="2498760"/>
              <a:ext cx="2379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Positive constra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166080" y="2484360"/>
              <a:ext cx="2521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Negative constrain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perimental Evalu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22240" y="2208240"/>
            <a:ext cx="7694640" cy="3666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aining set: 1,121,776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st set: 51,990 wor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losed vocabulary assump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ase of 194 tre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overing 99.5% of the ambiguous occurre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orage requirement: 565 K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cquisition time: 12 CPU-hour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Common LISP / Sparc10 workst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06680" y="1590840"/>
            <a:ext cx="4790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Using the WSJ annotated corp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879480" y="1781280"/>
            <a:ext cx="7772400" cy="34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67.52%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error reduction with respect to </a:t>
            </a:r>
            <a:r>
              <a:rPr b="0" lang="en-GB" sz="2400" spc="-1" strike="noStrike">
                <a:solidFill>
                  <a:srgbClr val="ffff00"/>
                </a:solidFill>
                <a:latin typeface="Tahoma"/>
              </a:rPr>
              <a:t>M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ccuracy 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94.45% (ambiguou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0" lang="en-GB" sz="9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97.29%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overal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rable to the best state-of-the-art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utomati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POS tag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call =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98.22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ecision = 95.73% (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1.08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ags/wo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866520" y="1293840"/>
            <a:ext cx="2017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RTT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853920" y="5106960"/>
            <a:ext cx="7248600" cy="92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TT allows to state a tradeoff between precision and reca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perimental Evalu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"/>
          <p:cNvSpPr/>
          <p:nvPr/>
        </p:nvSpPr>
        <p:spPr>
          <a:xfrm>
            <a:off x="879480" y="2162160"/>
            <a:ext cx="6111720" cy="763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arable to those of R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868320" y="1560600"/>
            <a:ext cx="1991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STT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3" name=""/>
          <p:cNvGrpSpPr/>
          <p:nvPr/>
        </p:nvGrpSpPr>
        <p:grpSpPr>
          <a:xfrm>
            <a:off x="880920" y="2814480"/>
            <a:ext cx="7791480" cy="1359000"/>
            <a:chOff x="880920" y="2814480"/>
            <a:chExt cx="7791480" cy="1359000"/>
          </a:xfrm>
        </p:grpSpPr>
        <p:sp>
          <p:nvSpPr>
            <p:cNvPr id="914" name=""/>
            <p:cNvSpPr/>
            <p:nvPr/>
          </p:nvSpPr>
          <p:spPr>
            <a:xfrm>
              <a:off x="880920" y="2814480"/>
              <a:ext cx="7791480" cy="135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 marL="298440" indent="-298440">
                <a:lnSpc>
                  <a:spcPct val="100000"/>
                </a:lnSpc>
                <a:spcBef>
                  <a:spcPts val="601"/>
                </a:spcBef>
                <a:buClr>
                  <a:srgbClr val="ffff00"/>
                </a:buClr>
                <a:buFont typeface="Tahoma"/>
                <a:buChar char="+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STT allows the incorporation of N-gram information        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8440" indent="-298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some problems of sparseness and coherence of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298440" indent="-298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the resulting tag sequence can be alleviat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363680" y="3301920"/>
              <a:ext cx="366840" cy="260280"/>
            </a:xfrm>
            <a:prstGeom prst="rightArrow">
              <a:avLst>
                <a:gd name="adj1" fmla="val 50000"/>
                <a:gd name="adj2" fmla="val 35235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878040" y="4305240"/>
            <a:ext cx="6111720" cy="1365120"/>
            <a:chOff x="878040" y="4305240"/>
            <a:chExt cx="6111720" cy="1365120"/>
          </a:xfrm>
        </p:grpSpPr>
        <p:sp>
          <p:nvSpPr>
            <p:cNvPr id="917" name=""/>
            <p:cNvSpPr/>
            <p:nvPr/>
          </p:nvSpPr>
          <p:spPr>
            <a:xfrm>
              <a:off x="878040" y="4906800"/>
              <a:ext cx="6111720" cy="763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20000"/>
                </a:lnSpc>
                <a:spcBef>
                  <a:spcPts val="601"/>
                </a:spcBef>
                <a:buClr>
                  <a:srgbClr val="99cc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Better than those of RTT and ST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894600" y="4305240"/>
              <a:ext cx="219384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Tahoma"/>
                </a:rPr>
                <a:t>STT+ resul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46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perimental Evalu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636480" y="2236680"/>
            <a:ext cx="8264520" cy="4127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ranslation of 44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presentative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trees covering 84% of the examples = 8,473 constrai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3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ddition of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igrams (2,808 binary constrai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rigrams (52,161 ternary constraint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inguistically-motivated manual constraints (2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3280" y="1609560"/>
            <a:ext cx="444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Including trees into R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ELA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85800" y="465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Experimental Evalu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30360" y="171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Accuracy of R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LAX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912960" y="1200240"/>
            <a:ext cx="7809840" cy="3154320"/>
            <a:chOff x="912960" y="1200240"/>
            <a:chExt cx="7809840" cy="3154320"/>
          </a:xfrm>
        </p:grpSpPr>
        <p:graphicFrame>
          <p:nvGraphicFramePr>
            <p:cNvPr id="927" name=""/>
            <p:cNvGraphicFramePr/>
            <p:nvPr/>
          </p:nvGraphicFramePr>
          <p:xfrm>
            <a:off x="912960" y="1200240"/>
            <a:ext cx="7202520" cy="315432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9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2960" y="1200240"/>
                      <a:ext cx="7202520" cy="315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29" name=""/>
            <p:cNvSpPr/>
            <p:nvPr/>
          </p:nvSpPr>
          <p:spPr>
            <a:xfrm>
              <a:off x="1441800" y="3325680"/>
              <a:ext cx="7281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MFT= baseline, B=bigrams, T=trigrams, C=“tree constraints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984240" y="3693960"/>
            <a:ext cx="7118280" cy="3467160"/>
            <a:chOff x="984240" y="3693960"/>
            <a:chExt cx="7118280" cy="3467160"/>
          </a:xfrm>
        </p:grpSpPr>
        <p:graphicFrame>
          <p:nvGraphicFramePr>
            <p:cNvPr id="931" name=""/>
            <p:cNvGraphicFramePr/>
            <p:nvPr/>
          </p:nvGraphicFramePr>
          <p:xfrm>
            <a:off x="984240" y="3693960"/>
            <a:ext cx="7118280" cy="346716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93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84240" y="3693960"/>
                      <a:ext cx="7118280" cy="346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33" name=""/>
            <p:cNvSpPr/>
            <p:nvPr/>
          </p:nvSpPr>
          <p:spPr>
            <a:xfrm>
              <a:off x="1843200" y="5686560"/>
              <a:ext cx="5141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9900"/>
                  </a:solidFill>
                  <a:latin typeface="Tahoma"/>
                </a:rPr>
                <a:t>H = set of 20 hand-written linguistic rule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2519280" y="1941480"/>
            <a:ext cx="4102200" cy="625680"/>
            <a:chOff x="2519280" y="1941480"/>
            <a:chExt cx="4102200" cy="625680"/>
          </a:xfrm>
        </p:grpSpPr>
        <p:sp>
          <p:nvSpPr>
            <p:cNvPr id="935" name=""/>
            <p:cNvSpPr/>
            <p:nvPr/>
          </p:nvSpPr>
          <p:spPr>
            <a:xfrm>
              <a:off x="2519280" y="1974960"/>
              <a:ext cx="814320" cy="592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98c"/>
                  </a:solidFill>
                  <a:latin typeface="Tahoma"/>
                </a:rPr>
                <a:t>91.35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807160" y="1941480"/>
              <a:ext cx="814320" cy="592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98c"/>
                  </a:solidFill>
                  <a:latin typeface="Tahoma"/>
                </a:rPr>
                <a:t>92.7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379680" y="2103480"/>
              <a:ext cx="2400480" cy="330120"/>
            </a:xfrm>
            <a:prstGeom prst="rightArrow">
              <a:avLst>
                <a:gd name="adj1" fmla="val 50000"/>
                <a:gd name="adj2" fmla="val 181788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3344760" y="1943280"/>
            <a:ext cx="4101840" cy="624960"/>
            <a:chOff x="3344760" y="1943280"/>
            <a:chExt cx="4101840" cy="624960"/>
          </a:xfrm>
        </p:grpSpPr>
        <p:sp>
          <p:nvSpPr>
            <p:cNvPr id="939" name=""/>
            <p:cNvSpPr/>
            <p:nvPr/>
          </p:nvSpPr>
          <p:spPr>
            <a:xfrm>
              <a:off x="3344760" y="1976400"/>
              <a:ext cx="814320" cy="591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98c"/>
                  </a:solidFill>
                  <a:latin typeface="Tahoma"/>
                </a:rPr>
                <a:t>91.8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632280" y="1943280"/>
              <a:ext cx="814320" cy="59184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98c"/>
                  </a:solidFill>
                  <a:latin typeface="Tahoma"/>
                </a:rPr>
                <a:t>92.8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05160" y="2104920"/>
              <a:ext cx="2400120" cy="330120"/>
            </a:xfrm>
            <a:prstGeom prst="rightArrow">
              <a:avLst>
                <a:gd name="adj1" fmla="val 50000"/>
                <a:gd name="adj2" fmla="val 181761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42" name=""/>
          <p:cNvSpPr/>
          <p:nvPr/>
        </p:nvSpPr>
        <p:spPr>
          <a:xfrm>
            <a:off x="5760" y="49320"/>
            <a:ext cx="1950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DecisionTre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38120" y="53136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ecision Trees: pros&amp;c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8720" y="1565280"/>
            <a:ext cx="7459920" cy="39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cquires symbolic knowledge in a understandable 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Very well studied ML algorithms and vari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 be easily translated into r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istence of available software: C4.5, C5.0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 be easily integrated into an ensem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"/>
          <p:cNvSpPr/>
          <p:nvPr/>
        </p:nvSpPr>
        <p:spPr>
          <a:xfrm>
            <a:off x="369720" y="1515960"/>
            <a:ext cx="8310600" cy="416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Tahoma"/>
              </a:rPr>
              <a:t>Drawba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mputationally expensive when scaling to large natural language domains: training examples, featur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ata sparseness and data fragmentation: the problem of the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small disjunct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=&gt; Probability esti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Ts is a model with high variance (unstab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ndency to overfit training data: pruning is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quires quite a big effort in tuning the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38120" y="531360"/>
            <a:ext cx="7772400" cy="83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Decision Trees: pros&amp;c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Boosting algorithm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46120" y="1355760"/>
            <a:ext cx="8305920" cy="453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0000"/>
              </a:lnSpc>
              <a:spcBef>
                <a:spcPts val="700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d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combine many simple and moderately accurate hypotheses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weak classifier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into a single and highly accurate classifier”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700"/>
              </a:spcBef>
              <a:spcAft>
                <a:spcPts val="174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AdaBoos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Freund &amp; Schapire 95)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has been theoretically and empirically studied extensively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any other variants/extensions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1997-200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http://www.lsi.upc.es/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~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lluism/seminari/ml&amp;nlp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041480" y="2468520"/>
            <a:ext cx="7248600" cy="37512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60240" y="181080"/>
            <a:ext cx="7772400" cy="922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daBoost: general schem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2525760" y="3479400"/>
            <a:ext cx="1748880" cy="2755080"/>
            <a:chOff x="2525760" y="3479400"/>
            <a:chExt cx="1748880" cy="2755080"/>
          </a:xfrm>
        </p:grpSpPr>
        <p:sp>
          <p:nvSpPr>
            <p:cNvPr id="955" name=""/>
            <p:cNvSpPr/>
            <p:nvPr/>
          </p:nvSpPr>
          <p:spPr>
            <a:xfrm>
              <a:off x="3322440" y="5102280"/>
              <a:ext cx="952200" cy="94140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S</a:t>
              </a:r>
              <a:r>
                <a:rPr b="0" lang="en-US" sz="24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671560" y="5364000"/>
              <a:ext cx="533160" cy="381240"/>
            </a:xfrm>
            <a:prstGeom prst="rightArrow">
              <a:avLst>
                <a:gd name="adj1" fmla="val 50000"/>
                <a:gd name="adj2" fmla="val 34962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920320" y="572436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958" name=""/>
            <p:cNvCxnSpPr>
              <a:stCxn id="959" idx="4"/>
            </p:cNvCxnSpPr>
            <p:nvPr/>
          </p:nvCxnSpPr>
          <p:spPr>
            <a:xfrm flipH="1" rot="16200000">
              <a:off x="1785600" y="4219200"/>
              <a:ext cx="1864440" cy="384480"/>
            </a:xfrm>
            <a:prstGeom prst="bentConnector3">
              <a:avLst>
                <a:gd name="adj1" fmla="val 77"/>
              </a:avLst>
            </a:prstGeom>
            <a:ln w="5076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960" name=""/>
          <p:cNvGrpSpPr/>
          <p:nvPr/>
        </p:nvGrpSpPr>
        <p:grpSpPr>
          <a:xfrm>
            <a:off x="1169640" y="2549520"/>
            <a:ext cx="1392480" cy="3636000"/>
            <a:chOff x="1169640" y="2549520"/>
            <a:chExt cx="1392480" cy="3636000"/>
          </a:xfrm>
        </p:grpSpPr>
        <p:sp>
          <p:nvSpPr>
            <p:cNvPr id="961" name=""/>
            <p:cNvSpPr/>
            <p:nvPr/>
          </p:nvSpPr>
          <p:spPr>
            <a:xfrm>
              <a:off x="1584000" y="5067360"/>
              <a:ext cx="952560" cy="941400"/>
            </a:xfrm>
            <a:prstGeom prst="flowChartMagneticDisk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ahoma"/>
                </a:rPr>
                <a:t>TS</a:t>
              </a:r>
              <a:r>
                <a:rPr b="0" lang="en-US" sz="24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rot="16200000">
              <a:off x="1852920" y="4813560"/>
              <a:ext cx="405000" cy="380880"/>
            </a:xfrm>
            <a:prstGeom prst="rightArrow">
              <a:avLst>
                <a:gd name="adj1" fmla="val 50000"/>
                <a:gd name="adj2" fmla="val 265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169640" y="5675400"/>
              <a:ext cx="50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r>
                <a:rPr b="1" lang="es-ES_tradnl" sz="24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539720" y="4002120"/>
              <a:ext cx="1022400" cy="766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Weak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Learn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584000" y="2549520"/>
              <a:ext cx="941400" cy="930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8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rot="16200000">
              <a:off x="1834200" y="3540960"/>
              <a:ext cx="404640" cy="380880"/>
            </a:xfrm>
            <a:prstGeom prst="rightArrow">
              <a:avLst>
                <a:gd name="adj1" fmla="val 50000"/>
                <a:gd name="adj2" fmla="val 26560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66" name=""/>
          <p:cNvSpPr/>
          <p:nvPr/>
        </p:nvSpPr>
        <p:spPr>
          <a:xfrm>
            <a:off x="5340240" y="49989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7" name=""/>
          <p:cNvGrpSpPr/>
          <p:nvPr/>
        </p:nvGrpSpPr>
        <p:grpSpPr>
          <a:xfrm>
            <a:off x="3270240" y="2550960"/>
            <a:ext cx="1022400" cy="2705040"/>
            <a:chOff x="3270240" y="2550960"/>
            <a:chExt cx="1022400" cy="2705040"/>
          </a:xfrm>
        </p:grpSpPr>
        <p:sp>
          <p:nvSpPr>
            <p:cNvPr id="968" name=""/>
            <p:cNvSpPr/>
            <p:nvPr/>
          </p:nvSpPr>
          <p:spPr>
            <a:xfrm>
              <a:off x="3270240" y="4021200"/>
              <a:ext cx="1022400" cy="76680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Weak 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349"/>
                </a:spcBef>
                <a:spcAft>
                  <a:spcPts val="3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 baseline="-20000">
                  <a:solidFill>
                    <a:srgbClr val="ffffff"/>
                  </a:solidFill>
                  <a:latin typeface="Tahoma"/>
                </a:rPr>
                <a:t>Learner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344760" y="2550960"/>
              <a:ext cx="941400" cy="93060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8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rot="16200000">
              <a:off x="3609000" y="4862880"/>
              <a:ext cx="405000" cy="380880"/>
            </a:xfrm>
            <a:prstGeom prst="rightArrow">
              <a:avLst>
                <a:gd name="adj1" fmla="val 50000"/>
                <a:gd name="adj2" fmla="val 26583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rot="16200000">
              <a:off x="3585240" y="3549960"/>
              <a:ext cx="405000" cy="381240"/>
            </a:xfrm>
            <a:prstGeom prst="rightArrow">
              <a:avLst>
                <a:gd name="adj1" fmla="val 50000"/>
                <a:gd name="adj2" fmla="val 26558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72" name=""/>
          <p:cNvGrpSpPr/>
          <p:nvPr/>
        </p:nvGrpSpPr>
        <p:grpSpPr>
          <a:xfrm>
            <a:off x="4280400" y="2529000"/>
            <a:ext cx="3415680" cy="3700800"/>
            <a:chOff x="4280400" y="2529000"/>
            <a:chExt cx="3415680" cy="3700800"/>
          </a:xfrm>
        </p:grpSpPr>
        <p:sp>
          <p:nvSpPr>
            <p:cNvPr id="973" name=""/>
            <p:cNvSpPr/>
            <p:nvPr/>
          </p:nvSpPr>
          <p:spPr>
            <a:xfrm rot="16200000">
              <a:off x="6979320" y="3528000"/>
              <a:ext cx="404640" cy="381240"/>
            </a:xfrm>
            <a:prstGeom prst="rightArrow">
              <a:avLst>
                <a:gd name="adj1" fmla="val 50000"/>
                <a:gd name="adj2" fmla="val 26534"/>
              </a:avLst>
            </a:prstGeom>
            <a:gradFill rotWithShape="0">
              <a:gsLst>
                <a:gs pos="0">
                  <a:srgbClr val="8488c4"/>
                </a:gs>
                <a:gs pos="100000">
                  <a:srgbClr val="96ab94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74" name=""/>
            <p:cNvGrpSpPr/>
            <p:nvPr/>
          </p:nvGrpSpPr>
          <p:grpSpPr>
            <a:xfrm>
              <a:off x="4280400" y="2529000"/>
              <a:ext cx="3415680" cy="3700800"/>
              <a:chOff x="4280400" y="2529000"/>
              <a:chExt cx="3415680" cy="3700800"/>
            </a:xfrm>
          </p:grpSpPr>
          <p:sp>
            <p:nvSpPr>
              <p:cNvPr id="975" name=""/>
              <p:cNvSpPr/>
              <p:nvPr/>
            </p:nvSpPr>
            <p:spPr>
              <a:xfrm>
                <a:off x="6724800" y="5068800"/>
                <a:ext cx="952200" cy="9414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ahoma"/>
                  </a:rPr>
                  <a:t>TS</a:t>
                </a:r>
                <a:r>
                  <a:rPr b="0" lang="en-US" sz="2400" spc="-1" strike="noStrike" baseline="-20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146200" y="5215680"/>
                <a:ext cx="65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. . 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24400" y="5386320"/>
                <a:ext cx="533520" cy="381240"/>
              </a:xfrm>
              <a:prstGeom prst="rightArrow">
                <a:avLst>
                  <a:gd name="adj1" fmla="val 50000"/>
                  <a:gd name="adj2" fmla="val 34986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000840" y="5388120"/>
                <a:ext cx="533160" cy="380880"/>
              </a:xfrm>
              <a:prstGeom prst="rightArrow">
                <a:avLst>
                  <a:gd name="adj1" fmla="val 50000"/>
                  <a:gd name="adj2" fmla="val 34995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832640" y="4341600"/>
                <a:ext cx="16347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Probability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distribution 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Tahoma"/>
                  </a:rPr>
                  <a:t>updatin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6330600" y="5719680"/>
                <a:ext cx="508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ahoma"/>
                  </a:rPr>
                  <a:t>D</a:t>
                </a:r>
                <a:r>
                  <a:rPr b="1" lang="es-ES_tradnl" sz="2400" spc="-1" strike="noStrike" baseline="-25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673680" y="3992400"/>
                <a:ext cx="1022400" cy="766800"/>
              </a:xfrm>
              <a:prstGeom prst="rect">
                <a:avLst/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 baseline="-20000">
                    <a:solidFill>
                      <a:srgbClr val="ffffff"/>
                    </a:solidFill>
                    <a:latin typeface="Tahoma"/>
                  </a:rPr>
                  <a:t>Weak 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349"/>
                  </a:spcBef>
                  <a:spcAft>
                    <a:spcPts val="34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 baseline="-20000">
                    <a:solidFill>
                      <a:srgbClr val="ffffff"/>
                    </a:solidFill>
                    <a:latin typeface="Tahoma"/>
                  </a:rPr>
                  <a:t>Learner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707160" y="2529000"/>
                <a:ext cx="941400" cy="93024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d6b19c"/>
                  </a:gs>
                  <a:gs pos="100000">
                    <a:srgbClr val="663012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h</a:t>
                </a:r>
                <a:r>
                  <a:rPr b="0" lang="en-US" sz="2800" spc="-1" strike="noStrike" baseline="-20000">
                    <a:solidFill>
                      <a:srgbClr val="ffffff"/>
                    </a:solidFill>
                    <a:latin typeface="Tahoma"/>
                  </a:rPr>
                  <a:t>T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109840" y="2679120"/>
                <a:ext cx="650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Tahoma"/>
                  </a:rPr>
                  <a:t>. . .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16200000">
                <a:off x="7023960" y="4826880"/>
                <a:ext cx="404640" cy="380880"/>
              </a:xfrm>
              <a:prstGeom prst="rightArrow">
                <a:avLst>
                  <a:gd name="adj1" fmla="val 50000"/>
                  <a:gd name="adj2" fmla="val 26560"/>
                </a:avLst>
              </a:prstGeom>
              <a:gradFill rotWithShape="0">
                <a:gsLst>
                  <a:gs pos="0">
                    <a:srgbClr val="8488c4"/>
                  </a:gs>
                  <a:gs pos="100000">
                    <a:srgbClr val="96ab94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985" name=""/>
              <p:cNvCxnSpPr/>
              <p:nvPr/>
            </p:nvCxnSpPr>
            <p:spPr>
              <a:xfrm flipH="1" rot="16200000">
                <a:off x="3540600" y="4208040"/>
                <a:ext cx="1864440" cy="384840"/>
              </a:xfrm>
              <a:prstGeom prst="bentConnector3">
                <a:avLst>
                  <a:gd name="adj1" fmla="val 1255"/>
                </a:avLst>
              </a:prstGeom>
              <a:ln w="50760">
                <a:solidFill>
                  <a:srgbClr val="ccccff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986" name=""/>
          <p:cNvSpPr/>
          <p:nvPr/>
        </p:nvSpPr>
        <p:spPr>
          <a:xfrm rot="16215000">
            <a:off x="47520" y="4074120"/>
            <a:ext cx="14684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TRAIN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604800" y="993600"/>
            <a:ext cx="7674120" cy="1555560"/>
            <a:chOff x="604800" y="993600"/>
            <a:chExt cx="7674120" cy="1555560"/>
          </a:xfrm>
        </p:grpSpPr>
        <p:sp>
          <p:nvSpPr>
            <p:cNvPr id="988" name=""/>
            <p:cNvSpPr/>
            <p:nvPr/>
          </p:nvSpPr>
          <p:spPr>
            <a:xfrm>
              <a:off x="1030320" y="993600"/>
              <a:ext cx="7248600" cy="135900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2060640" y="2017440"/>
              <a:ext cx="2560680" cy="531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3813120" y="2014560"/>
              <a:ext cx="1000080" cy="525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5022360" y="2033280"/>
              <a:ext cx="2143080" cy="484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4824360" y="1025280"/>
              <a:ext cx="0" cy="37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019840" y="1326240"/>
              <a:ext cx="2274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Linear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     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combin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43440" y="1407960"/>
              <a:ext cx="1708200" cy="603360"/>
            </a:xfrm>
            <a:prstGeom prst="rect">
              <a:avLst/>
            </a:prstGeom>
            <a:gradFill rotWithShape="0">
              <a:gsLst>
                <a:gs pos="0">
                  <a:srgbClr val="d6b19c"/>
                </a:gs>
                <a:gs pos="100000">
                  <a:srgbClr val="663012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spcAft>
                  <a:spcPts val="7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081320" y="1600200"/>
              <a:ext cx="159876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50000"/>
                </a:lnSpc>
                <a:spcBef>
                  <a:spcPts val="499"/>
                </a:spcBef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F(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1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,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,...,h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Tahoma"/>
                </a:rPr>
                <a:t>T</a:t>
              </a:r>
              <a:r>
                <a:rPr b="0" lang="en-GB" sz="2000" spc="-1" strike="noStrike">
                  <a:solidFill>
                    <a:srgbClr val="ffffff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6215000">
              <a:off x="425880" y="1388160"/>
              <a:ext cx="7599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9900"/>
                  </a:solidFill>
                  <a:latin typeface="Tahoma"/>
                </a:rPr>
                <a:t>TES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818880" y="1946520"/>
              <a:ext cx="42480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en-US" sz="2000" spc="-1" strike="noStrike" baseline="-20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736360" y="1919520"/>
              <a:ext cx="41544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190200" y="1956240"/>
              <a:ext cx="430920" cy="42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0" lang="en-US" sz="2000" spc="-1" strike="noStrike" baseline="-20000">
                  <a:solidFill>
                    <a:srgbClr val="ffffff"/>
                  </a:solidFill>
                  <a:latin typeface="Symbol"/>
                  <a:ea typeface="Symbol"/>
                </a:rPr>
                <a:t>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33560" y="2994120"/>
            <a:ext cx="7118280" cy="1987560"/>
          </a:xfrm>
          <a:prstGeom prst="rect">
            <a:avLst/>
          </a:prstGeom>
          <a:solidFill>
            <a:srgbClr val="6b9cc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0360" y="414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Feature Vector Classifica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3162240"/>
            <a:ext cx="7351560" cy="1844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go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s to find a function </a:t>
            </a:r>
            <a:r>
              <a:rPr b="1" i="1" lang="en-GB" sz="28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belonging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uch that for all pair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i="1" lang="en-GB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longing to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 </a:t>
            </a:r>
            <a:r>
              <a:rPr b="1" i="1" lang="en-GB" sz="2800" spc="-1" strike="noStrike">
                <a:solidFill>
                  <a:srgbClr val="ff9900"/>
                </a:solidFill>
                <a:latin typeface="Times New Roman"/>
              </a:rPr>
              <a:t>h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(x) = </a:t>
            </a:r>
            <a:r>
              <a:rPr b="1" i="1" lang="en-GB" sz="2800" spc="-1" strike="noStrike">
                <a:solidFill>
                  <a:srgbClr val="ff9900"/>
                </a:solidFill>
                <a:latin typeface="Times New Roman"/>
              </a:rPr>
              <a:t>f</a:t>
            </a:r>
            <a:r>
              <a:rPr b="1" i="1" lang="en-GB" sz="20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(x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0560" y="1855800"/>
            <a:ext cx="7832880" cy="950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1" lang="en-GB" sz="2000" spc="-1" strike="noStrike">
                <a:solidFill>
                  <a:srgbClr val="ff9900"/>
                </a:solidFill>
                <a:latin typeface="Tahoma"/>
              </a:rPr>
              <a:t>hypotheses space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is the set of functions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h: X      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that the learner can consider as possible defin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73800" y="2119320"/>
            <a:ext cx="3906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69800" y="75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daBoost: algorith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3" name="" descr=""/>
          <p:cNvPicPr/>
          <p:nvPr/>
        </p:nvPicPr>
        <p:blipFill>
          <a:blip r:embed="rId1"/>
          <a:stretch/>
        </p:blipFill>
        <p:spPr>
          <a:xfrm>
            <a:off x="1168560" y="1006560"/>
            <a:ext cx="6675120" cy="5216400"/>
          </a:xfrm>
          <a:prstGeom prst="rect">
            <a:avLst/>
          </a:prstGeom>
          <a:ln w="0">
            <a:noFill/>
          </a:ln>
        </p:spPr>
      </p:pic>
      <p:grpSp>
        <p:nvGrpSpPr>
          <p:cNvPr id="1004" name=""/>
          <p:cNvGrpSpPr/>
          <p:nvPr/>
        </p:nvGrpSpPr>
        <p:grpSpPr>
          <a:xfrm>
            <a:off x="2849400" y="3706920"/>
            <a:ext cx="5798880" cy="2968560"/>
            <a:chOff x="2849400" y="3706920"/>
            <a:chExt cx="5798880" cy="2968560"/>
          </a:xfrm>
        </p:grpSpPr>
        <p:grpSp>
          <p:nvGrpSpPr>
            <p:cNvPr id="1005" name=""/>
            <p:cNvGrpSpPr/>
            <p:nvPr/>
          </p:nvGrpSpPr>
          <p:grpSpPr>
            <a:xfrm>
              <a:off x="2849400" y="3706920"/>
              <a:ext cx="5798880" cy="2968560"/>
              <a:chOff x="2849400" y="3706920"/>
              <a:chExt cx="5798880" cy="2968560"/>
            </a:xfrm>
          </p:grpSpPr>
          <p:sp>
            <p:nvSpPr>
              <p:cNvPr id="1006" name=""/>
              <p:cNvSpPr/>
              <p:nvPr/>
            </p:nvSpPr>
            <p:spPr>
              <a:xfrm>
                <a:off x="2849400" y="3706920"/>
                <a:ext cx="5798880" cy="2968560"/>
              </a:xfrm>
              <a:prstGeom prst="wedgeEllipseCallout">
                <a:avLst>
                  <a:gd name="adj1" fmla="val -52657"/>
                  <a:gd name="adj2" fmla="val -51282"/>
                </a:avLst>
              </a:prstGeom>
              <a:solidFill>
                <a:srgbClr val="ffffff"/>
              </a:solidFill>
              <a:ln w="316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0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59000" y="5248080"/>
                <a:ext cx="3189240" cy="1079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185640" y="4494240"/>
                <a:ext cx="5110200" cy="796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9" name=""/>
            <p:cNvSpPr/>
            <p:nvPr/>
          </p:nvSpPr>
          <p:spPr>
            <a:xfrm>
              <a:off x="4389480" y="3960720"/>
              <a:ext cx="274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99"/>
                  </a:solidFill>
                  <a:latin typeface="Tahoma"/>
                </a:rPr>
                <a:t>(Freund &amp; Schapire 97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1" name="" descr=""/>
          <p:cNvPicPr/>
          <p:nvPr/>
        </p:nvPicPr>
        <p:blipFill>
          <a:blip r:embed="rId1"/>
          <a:stretch/>
        </p:blipFill>
        <p:spPr>
          <a:xfrm>
            <a:off x="2614680" y="1460520"/>
            <a:ext cx="3564000" cy="383076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512280" y="5597640"/>
            <a:ext cx="76514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Weak hypothes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= vertical/horizontal hyperpl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9384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round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 1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5" name="" descr=""/>
          <p:cNvPicPr/>
          <p:nvPr/>
        </p:nvPicPr>
        <p:blipFill>
          <a:blip r:embed="rId1"/>
          <a:stretch/>
        </p:blipFill>
        <p:spPr>
          <a:xfrm>
            <a:off x="1362240" y="1733400"/>
            <a:ext cx="6497640" cy="421956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round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8" name="" descr=""/>
          <p:cNvPicPr/>
          <p:nvPr/>
        </p:nvPicPr>
        <p:blipFill>
          <a:blip r:embed="rId1"/>
          <a:stretch/>
        </p:blipFill>
        <p:spPr>
          <a:xfrm>
            <a:off x="347760" y="2009880"/>
            <a:ext cx="8402400" cy="370368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4308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round </a:t>
            </a: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1" name="" descr=""/>
          <p:cNvPicPr/>
          <p:nvPr/>
        </p:nvPicPr>
        <p:blipFill>
          <a:blip r:embed="rId1"/>
          <a:stretch/>
        </p:blipFill>
        <p:spPr>
          <a:xfrm>
            <a:off x="353880" y="2082960"/>
            <a:ext cx="8425080" cy="370512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Combined Hypothes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4" name="" descr=""/>
          <p:cNvPicPr/>
          <p:nvPr/>
        </p:nvPicPr>
        <p:blipFill>
          <a:blip r:embed="rId1"/>
          <a:stretch/>
        </p:blipFill>
        <p:spPr>
          <a:xfrm>
            <a:off x="355680" y="1536840"/>
            <a:ext cx="8450280" cy="4632120"/>
          </a:xfrm>
          <a:prstGeom prst="rect">
            <a:avLst/>
          </a:prstGeom>
          <a:ln w="0">
            <a:noFill/>
          </a:ln>
        </p:spPr>
      </p:pic>
      <p:grpSp>
        <p:nvGrpSpPr>
          <p:cNvPr id="1025" name=""/>
          <p:cNvGrpSpPr/>
          <p:nvPr/>
        </p:nvGrpSpPr>
        <p:grpSpPr>
          <a:xfrm>
            <a:off x="1127160" y="3513240"/>
            <a:ext cx="6769080" cy="823680"/>
            <a:chOff x="1127160" y="3513240"/>
            <a:chExt cx="6769080" cy="823680"/>
          </a:xfrm>
        </p:grpSpPr>
        <p:sp>
          <p:nvSpPr>
            <p:cNvPr id="1026" name=""/>
            <p:cNvSpPr/>
            <p:nvPr/>
          </p:nvSpPr>
          <p:spPr>
            <a:xfrm>
              <a:off x="1127160" y="3513240"/>
              <a:ext cx="6769080" cy="823680"/>
            </a:xfrm>
            <a:prstGeom prst="rect">
              <a:avLst/>
            </a:prstGeom>
            <a:solidFill>
              <a:srgbClr val="0027a4"/>
            </a:solidFill>
            <a:ln w="0">
              <a:noFill/>
            </a:ln>
            <a:effectLst>
              <a:outerShdw dist="17819" dir="2700000" blurRad="0" rotWithShape="0">
                <a:srgbClr val="001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92320" y="3693960"/>
              <a:ext cx="6557040" cy="459720"/>
            </a:xfrm>
            <a:prstGeom prst="rect">
              <a:avLst/>
            </a:prstGeom>
            <a:solidFill>
              <a:srgbClr val="0027a4"/>
            </a:solidFill>
            <a:ln w="0">
              <a:noFill/>
            </a:ln>
            <a:effectLst>
              <a:outerShdw dist="17819" dir="2700000" blurRad="0" rotWithShape="0">
                <a:srgbClr val="00176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Courier New"/>
                </a:rPr>
                <a:t>www.research.att.com/</a:t>
              </a:r>
              <a:r>
                <a:rPr b="1" lang="en-GB" sz="2400" spc="-1" strike="noStrike">
                  <a:solidFill>
                    <a:srgbClr val="ffffff"/>
                  </a:solidFill>
                  <a:latin typeface="Times New Roman"/>
                </a:rPr>
                <a:t>~</a:t>
              </a:r>
              <a:r>
                <a:rPr b="1" lang="es-ES_tradnl" sz="2400" spc="-1" strike="noStrike">
                  <a:solidFill>
                    <a:srgbClr val="ffffff"/>
                  </a:solidFill>
                  <a:latin typeface="Courier New"/>
                </a:rPr>
                <a:t>yoav/adaboos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85800" y="2106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AdaBoost: Ap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96880" y="1266840"/>
            <a:ext cx="8547120" cy="491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oosting C4.5 / NN’s / .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arison with other methods for constructing ensembles of classifiers: bagging, randomization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mpressive res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Works well with unstable Learning Algorith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Reduces var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… not only!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chapire et al., 19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98400" y="253800"/>
            <a:ext cx="7772400" cy="94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ahoma"/>
              </a:rPr>
              <a:t>AdaBoost: Applic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4" name="" descr=""/>
          <p:cNvPicPr/>
          <p:nvPr/>
        </p:nvPicPr>
        <p:blipFill>
          <a:blip r:embed="rId1"/>
          <a:stretch/>
        </p:blipFill>
        <p:spPr>
          <a:xfrm>
            <a:off x="663480" y="1687680"/>
            <a:ext cx="4114800" cy="3933720"/>
          </a:xfrm>
          <a:prstGeom prst="rect">
            <a:avLst/>
          </a:prstGeom>
          <a:ln w="0">
            <a:noFill/>
          </a:ln>
        </p:spPr>
      </p:pic>
      <p:pic>
        <p:nvPicPr>
          <p:cNvPr id="1035" name="" descr=""/>
          <p:cNvPicPr/>
          <p:nvPr/>
        </p:nvPicPr>
        <p:blipFill>
          <a:blip r:embed="rId2"/>
          <a:stretch/>
        </p:blipFill>
        <p:spPr>
          <a:xfrm>
            <a:off x="4878360" y="1676520"/>
            <a:ext cx="3594240" cy="395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714240" y="191880"/>
            <a:ext cx="7772400" cy="94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Training err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8" name="" descr=""/>
          <p:cNvPicPr/>
          <p:nvPr/>
        </p:nvPicPr>
        <p:blipFill>
          <a:blip r:embed="rId1"/>
          <a:stretch/>
        </p:blipFill>
        <p:spPr>
          <a:xfrm>
            <a:off x="1308240" y="2930400"/>
            <a:ext cx="6308640" cy="1014480"/>
          </a:xfrm>
          <a:prstGeom prst="rect">
            <a:avLst/>
          </a:prstGeom>
          <a:ln w="0">
            <a:noFill/>
          </a:ln>
        </p:spPr>
      </p:pic>
      <p:sp>
        <p:nvSpPr>
          <p:cNvPr id="1039" name=""/>
          <p:cNvSpPr/>
          <p:nvPr/>
        </p:nvSpPr>
        <p:spPr>
          <a:xfrm>
            <a:off x="380880" y="2216160"/>
            <a:ext cx="6567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he training error of the final hypothesis H is at most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0" name="" descr=""/>
          <p:cNvPicPr/>
          <p:nvPr/>
        </p:nvPicPr>
        <p:blipFill>
          <a:blip r:embed="rId2"/>
          <a:stretch/>
        </p:blipFill>
        <p:spPr>
          <a:xfrm>
            <a:off x="625320" y="1441440"/>
            <a:ext cx="5362560" cy="514440"/>
          </a:xfrm>
          <a:prstGeom prst="rect">
            <a:avLst/>
          </a:prstGeom>
          <a:ln w="0">
            <a:noFill/>
          </a:ln>
        </p:spPr>
      </p:pic>
      <p:pic>
        <p:nvPicPr>
          <p:cNvPr id="1041" name="" descr=""/>
          <p:cNvPicPr/>
          <p:nvPr/>
        </p:nvPicPr>
        <p:blipFill>
          <a:blip r:embed="rId3"/>
          <a:stretch/>
        </p:blipFill>
        <p:spPr>
          <a:xfrm>
            <a:off x="149400" y="4367160"/>
            <a:ext cx="8893080" cy="650880"/>
          </a:xfrm>
          <a:prstGeom prst="rect">
            <a:avLst/>
          </a:prstGeom>
          <a:ln w="0">
            <a:noFill/>
          </a:ln>
        </p:spPr>
      </p:pic>
      <p:sp>
        <p:nvSpPr>
          <p:cNvPr id="1042" name=""/>
          <p:cNvSpPr/>
          <p:nvPr/>
        </p:nvSpPr>
        <p:spPr>
          <a:xfrm>
            <a:off x="1009800" y="5251320"/>
            <a:ext cx="71262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AdaBoost is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adaptive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in the sense that it adapts to the error rates of particular weak learner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4341600" y="765000"/>
            <a:ext cx="34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(Freund &amp; Schapire, 19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153720"/>
            <a:ext cx="7772400" cy="9428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Training err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778680" y="1608120"/>
            <a:ext cx="69822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the general case the training error of H is bound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1"/>
          <a:stretch/>
        </p:blipFill>
        <p:spPr>
          <a:xfrm>
            <a:off x="1035000" y="2289240"/>
            <a:ext cx="6676920" cy="98568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2"/>
          <a:stretch/>
        </p:blipFill>
        <p:spPr>
          <a:xfrm>
            <a:off x="1035000" y="3344760"/>
            <a:ext cx="2643120" cy="378000"/>
          </a:xfrm>
          <a:prstGeom prst="rect">
            <a:avLst/>
          </a:prstGeom>
          <a:ln w="0">
            <a:noFill/>
          </a:ln>
        </p:spPr>
      </p:pic>
      <p:sp>
        <p:nvSpPr>
          <p:cNvPr id="1049" name=""/>
          <p:cNvSpPr/>
          <p:nvPr/>
        </p:nvSpPr>
        <p:spPr>
          <a:xfrm>
            <a:off x="961920" y="4010040"/>
            <a:ext cx="7126560" cy="1067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his equation suggests that the training error can be reduced most rapidly (in a greedy way) by choosing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 baseline="-20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s-ES_tradnl" sz="20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i="1" lang="es-ES_tradnl" sz="2000" spc="-1" strike="noStrike" baseline="-20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on each round to minimiz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3"/>
          <a:stretch/>
        </p:blipFill>
        <p:spPr>
          <a:xfrm>
            <a:off x="2568600" y="5203800"/>
            <a:ext cx="3917880" cy="93816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4349880" y="76500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(Schapire &amp; Singer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560" y="47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 Toy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79480" y="941400"/>
          <a:ext cx="67849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941400"/>
                    <a:ext cx="67849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2" name=""/>
          <p:cNvGrpSpPr/>
          <p:nvPr/>
        </p:nvGrpSpPr>
        <p:grpSpPr>
          <a:xfrm>
            <a:off x="684360" y="3328920"/>
            <a:ext cx="3554280" cy="2216160"/>
            <a:chOff x="684360" y="3328920"/>
            <a:chExt cx="3554280" cy="2216160"/>
          </a:xfrm>
        </p:grpSpPr>
        <p:sp>
          <p:nvSpPr>
            <p:cNvPr id="93" name=""/>
            <p:cNvSpPr/>
            <p:nvPr/>
          </p:nvSpPr>
          <p:spPr>
            <a:xfrm>
              <a:off x="684360" y="3825720"/>
              <a:ext cx="3554280" cy="1719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16480" y="4095720"/>
              <a:ext cx="3280680" cy="12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(COLOR=</a:t>
              </a:r>
              <a:r>
                <a:rPr b="0" lang="en-GB" sz="2000" spc="-1" strike="noStrike">
                  <a:solidFill>
                    <a:srgbClr val="0000ff"/>
                  </a:solidFill>
                  <a:latin typeface="Tahoma"/>
                </a:rPr>
                <a:t>red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)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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(SHAPE=</a:t>
              </a:r>
              <a:r>
                <a:rPr b="0" lang="en-GB" sz="2000" spc="-1" strike="noStrike">
                  <a:solidFill>
                    <a:srgbClr val="0000ff"/>
                  </a:solidFill>
                  <a:latin typeface="Tahoma"/>
                </a:rPr>
                <a:t>circle</a:t>
              </a: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) </a:t>
              </a:r>
              <a:r>
                <a:rPr b="0" lang="es-E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</a:t>
              </a:r>
              <a:r>
                <a:rPr b="0" lang="es-ES" sz="2000" spc="-1" strike="noStrike">
                  <a:solidFill>
                    <a:srgbClr val="990099"/>
                  </a:solidFill>
                  <a:latin typeface="Tahoma"/>
                </a:rPr>
                <a:t>positiv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09640" y="3328920"/>
              <a:ext cx="1005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Ru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4599000" y="3301920"/>
            <a:ext cx="4041720" cy="2949480"/>
            <a:chOff x="4599000" y="3301920"/>
            <a:chExt cx="4041720" cy="2949480"/>
          </a:xfrm>
        </p:grpSpPr>
        <p:grpSp>
          <p:nvGrpSpPr>
            <p:cNvPr id="97" name=""/>
            <p:cNvGrpSpPr/>
            <p:nvPr/>
          </p:nvGrpSpPr>
          <p:grpSpPr>
            <a:xfrm>
              <a:off x="4599000" y="3811680"/>
              <a:ext cx="4041720" cy="2439720"/>
              <a:chOff x="4599000" y="3811680"/>
              <a:chExt cx="4041720" cy="2439720"/>
            </a:xfrm>
          </p:grpSpPr>
          <p:sp>
            <p:nvSpPr>
              <p:cNvPr id="98" name=""/>
              <p:cNvSpPr/>
              <p:nvPr/>
            </p:nvSpPr>
            <p:spPr>
              <a:xfrm>
                <a:off x="4599000" y="3811680"/>
                <a:ext cx="4041720" cy="24397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56280" y="4386240"/>
                <a:ext cx="555840" cy="464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79880" y="4348800"/>
                <a:ext cx="59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urier New"/>
                  </a:rPr>
                  <a:t>red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177320" y="433116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urier New"/>
                  </a:rPr>
                  <a:t>blu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689440" y="4833720"/>
                <a:ext cx="990720" cy="504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SHAPE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067520" y="4867200"/>
                <a:ext cx="1173240" cy="360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urier New"/>
                  </a:rPr>
                  <a:t>nega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699080" y="5754600"/>
                <a:ext cx="1311120" cy="360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urier New"/>
                  </a:rPr>
                  <a:t>posi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6195600" y="4398840"/>
                <a:ext cx="506520" cy="4471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5582880" y="5335560"/>
                <a:ext cx="463320" cy="4168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281640" y="5344920"/>
                <a:ext cx="442800" cy="383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865400" y="5286960"/>
                <a:ext cx="1003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urier New"/>
                  </a:rPr>
                  <a:t>circl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413400" y="5293440"/>
                <a:ext cx="1278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ff"/>
                    </a:solidFill>
                    <a:latin typeface="Courier New"/>
                  </a:rPr>
                  <a:t>triangl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124320" y="5763960"/>
                <a:ext cx="1175040" cy="360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ourier New"/>
                  </a:rPr>
                  <a:t>nega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18000" y="3912840"/>
                <a:ext cx="990720" cy="5047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"/>
                  </a:rPr>
                  <a:t>COLOR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5570280" y="3301920"/>
              <a:ext cx="222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Decision Tre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1149840" y="4967280"/>
            <a:ext cx="30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therwise   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0" lang="es-ES" sz="2000" spc="-1" strike="noStrike">
                <a:solidFill>
                  <a:srgbClr val="990099"/>
                </a:solidFill>
                <a:latin typeface="Tahoma"/>
              </a:rPr>
              <a:t>neg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144360"/>
            <a:ext cx="7772400" cy="943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Training error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847800" y="1389240"/>
            <a:ext cx="7126200" cy="732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In the case of binary hypotheses, this criterion leads to the already seen choice of </a:t>
            </a:r>
            <a:r>
              <a:rPr b="0" i="1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s-ES_tradnl" sz="2000" spc="-1" strike="noStrike" baseline="-20000">
                <a:solidFill>
                  <a:srgbClr val="ffffff"/>
                </a:solidFill>
                <a:latin typeface="Tahoma"/>
              </a:rPr>
              <a:t>t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49880" y="765000"/>
            <a:ext cx="33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9900"/>
                </a:solidFill>
                <a:latin typeface="Tahoma"/>
              </a:rPr>
              <a:t>(Schapire &amp; Singer, 19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6" name="" descr=""/>
          <p:cNvPicPr/>
          <p:nvPr/>
        </p:nvPicPr>
        <p:blipFill>
          <a:blip r:embed="rId1"/>
          <a:stretch/>
        </p:blipFill>
        <p:spPr>
          <a:xfrm>
            <a:off x="2967120" y="2228760"/>
            <a:ext cx="2868480" cy="971640"/>
          </a:xfrm>
          <a:prstGeom prst="rect">
            <a:avLst/>
          </a:prstGeom>
          <a:ln w="0">
            <a:noFill/>
          </a:ln>
        </p:spPr>
      </p:pic>
      <p:sp>
        <p:nvSpPr>
          <p:cNvPr id="1057" name=""/>
          <p:cNvSpPr/>
          <p:nvPr/>
        </p:nvSpPr>
        <p:spPr>
          <a:xfrm>
            <a:off x="835200" y="3568680"/>
            <a:ext cx="8042040" cy="254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spcBef>
                <a:spcPts val="499"/>
              </a:spcBef>
              <a:spcAft>
                <a:spcPts val="20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(Schapire &amp; Singer, 1999) give a specific method for assigning confidences to the predictions of domain-partitioning weak hypotheses (decision trees). Connection to </a:t>
            </a:r>
            <a:r>
              <a:rPr b="0" lang="es-ES_tradnl" sz="2000" spc="-1" strike="noStrike">
                <a:solidFill>
                  <a:srgbClr val="ff9900"/>
                </a:solidFill>
                <a:latin typeface="Tahoma"/>
              </a:rPr>
              <a:t>(Quinlan, 1996)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spcBef>
                <a:spcPts val="499"/>
              </a:spcBef>
              <a:spcAft>
                <a:spcPts val="20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his method also suggests a technique for growing Decision Trees   (Z splitting criterion).  Connection to </a:t>
            </a:r>
            <a:r>
              <a:rPr b="0" lang="es-ES_tradnl" sz="2000" spc="-1" strike="noStrike">
                <a:solidFill>
                  <a:srgbClr val="ff9900"/>
                </a:solidFill>
                <a:latin typeface="Tahoma"/>
              </a:rPr>
              <a:t>(Kearns &amp; Mansour, 1996)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. Analysis of the generalization of DTs based on a boosting-view of   DT induc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57360" y="401400"/>
            <a:ext cx="7859520" cy="1438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AdaBoost Extensions: Multiclas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20640" y="1189080"/>
            <a:ext cx="8215560" cy="484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traightforward extension: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aBoost.M1     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Freund &amp; Schapire 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aBoost.MH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chapire &amp; Singer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each exampl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each possible label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create a binary problem of the form: “For exampl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is the correct label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y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or is it one of the other labels?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aBoost.M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and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daBoost.M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chapire &amp; Singer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each example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with correct label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d each incorrect label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z,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binary problem of the form: “For example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x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, is the correct label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z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?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24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ror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rrecting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tput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des with AdaBoost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Schapire 97; Schapire &amp; Singer 99; Allwein, Schapire &amp; Singer 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09120" y="360360"/>
            <a:ext cx="7859880" cy="103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 Extensi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20" y="49320"/>
            <a:ext cx="1392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daBoo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1068480" y="1292400"/>
            <a:ext cx="7515000" cy="4406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ankBoos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Freund, Iyer, Schapire &amp; Singer 9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gression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Friedman et al. 98; Duffy &amp; Hembold 00; Zemel &amp; Pitassi 0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oBoost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Collins &amp; Singer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Alternating Decision Trees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Freund &amp; Mason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fficient implementation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AdaBoost.MH-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KR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Sebastiani, Sperduti &amp; Valdambrini 00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Weight trimming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(Friedman, Hastie &amp; Tibshirani 98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Lazy boosting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(Escudero, Màrquez &amp; Rigau 00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880920" y="3986280"/>
            <a:ext cx="783144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pros&amp;c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028880" y="1612800"/>
            <a:ext cx="7376760" cy="4448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asy to implement and few parameters to 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ime and space grow linearly with number of examples. Ability to manage very large learning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oes not constrain explicitly the complexity of the lear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aturally combines feature selection with lear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SzPct val="125000"/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Has been succesfully applied to many practical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/>
          <p:nvPr/>
        </p:nvSpPr>
        <p:spPr>
          <a:xfrm>
            <a:off x="1030320" y="1787400"/>
            <a:ext cx="7246800" cy="371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650"/>
              </a:spcAft>
              <a:buClr>
                <a:srgbClr val="ff0000"/>
              </a:buClr>
              <a:buSzPct val="125000"/>
              <a:buFont typeface="Tahoma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eems to be rather robust to overfitting    (number of rounds) but sensitive to noi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650"/>
              </a:spcAft>
              <a:buClr>
                <a:srgbClr val="ff0000"/>
              </a:buClr>
              <a:buSzPct val="125000"/>
              <a:buFont typeface="Tahoma"/>
              <a:buChar char="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formance is very good when there are relatively few relevant terms (featur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650"/>
              </a:spcAft>
              <a:buClr>
                <a:srgbClr val="ff0000"/>
              </a:buClr>
              <a:buSzPct val="125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n perform poorly when there is insufficient training data relative to the complexity of the base classifiers, the training errors of the base classifiers become too large too quick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30120" y="253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daBoost: pros&amp;con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Linear Classif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927000" y="2827440"/>
            <a:ext cx="7485120" cy="33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3" name=""/>
              <p:cNvSpPr txBox="1"/>
              <p:nvPr/>
            </p:nvSpPr>
            <p:spPr>
              <a:xfrm>
                <a:off x="1349280" y="2838600"/>
                <a:ext cx="595944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w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w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x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b</m:t>
                                  </m:r>
                                </m:e>
                              </m:nary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74" name=""/>
          <p:cNvSpPr/>
          <p:nvPr/>
        </p:nvSpPr>
        <p:spPr>
          <a:xfrm>
            <a:off x="576360" y="1057320"/>
            <a:ext cx="8188200" cy="18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Hyperplane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d by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weight vecto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threshol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induce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classific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2346480" y="4054320"/>
            <a:ext cx="4098600" cy="2055960"/>
            <a:chOff x="2346480" y="4054320"/>
            <a:chExt cx="4098600" cy="2055960"/>
          </a:xfrm>
        </p:grpSpPr>
        <p:sp>
          <p:nvSpPr>
            <p:cNvPr id="1076" name=""/>
            <p:cNvSpPr/>
            <p:nvPr/>
          </p:nvSpPr>
          <p:spPr>
            <a:xfrm>
              <a:off x="2925720" y="408312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2606760" y="5952960"/>
              <a:ext cx="369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01880" y="4600440"/>
              <a:ext cx="3117960" cy="871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V="1">
              <a:off x="4319640" y="4344480"/>
              <a:ext cx="18900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436280" y="4552920"/>
              <a:ext cx="398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510360" y="405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032640" y="422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867480" y="4373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83560" y="485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997880" y="4213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453640" y="450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38320" y="5238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69920" y="4543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539880" y="4645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881160" y="4805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424040" y="5321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430080" y="49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14720" y="5111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447800" y="4842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976640" y="548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01880" y="4600440"/>
              <a:ext cx="311796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923080" y="5472000"/>
              <a:ext cx="522000" cy="14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346480" y="4464000"/>
              <a:ext cx="522000" cy="14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2927520" y="4751280"/>
              <a:ext cx="33336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0" name=""/>
                <p:cNvSpPr txBox="1"/>
                <p:nvPr/>
              </p:nvSpPr>
              <p:spPr>
                <a:xfrm>
                  <a:off x="3046320" y="5067360"/>
                  <a:ext cx="39384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w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01" name=""/>
          <p:cNvSpPr/>
          <p:nvPr/>
        </p:nvSpPr>
        <p:spPr>
          <a:xfrm>
            <a:off x="-12240" y="49320"/>
            <a:ext cx="1575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(algorithms for training)</a:t>
            </a:r>
            <a:br>
              <a:rPr sz="3200"/>
            </a:b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Linear Classifie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714240" y="1349280"/>
            <a:ext cx="8240760" cy="456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Some examples in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ristianini &amp; Shawe-Taylor, 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sher's discriminant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(Fisher, 5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ceptron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drow-Hoff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Widrow &amp; Stearns, 85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nnow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Littlestone, 88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variant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Winnow+, BalancedWinnow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Dagan et al., 97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Large Margin Winnow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Zhang, 00)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onentiated-Gradient (EG)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Kivinen &amp; Warmuth, 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leeping Experts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ohen &amp; Singer, 9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-12240" y="49320"/>
            <a:ext cx="1575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375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ahoma"/>
              </a:rPr>
              <a:t>Scaling up Supervised Learning Algorithm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-12240" y="49320"/>
            <a:ext cx="15753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Motiv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5960" y="1495440"/>
            <a:ext cx="8325000" cy="484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roblem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 with large training sets (millions of exs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 with many features (thousan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lassification problems with many classes (hundre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LL is very productive in this type of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spcAft>
                <a:spcPts val="14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ffective and </a:t>
            </a:r>
            <a:r>
              <a:rPr b="0" lang="en-GB" sz="2800" spc="-1" strike="noStrike">
                <a:solidFill>
                  <a:srgbClr val="ffff00"/>
                </a:solidFill>
                <a:latin typeface="Tahoma"/>
              </a:rPr>
              <a:t>efficient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learning algorithms      must be design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urvey in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Dietterich, 1997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99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1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1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685800" y="236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 Algorithm </a:t>
            </a:r>
            <a:br>
              <a:rPr sz="3600"/>
            </a:b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905040" y="1566720"/>
            <a:ext cx="7678440" cy="42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erceptron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s an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on-line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 algorithm. It accepts examples one-at-a-time and updates the weights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w</a:t>
            </a:r>
            <a:r>
              <a:rPr b="0" i="1" lang="en-GB" sz="2800" spc="-1" strike="noStrike" baseline="-20000">
                <a:solidFill>
                  <a:srgbClr val="ffffff"/>
                </a:solidFill>
                <a:latin typeface="Tahoma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and the bias </a:t>
            </a: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s necess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updating rule is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add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Updating is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error-dri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converge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provided the training set is linearly separa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number of errors before convergence depend on a quantity called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margi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we will talk about it in next session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57360" y="303120"/>
            <a:ext cx="7772400" cy="68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 Algorithm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251000" y="1006560"/>
            <a:ext cx="6654600" cy="5306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functi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perceptron (training set: S, learning rate: r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;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0;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max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||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||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rep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for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1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&lt;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 + 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r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 baseline="-16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r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2400" spc="-1" strike="noStrike" baseline="26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end-i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end-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until</a:t>
            </a:r>
            <a:r>
              <a:rPr b="0" lang="en-GB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 mistakes made within the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loop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return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end-functi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560" y="47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A Toy Exampl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779480" y="941400"/>
          <a:ext cx="67849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9480" y="941400"/>
                    <a:ext cx="6784920" cy="62755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pSp>
        <p:nvGrpSpPr>
          <p:cNvPr id="118" name=""/>
          <p:cNvGrpSpPr/>
          <p:nvPr/>
        </p:nvGrpSpPr>
        <p:grpSpPr>
          <a:xfrm>
            <a:off x="66600" y="3328920"/>
            <a:ext cx="5031000" cy="2205000"/>
            <a:chOff x="66600" y="3328920"/>
            <a:chExt cx="5031000" cy="2205000"/>
          </a:xfrm>
        </p:grpSpPr>
        <p:sp>
          <p:nvSpPr>
            <p:cNvPr id="119" name=""/>
            <p:cNvSpPr/>
            <p:nvPr/>
          </p:nvSpPr>
          <p:spPr>
            <a:xfrm>
              <a:off x="1709640" y="3328920"/>
              <a:ext cx="1005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Ru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7360" y="3814920"/>
              <a:ext cx="4402080" cy="1719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66600" y="4059360"/>
              <a:ext cx="5031000" cy="1271880"/>
              <a:chOff x="66600" y="4059360"/>
              <a:chExt cx="5031000" cy="1271880"/>
            </a:xfrm>
          </p:grpSpPr>
          <p:sp>
            <p:nvSpPr>
              <p:cNvPr id="122" name=""/>
              <p:cNvSpPr/>
              <p:nvPr/>
            </p:nvSpPr>
            <p:spPr>
              <a:xfrm>
                <a:off x="66600" y="4059360"/>
                <a:ext cx="501516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(SIZE=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small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)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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(SHAPE=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circl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)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</a:t>
                </a:r>
                <a:r>
                  <a:rPr b="0" lang="es-ES" sz="1800" spc="-1" strike="noStrike">
                    <a:solidFill>
                      <a:srgbClr val="990099"/>
                    </a:solidFill>
                    <a:latin typeface="Tahoma"/>
                  </a:rPr>
                  <a:t>posi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867680" y="4932360"/>
                <a:ext cx="2741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otherwise   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</a:t>
                </a:r>
                <a:r>
                  <a:rPr b="0" lang="es-ES" sz="1800" spc="-1" strike="noStrike">
                    <a:solidFill>
                      <a:srgbClr val="990099"/>
                    </a:solidFill>
                    <a:latin typeface="Tahoma"/>
                  </a:rPr>
                  <a:t>nega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30320" y="4511520"/>
                <a:ext cx="4967280" cy="73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(SIZE=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big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)</a:t>
                </a:r>
                <a:r>
                  <a:rPr b="0" lang="en-GB" sz="8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</a:t>
                </a:r>
                <a:r>
                  <a:rPr b="0" lang="es-ES" sz="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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(COLOR=</a:t>
                </a:r>
                <a:r>
                  <a:rPr b="0" lang="en-GB" sz="1800" spc="-1" strike="noStrike">
                    <a:solidFill>
                      <a:srgbClr val="0000ff"/>
                    </a:solidFill>
                    <a:latin typeface="Tahoma"/>
                  </a:rPr>
                  <a:t>red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Tahoma"/>
                  </a:rPr>
                  <a:t>)     </a:t>
                </a:r>
                <a:r>
                  <a:rPr b="0" lang="es-E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</a:t>
                </a:r>
                <a:r>
                  <a:rPr b="0" lang="es-ES" sz="1800" spc="-1" strike="noStrike">
                    <a:solidFill>
                      <a:srgbClr val="990099"/>
                    </a:solidFill>
                    <a:latin typeface="Tahoma"/>
                  </a:rPr>
                  <a:t>positiv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4776840" y="3301920"/>
            <a:ext cx="4041720" cy="2949480"/>
            <a:chOff x="4776840" y="3301920"/>
            <a:chExt cx="4041720" cy="2949480"/>
          </a:xfrm>
        </p:grpSpPr>
        <p:sp>
          <p:nvSpPr>
            <p:cNvPr id="126" name=""/>
            <p:cNvSpPr/>
            <p:nvPr/>
          </p:nvSpPr>
          <p:spPr>
            <a:xfrm>
              <a:off x="4776840" y="3811680"/>
              <a:ext cx="4041720" cy="24397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907320" y="4408560"/>
              <a:ext cx="707760" cy="441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757840" y="433044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smal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87840" y="434772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bi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006960" y="4398840"/>
              <a:ext cx="773280" cy="435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500800" y="4834080"/>
              <a:ext cx="99036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HAP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11640" y="5765760"/>
              <a:ext cx="62568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p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5425560" y="5335560"/>
              <a:ext cx="498600" cy="439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3800" y="5345280"/>
              <a:ext cx="314280" cy="4302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34080" y="53017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circ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72120" y="5297040"/>
              <a:ext cx="54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r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96040" y="3913200"/>
              <a:ext cx="99072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SIZ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48040" y="3301920"/>
              <a:ext cx="22230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9900"/>
                  </a:solidFill>
                  <a:latin typeface="Tahoma"/>
                </a:rPr>
                <a:t>Decision Tre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59680" y="4846680"/>
              <a:ext cx="990360" cy="504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</a:rPr>
                <a:t>COLO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7218000" y="5361120"/>
              <a:ext cx="312840" cy="3934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51880" y="5357880"/>
              <a:ext cx="350640" cy="406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116760" y="53035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tria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845120" y="531000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Courier New"/>
                </a:rPr>
                <a:t>bl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95880" y="5765760"/>
              <a:ext cx="64764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31080" y="5762520"/>
              <a:ext cx="62532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p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827840" y="5759280"/>
              <a:ext cx="625680" cy="36036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Courier New"/>
                </a:rPr>
                <a:t>ne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57360" y="340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 Algorithm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071720" y="1406520"/>
            <a:ext cx="6918120" cy="44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rceptro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training set: S={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}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=1…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1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t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)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end-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end-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until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mistakes made within th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loop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retur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43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 Algorithm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Rosenblatt, 56)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44720" y="1436760"/>
            <a:ext cx="7826400" cy="42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is the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margi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of a example?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ff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Convergenc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n the linearly separable case (there exists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with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||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||=1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or all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the number of errors is bounded by: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</a:t>
            </a:r>
            <a:r>
              <a:rPr b="0" i="1" lang="en-GB" sz="2400" spc="-1" strike="noStrike">
                <a:solidFill>
                  <a:srgbClr val="ff99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/</a:t>
            </a:r>
            <a:r>
              <a:rPr b="0" lang="en-GB" sz="2800" spc="-1" strike="noStrike">
                <a:solidFill>
                  <a:srgbClr val="ff9900"/>
                </a:solidFill>
                <a:latin typeface="Symbol"/>
                <a:ea typeface="Symbol"/>
              </a:rPr>
              <a:t>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)</a:t>
            </a:r>
            <a:r>
              <a:rPr b="0" lang="en-GB" sz="2400" spc="-1" strike="noStrike" baseline="30000">
                <a:solidFill>
                  <a:srgbClr val="ff9900"/>
                </a:solidFill>
                <a:latin typeface="Tahoma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Novikof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ig critizism of the Perceptron algorithm          (Minsky, 60s) and the ANN’s 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990s: back to the simplicity with new variants (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du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kernel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vote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applications of the perceptron algorithm; also introduction of SV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90400" y="19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Dual For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168560" y="1160640"/>
            <a:ext cx="6813360" cy="502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rceptron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(training set: S={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}</a:t>
            </a:r>
            <a:r>
              <a:rPr b="0" lang="en-GB" sz="2800" spc="-1" strike="noStrike" baseline="-18000">
                <a:solidFill>
                  <a:srgbClr val="ffffff"/>
                </a:solidFill>
                <a:latin typeface="Times New Roman"/>
              </a:rPr>
              <a:t>i=1…N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rep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for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1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t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&lt;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gt;)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      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+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end-i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end-f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until</a:t>
            </a:r>
            <a:r>
              <a:rPr b="0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o mistakes made within the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fo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loop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en-GB" sz="2800" spc="-1" strike="noStrike">
                <a:solidFill>
                  <a:srgbClr val="ff9900"/>
                </a:solidFill>
                <a:latin typeface="Times New Roman"/>
              </a:rPr>
              <a:t>return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"/>
          <p:cNvSpPr/>
          <p:nvPr/>
        </p:nvSpPr>
        <p:spPr>
          <a:xfrm>
            <a:off x="1082520" y="1579680"/>
            <a:ext cx="7678800" cy="42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classification rule 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iven tha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14440" y="4042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Dual Form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693800" y="2154240"/>
            <a:ext cx="5757840" cy="1743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gn (&lt;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&gt;) =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gn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4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3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3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&lt;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&gt;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476440" y="4400640"/>
            <a:ext cx="3494160" cy="1287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=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4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36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36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6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32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63400" y="328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Non-linear classifiers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600200" y="1409760"/>
            <a:ext cx="5383080" cy="3260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>
            <a:off x="2398680" y="1679040"/>
            <a:ext cx="0" cy="268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095560" y="4178160"/>
            <a:ext cx="430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016520" y="260352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699000" y="230184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319640" y="225756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506840" y="276228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140360" y="300204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778200" y="280044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730760" y="249696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90960" y="301608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605040" y="34052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456080" y="3087720"/>
            <a:ext cx="158760" cy="1587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32544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262400" y="378936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209760" y="37148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906640" y="26780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5200560" y="36878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778360" y="32846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5807160" y="256068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226200" y="38322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878200" y="20718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252960" y="1682640"/>
            <a:ext cx="15840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674800" y="338472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844800" y="380196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399360" y="28368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297480" y="34718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735520" y="198612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5129280" y="16826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370560" y="173988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181560" y="233208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634000" y="371628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811760" y="386064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565520" y="40194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238560" y="4033800"/>
            <a:ext cx="158760" cy="15876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4" name=""/>
          <p:cNvGrpSpPr/>
          <p:nvPr/>
        </p:nvGrpSpPr>
        <p:grpSpPr>
          <a:xfrm>
            <a:off x="874800" y="1610640"/>
            <a:ext cx="7323120" cy="4842720"/>
            <a:chOff x="874800" y="1610640"/>
            <a:chExt cx="7323120" cy="4842720"/>
          </a:xfrm>
        </p:grpSpPr>
        <p:sp>
          <p:nvSpPr>
            <p:cNvPr id="1165" name=""/>
            <p:cNvSpPr/>
            <p:nvPr/>
          </p:nvSpPr>
          <p:spPr>
            <a:xfrm rot="2083800">
              <a:off x="3382560" y="2048040"/>
              <a:ext cx="1992240" cy="145908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874800" y="4916880"/>
              <a:ext cx="7323120" cy="153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Aft>
                  <a:spcPts val="1500"/>
                </a:spcAft>
                <a:buClr>
                  <a:srgbClr val="99cc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How can we separate this data set with a perceptron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7" name=""/>
          <p:cNvSpPr/>
          <p:nvPr/>
        </p:nvSpPr>
        <p:spPr>
          <a:xfrm>
            <a:off x="1008000" y="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43080" y="114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Explicit non-linear mappi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643040" y="2071800"/>
            <a:ext cx="5251320" cy="29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292480" y="2287440"/>
            <a:ext cx="1068120" cy="1976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642760" y="25660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2622600" y="3455280"/>
            <a:ext cx="409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22840" y="3282840"/>
            <a:ext cx="995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5221440" y="2287440"/>
            <a:ext cx="1068120" cy="19767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00640" y="2594520"/>
            <a:ext cx="979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208480" y="3431160"/>
            <a:ext cx="1096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937160" y="4396320"/>
            <a:ext cx="16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Input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726080" y="4410720"/>
            <a:ext cx="197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eature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559320" y="3459240"/>
            <a:ext cx="153864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on-line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p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746520" y="273924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181560" y="1190520"/>
            <a:ext cx="2554560" cy="1417680"/>
          </a:xfrm>
          <a:prstGeom prst="wedgeEllipseCallout">
            <a:avLst>
              <a:gd name="adj1" fmla="val -50185"/>
              <a:gd name="adj2" fmla="val 5537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The lin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classifier wor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in this sp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4" name=""/>
          <p:cNvGrpSpPr/>
          <p:nvPr/>
        </p:nvGrpSpPr>
        <p:grpSpPr>
          <a:xfrm>
            <a:off x="5095800" y="1143000"/>
            <a:ext cx="3021120" cy="2789280"/>
            <a:chOff x="5095800" y="1143000"/>
            <a:chExt cx="3021120" cy="2789280"/>
          </a:xfrm>
        </p:grpSpPr>
        <p:sp>
          <p:nvSpPr>
            <p:cNvPr id="1185" name=""/>
            <p:cNvSpPr/>
            <p:nvPr/>
          </p:nvSpPr>
          <p:spPr>
            <a:xfrm>
              <a:off x="5095800" y="1143000"/>
              <a:ext cx="3021120" cy="27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 flipV="1">
              <a:off x="5846760" y="1574280"/>
              <a:ext cx="0" cy="20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557680" y="3348000"/>
              <a:ext cx="219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5397480" y="1616040"/>
              <a:ext cx="2293920" cy="1890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9" name=""/>
          <p:cNvGrpSpPr/>
          <p:nvPr/>
        </p:nvGrpSpPr>
        <p:grpSpPr>
          <a:xfrm>
            <a:off x="649440" y="1143000"/>
            <a:ext cx="3020760" cy="2789280"/>
            <a:chOff x="649440" y="1143000"/>
            <a:chExt cx="3020760" cy="2789280"/>
          </a:xfrm>
        </p:grpSpPr>
        <p:sp>
          <p:nvSpPr>
            <p:cNvPr id="1190" name=""/>
            <p:cNvSpPr/>
            <p:nvPr/>
          </p:nvSpPr>
          <p:spPr>
            <a:xfrm>
              <a:off x="649440" y="1143000"/>
              <a:ext cx="3020760" cy="278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2193840" y="1574280"/>
              <a:ext cx="0" cy="207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111320" y="3348000"/>
              <a:ext cx="21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354400" y="186372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455920" y="244152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79640" y="270180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776240" y="218124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209680" y="2946240"/>
              <a:ext cx="158760" cy="1587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03480" y="304812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127320" y="252252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84640" y="187308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70040" y="340848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792440" y="346716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285920" y="277488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092240" y="1612800"/>
              <a:ext cx="158760" cy="158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371600" y="1544760"/>
              <a:ext cx="1701720" cy="1793880"/>
            </a:xfrm>
            <a:custGeom>
              <a:avLst/>
              <a:gdLst/>
              <a:ahLst/>
              <a:rect l="l" t="t" r="r" b="b"/>
              <a:pathLst>
                <a:path w="1072" h="1130">
                  <a:moveTo>
                    <a:pt x="0" y="0"/>
                  </a:moveTo>
                  <a:cubicBezTo>
                    <a:pt x="26" y="132"/>
                    <a:pt x="68" y="603"/>
                    <a:pt x="154" y="791"/>
                  </a:cubicBezTo>
                  <a:cubicBezTo>
                    <a:pt x="240" y="979"/>
                    <a:pt x="398" y="1124"/>
                    <a:pt x="516" y="1127"/>
                  </a:cubicBezTo>
                  <a:cubicBezTo>
                    <a:pt x="634" y="1130"/>
                    <a:pt x="770" y="994"/>
                    <a:pt x="863" y="809"/>
                  </a:cubicBezTo>
                  <a:cubicBezTo>
                    <a:pt x="956" y="624"/>
                    <a:pt x="1029" y="180"/>
                    <a:pt x="1072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6" name=""/>
          <p:cNvSpPr/>
          <p:nvPr/>
        </p:nvSpPr>
        <p:spPr>
          <a:xfrm>
            <a:off x="343080" y="114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Non-linear Mapp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41280" y="4414680"/>
            <a:ext cx="8605800" cy="176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 mapping function can make data linearly separabl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t is not feasible to work with vectors 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plicitly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hat if we had an efficient function to compute           K(x,y)=&lt;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&gt;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1149480" y="865080"/>
            <a:ext cx="6887880" cy="3633840"/>
            <a:chOff x="1149480" y="865080"/>
            <a:chExt cx="6887880" cy="3633840"/>
          </a:xfrm>
        </p:grpSpPr>
        <p:grpSp>
          <p:nvGrpSpPr>
            <p:cNvPr id="1209" name=""/>
            <p:cNvGrpSpPr/>
            <p:nvPr/>
          </p:nvGrpSpPr>
          <p:grpSpPr>
            <a:xfrm>
              <a:off x="1149480" y="865080"/>
              <a:ext cx="6865920" cy="3633840"/>
              <a:chOff x="1149480" y="865080"/>
              <a:chExt cx="6865920" cy="3633840"/>
            </a:xfrm>
          </p:grpSpPr>
          <p:sp>
            <p:nvSpPr>
              <p:cNvPr id="1210" name=""/>
              <p:cNvSpPr/>
              <p:nvPr/>
            </p:nvSpPr>
            <p:spPr>
              <a:xfrm>
                <a:off x="2378160" y="865080"/>
                <a:ext cx="4065840" cy="109080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795680" y="950760"/>
                <a:ext cx="4145040" cy="131472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476800" y="1517760"/>
                <a:ext cx="3619440" cy="101124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V="1">
                <a:off x="3305520" y="1937160"/>
                <a:ext cx="4552920" cy="32724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 flipV="1">
                <a:off x="3123000" y="2603160"/>
                <a:ext cx="4497120" cy="395280"/>
              </a:xfrm>
              <a:custGeom>
                <a:avLst/>
                <a:gdLst/>
                <a:ahLst/>
                <a:rect l="l" t="t" r="r" b="b"/>
                <a:pathLst>
                  <a:path w="2702" h="687">
                    <a:moveTo>
                      <a:pt x="161" y="638"/>
                    </a:moveTo>
                    <a:cubicBezTo>
                      <a:pt x="80" y="662"/>
                      <a:pt x="0" y="687"/>
                      <a:pt x="219" y="589"/>
                    </a:cubicBezTo>
                    <a:cubicBezTo>
                      <a:pt x="438" y="491"/>
                      <a:pt x="1063" y="102"/>
                      <a:pt x="1477" y="51"/>
                    </a:cubicBezTo>
                    <a:cubicBezTo>
                      <a:pt x="1891" y="0"/>
                      <a:pt x="2296" y="141"/>
                      <a:pt x="2702" y="282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146760" y="3112920"/>
                <a:ext cx="4240080" cy="463680"/>
              </a:xfrm>
              <a:custGeom>
                <a:avLst/>
                <a:gdLst/>
                <a:ahLst/>
                <a:rect l="l" t="t" r="r" b="b"/>
                <a:pathLst>
                  <a:path w="2681" h="66">
                    <a:moveTo>
                      <a:pt x="0" y="8"/>
                    </a:moveTo>
                    <a:cubicBezTo>
                      <a:pt x="363" y="25"/>
                      <a:pt x="727" y="42"/>
                      <a:pt x="1059" y="50"/>
                    </a:cubicBezTo>
                    <a:cubicBezTo>
                      <a:pt x="1391" y="58"/>
                      <a:pt x="1724" y="66"/>
                      <a:pt x="1994" y="58"/>
                    </a:cubicBezTo>
                    <a:cubicBezTo>
                      <a:pt x="2264" y="50"/>
                      <a:pt x="2472" y="25"/>
                      <a:pt x="2681" y="0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49480" y="1773360"/>
                <a:ext cx="6424560" cy="2725560"/>
              </a:xfrm>
              <a:custGeom>
                <a:avLst/>
                <a:gdLst/>
                <a:ahLst/>
                <a:rect l="l" t="t" r="r" b="b"/>
                <a:pathLst>
                  <a:path w="4047" h="1733">
                    <a:moveTo>
                      <a:pt x="0" y="0"/>
                    </a:moveTo>
                    <a:cubicBezTo>
                      <a:pt x="693" y="655"/>
                      <a:pt x="1387" y="1311"/>
                      <a:pt x="2061" y="1522"/>
                    </a:cubicBezTo>
                    <a:cubicBezTo>
                      <a:pt x="2735" y="1733"/>
                      <a:pt x="3391" y="1499"/>
                      <a:pt x="4047" y="1266"/>
                    </a:cubicBezTo>
                  </a:path>
                </a:pathLst>
              </a:custGeom>
              <a:noFill/>
              <a:ln w="25560">
                <a:solidFill>
                  <a:srgbClr val="ff99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421680" y="127332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916960" y="143208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567760" y="2413080"/>
                <a:ext cx="15840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059880" y="1892160"/>
                <a:ext cx="15840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56600" y="190800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417080" y="304812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642440" y="268128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856640" y="203184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969240" y="333540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161400" y="330840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262920" y="374184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614000" y="3691080"/>
                <a:ext cx="158760" cy="1587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9" name=""/>
            <p:cNvGrpSpPr/>
            <p:nvPr/>
          </p:nvGrpSpPr>
          <p:grpSpPr>
            <a:xfrm>
              <a:off x="3851280" y="1273320"/>
              <a:ext cx="4186080" cy="2627280"/>
              <a:chOff x="3851280" y="1273320"/>
              <a:chExt cx="4186080" cy="2627280"/>
            </a:xfrm>
          </p:grpSpPr>
          <p:grpSp>
            <p:nvGrpSpPr>
              <p:cNvPr id="1230" name=""/>
              <p:cNvGrpSpPr/>
              <p:nvPr/>
            </p:nvGrpSpPr>
            <p:grpSpPr>
              <a:xfrm>
                <a:off x="5578560" y="1273320"/>
                <a:ext cx="2458800" cy="2627280"/>
                <a:chOff x="5578560" y="1273320"/>
                <a:chExt cx="2458800" cy="262728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6443640" y="1273320"/>
                  <a:ext cx="15876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5938920" y="1432080"/>
                  <a:ext cx="15876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5589720" y="2413080"/>
                  <a:ext cx="15840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6081840" y="1892160"/>
                  <a:ext cx="15840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5578560" y="1908000"/>
                  <a:ext cx="158760" cy="158760"/>
                </a:xfrm>
                <a:prstGeom prst="ellipse">
                  <a:avLst/>
                </a:prstGeom>
                <a:solidFill>
                  <a:srgbClr val="0000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7439040" y="304812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7664400" y="268128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7878600" y="203184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991200" y="333540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6183360" y="330840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6284880" y="374184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7635960" y="3691080"/>
                  <a:ext cx="158760" cy="158760"/>
                </a:xfrm>
                <a:prstGeom prst="ellipse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3" name=""/>
              <p:cNvGrpSpPr/>
              <p:nvPr/>
            </p:nvGrpSpPr>
            <p:grpSpPr>
              <a:xfrm>
                <a:off x="3851280" y="2031120"/>
                <a:ext cx="1096920" cy="543960"/>
                <a:chOff x="3851280" y="2031120"/>
                <a:chExt cx="1096920" cy="543960"/>
              </a:xfrm>
            </p:grpSpPr>
            <p:sp>
              <p:nvSpPr>
                <p:cNvPr id="1244" name=""/>
                <p:cNvSpPr/>
                <p:nvPr/>
              </p:nvSpPr>
              <p:spPr>
                <a:xfrm>
                  <a:off x="3927600" y="2575080"/>
                  <a:ext cx="995040" cy="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3851280" y="2031120"/>
                  <a:ext cx="1096920" cy="52056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2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6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79640" y="4240080"/>
            <a:ext cx="2347920" cy="1303560"/>
          </a:xfrm>
          <a:prstGeom prst="wedgeEllipseCallout">
            <a:avLst>
              <a:gd name="adj1" fmla="val -52162"/>
              <a:gd name="adj2" fmla="val 741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This is th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Kernel fun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"/>
          <p:cNvSpPr/>
          <p:nvPr/>
        </p:nvSpPr>
        <p:spPr>
          <a:xfrm>
            <a:off x="920880" y="988920"/>
            <a:ext cx="7773840" cy="426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n-linear separators with Perceptron algorithm:   use of </a:t>
            </a:r>
            <a:r>
              <a:rPr b="1" i="1" lang="en-GB" sz="2400" spc="-1" strike="noStrike">
                <a:solidFill>
                  <a:srgbClr val="ff9900"/>
                </a:solidFill>
                <a:latin typeface="Tahoma"/>
              </a:rPr>
              <a:t>K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rnel fun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n-linear transformation: 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·</a:t>
            </a:r>
            <a:r>
              <a:rPr b="0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&gt;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(e.g., a polynomial)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earning: the training examples only appear in the dot product of the condition of the 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sent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19200" y="325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Dual Form + Kern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017080" y="4205160"/>
            <a:ext cx="4595400" cy="63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·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&gt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013480" y="4729320"/>
            <a:ext cx="4632480" cy="63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928800" y="5452920"/>
            <a:ext cx="7937280" cy="781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749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lassification: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 =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gn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32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n-GB" sz="28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021040" y="4210200"/>
            <a:ext cx="5320800" cy="63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if 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GB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=1...</a:t>
            </a:r>
            <a:r>
              <a:rPr b="0" i="1" lang="en-GB" sz="2800" spc="-1" strike="noStrike" baseline="-25000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n-GB" sz="2400" spc="-1" strike="noStrike" baseline="-16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&lt;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)·</a:t>
            </a:r>
            <a:r>
              <a:rPr b="0" lang="en-GB" sz="24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i="1" lang="en-GB" sz="2400" spc="-1" strike="noStrike" baseline="-16000">
                <a:solidFill>
                  <a:srgbClr val="ffff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)&gt;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0 </a:t>
            </a:r>
            <a:r>
              <a:rPr b="1" lang="en-GB" sz="2400" spc="-1" strike="noStrike">
                <a:solidFill>
                  <a:srgbClr val="ff99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69800" y="64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Usual kern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009800" y="1252440"/>
            <a:ext cx="7827840" cy="428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dentity (linear kernel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70000"/>
              </a:lnSpc>
              <a:spcAft>
                <a:spcPts val="2999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olynom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80000"/>
              </a:lnSpc>
              <a:spcAft>
                <a:spcPts val="15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ussian Kernel (Radial Basis Function, RBF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7" name=""/>
              <p:cNvSpPr txBox="1"/>
              <p:nvPr/>
            </p:nvSpPr>
            <p:spPr>
              <a:xfrm>
                <a:off x="2870280" y="1771560"/>
                <a:ext cx="27162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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8" name=""/>
              <p:cNvSpPr txBox="1"/>
              <p:nvPr/>
            </p:nvSpPr>
            <p:spPr>
              <a:xfrm>
                <a:off x="2413080" y="3209760"/>
                <a:ext cx="3732120" cy="7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c</m:t>
                            </m:r>
                          </m:e>
                        </m:d>
                      </m:e>
                      <m:sup>
                        <m:r>
                          <m:t xml:space="preserve">d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9" name=""/>
              <p:cNvSpPr txBox="1"/>
              <p:nvPr/>
            </p:nvSpPr>
            <p:spPr>
              <a:xfrm>
                <a:off x="1720800" y="4830840"/>
                <a:ext cx="525456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rPr>
                        <m:lit/>
                        <m:nor/>
                      </m:rPr>
                      <m:t xml:space="preserve">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sSup>
                          <m:e>
                            <m:d>
                              <m:dPr>
                                <m:begChr m:val="‖"/>
                                <m:endChr m:val="‖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/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60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872560" y="380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69800" y="64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Usual kern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009800" y="1252440"/>
            <a:ext cx="7827840" cy="91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igmo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4" name=""/>
              <p:cNvSpPr txBox="1"/>
              <p:nvPr/>
            </p:nvSpPr>
            <p:spPr>
              <a:xfrm>
                <a:off x="2058840" y="1903320"/>
                <a:ext cx="44704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κ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z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Θ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265" name=""/>
          <p:cNvGrpSpPr/>
          <p:nvPr/>
        </p:nvGrpSpPr>
        <p:grpSpPr>
          <a:xfrm>
            <a:off x="981000" y="3122640"/>
            <a:ext cx="7855200" cy="2301840"/>
            <a:chOff x="981000" y="3122640"/>
            <a:chExt cx="7855200" cy="2301840"/>
          </a:xfrm>
        </p:grpSpPr>
        <mc:AlternateContent>
          <mc:Choice xmlns:a14="http://schemas.microsoft.com/office/drawing/2010/main" Requires="a14">
            <p:sp>
              <p:nvSpPr>
                <p:cNvPr id="1266" name=""/>
                <p:cNvSpPr txBox="1"/>
                <p:nvPr/>
              </p:nvSpPr>
              <p:spPr>
                <a:xfrm>
                  <a:off x="981000" y="3792600"/>
                  <a:ext cx="722016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p>
                            <m:e>
                              <m:d>
                                <m:dPr>
                                  <m:begChr m:val="⟨"/>
                                  <m:endChr m:val="⟩"/>
                                </m:dPr>
                                <m:e>
                                  <m:r>
                                    <m:t xml:space="preserve">x</m:t>
                                  </m:r>
                                  <m:r>
                                    <m:t xml:space="preserve">z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nary>
                                    <m:naryPr>
                                      <m:chr m:val="∑"/>
                                      <m:subHide m:val="1"/>
                                      <m:supHide m:val="1"/>
                                    </m:naryPr>
                                    <m:sub/>
                                    <m:sup/>
                                    <m:e>
                                      <m:sSub>
                                        <m:e>
                                          <m:r>
                                            <m:t xml:space="preserve">x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  <m:sSub>
                                        <m:e>
                                          <m:r>
                                            <m:t xml:space="preserve">z</m:t>
                                          </m:r>
                                        </m:e>
                                        <m:sub>
                                          <m:r>
                                            <m:t xml:space="preserve">i</m:t>
                                          </m:r>
                                        </m:sub>
                                      </m:sSub>
                                    </m:e>
                                  </m:nary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=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  <m:r>
                            <m:t xml:space="preserve">⋅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nary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           </m:t>
                          </m:r>
                          <m:r>
                            <m:t xml:space="preserve">=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</m:e>
                              </m:nary>
                              <m:r>
                                <m:t xml:space="preserve">=</m:t>
                              </m:r>
                              <m:nary>
                                <m:naryPr>
                                  <m:chr m:val="∑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  <m:r>
                                    <m:t xml:space="preserve">(</m:t>
                                  </m:r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z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</m:sSub>
                                  <m:r>
                                    <m:t xml:space="preserve">)</m:t>
                                  </m:r>
                                </m:e>
                              </m:nary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267" name=""/>
            <p:cNvSpPr/>
            <p:nvPr/>
          </p:nvSpPr>
          <p:spPr>
            <a:xfrm>
              <a:off x="1008000" y="3122640"/>
              <a:ext cx="7828200" cy="708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Aft>
                  <a:spcPts val="2100"/>
                </a:spcAft>
                <a:buClr>
                  <a:srgbClr val="99ccff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Tahoma"/>
                </a:rPr>
                <a:t>A simple example of a polynomial of degree 2: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30360" y="4014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Tahoma"/>
              </a:rPr>
              <a:t>Some important concept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04520" y="1538280"/>
            <a:ext cx="7877160" cy="22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ductive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B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ny means that a classification learning system uses to choose between to functions that are both consistent with the training data is called inductive bias”  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(Mooney</a:t>
            </a:r>
            <a:r>
              <a:rPr b="0" lang="es-ES_tradnl" sz="1800" spc="-1" strike="noStrike">
                <a:solidFill>
                  <a:srgbClr val="ff9900"/>
                </a:solidFill>
                <a:latin typeface="Tahoma"/>
              </a:rPr>
              <a:t> &amp; Cardie,</a:t>
            </a:r>
            <a:r>
              <a:rPr b="0" lang="en-GB" sz="1800" spc="-1" strike="noStrike">
                <a:solidFill>
                  <a:srgbClr val="ff9900"/>
                </a:solidFill>
                <a:latin typeface="Tahoma"/>
              </a:rPr>
              <a:t> 99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spcAft>
                <a:spcPts val="1250"/>
              </a:spcAft>
              <a:buClr>
                <a:srgbClr val="99c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Language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/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 Search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i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0" y="49320"/>
            <a:ext cx="1878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Classif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3094200" y="3963960"/>
            <a:ext cx="2974680" cy="2049120"/>
            <a:chOff x="3094200" y="3963960"/>
            <a:chExt cx="2974680" cy="2049120"/>
          </a:xfrm>
        </p:grpSpPr>
        <p:grpSp>
          <p:nvGrpSpPr>
            <p:cNvPr id="152" name=""/>
            <p:cNvGrpSpPr/>
            <p:nvPr/>
          </p:nvGrpSpPr>
          <p:grpSpPr>
            <a:xfrm>
              <a:off x="3094200" y="4217400"/>
              <a:ext cx="2974680" cy="1795680"/>
              <a:chOff x="3094200" y="4217400"/>
              <a:chExt cx="2974680" cy="1795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094200" y="4217400"/>
                <a:ext cx="2974680" cy="17956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29040" y="4640400"/>
                <a:ext cx="408960" cy="342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025880" y="461016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ourier New"/>
                  </a:rPr>
                  <a:t>red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987440" y="4596120"/>
                <a:ext cx="546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ourier New"/>
                  </a:rPr>
                  <a:t>blu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96640" y="4969800"/>
                <a:ext cx="729000" cy="3711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fffff"/>
                    </a:solidFill>
                    <a:latin typeface="Arial"/>
                  </a:rPr>
                  <a:t>SHAP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910760" y="4994280"/>
                <a:ext cx="863280" cy="2649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urier New"/>
                  </a:rPr>
                  <a:t>negativ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167640" y="5647320"/>
                <a:ext cx="964800" cy="2649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urier New"/>
                  </a:rPr>
                  <a:t>positiv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4268880" y="4649760"/>
                <a:ext cx="372600" cy="3290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818160" y="5339160"/>
                <a:ext cx="340920" cy="306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32600" y="5346000"/>
                <a:ext cx="325800" cy="282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295800" y="52992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ourier New"/>
                  </a:rPr>
                  <a:t>circl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45280" y="5303880"/>
                <a:ext cx="912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ff"/>
                    </a:solidFill>
                    <a:latin typeface="Courier New"/>
                  </a:rPr>
                  <a:t>triangl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16680" y="5654160"/>
                <a:ext cx="864720" cy="26496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Courier New"/>
                  </a:rPr>
                  <a:t>negativ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59240" y="4291920"/>
                <a:ext cx="729000" cy="3715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ffffff"/>
                    </a:solidFill>
                    <a:latin typeface="Arial"/>
                  </a:rPr>
                  <a:t>COLOR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809520" y="3963960"/>
              <a:ext cx="154008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9900"/>
                  </a:solidFill>
                  <a:latin typeface="Tahoma"/>
                </a:rPr>
                <a:t>Decision Tre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69800" y="648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Usual kernel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0" name=""/>
              <p:cNvSpPr txBox="1"/>
              <p:nvPr/>
            </p:nvSpPr>
            <p:spPr>
              <a:xfrm>
                <a:off x="847800" y="2390760"/>
                <a:ext cx="7251480" cy="319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⟨"/>
                                <m:endChr m:val="⟩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z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sSubSup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,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d>
                          <m:dPr>
                            <m:begChr m:val="⟨"/>
                            <m:endChr m:val="⟩"/>
                          </m:dPr>
                          <m:e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φ</m:t>
                            </m:r>
                            <m:r>
                              <m:t xml:space="preserve">(</m:t>
                            </m:r>
                            <m:r>
                              <m:t xml:space="preserve">z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71" name=""/>
          <p:cNvSpPr/>
          <p:nvPr/>
        </p:nvSpPr>
        <p:spPr>
          <a:xfrm>
            <a:off x="770040" y="1731960"/>
            <a:ext cx="7827840" cy="70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2100"/>
              </a:spcAft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 simple example of a polynomial of degree 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Extens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66720" y="1071720"/>
            <a:ext cx="8239320" cy="426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ted Perceptron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Freund &amp; Schapire, 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109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Voted Perceptr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968560" y="690480"/>
            <a:ext cx="3645000" cy="6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Freund &amp; Schapire,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9" name="" descr=""/>
          <p:cNvPicPr/>
          <p:nvPr/>
        </p:nvPicPr>
        <p:blipFill>
          <a:blip r:embed="rId1"/>
          <a:stretch/>
        </p:blipFill>
        <p:spPr>
          <a:xfrm>
            <a:off x="797040" y="1263600"/>
            <a:ext cx="775008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1" name="" descr=""/>
          <p:cNvPicPr/>
          <p:nvPr/>
        </p:nvPicPr>
        <p:blipFill>
          <a:blip r:embed="rId1"/>
          <a:stretch/>
        </p:blipFill>
        <p:spPr>
          <a:xfrm>
            <a:off x="301680" y="2039760"/>
            <a:ext cx="8596080" cy="2973600"/>
          </a:xfrm>
          <a:prstGeom prst="rect">
            <a:avLst/>
          </a:prstGeom>
          <a:ln w="0">
            <a:noFill/>
          </a:ln>
        </p:spPr>
      </p:pic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90400" y="109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Voted Perceptr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968560" y="690480"/>
            <a:ext cx="3645000" cy="6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Freund &amp; Schapire, 9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71680" y="261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Perceptron: Extension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-4320" y="49320"/>
            <a:ext cx="16009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Perceptr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66720" y="1071720"/>
            <a:ext cx="8239320" cy="426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ted Perceptron 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(Freund &amp; Schapire, 9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Voted Perceptron algorithm in NLP problems: parsing, tagging, NERC, SRL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ollins</a:t>
            </a:r>
            <a:r>
              <a:rPr b="0" lang="en-GB" sz="2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&amp; Duffy, 00;01;02; Collins, 02; Carreras &amp; Màrquez, 03; 0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for ranking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dual form and use of kerne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300"/>
              </a:spcBef>
              <a:spcAft>
                <a:spcPts val="1199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..averaged (instead of voted) perceptr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rge margin perceptron (a simple trick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owards SVM’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"/>
          <p:cNvSpPr/>
          <p:nvPr/>
        </p:nvSpPr>
        <p:spPr>
          <a:xfrm>
            <a:off x="892080" y="1805040"/>
            <a:ext cx="7442280" cy="332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pport Vector Machines (SVM) are learning systems that use a hypothesis space of linear functions in a high dimensional feature space, trained with a learning algorithm from optimisation theory that implements a learning bias derived from statistical learning theory”.         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ristianini &amp; Shawe-Taylor, 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6560" y="636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SVM: A General Defini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892080" y="1805040"/>
            <a:ext cx="7763040" cy="332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Support Vector Machines (SVM) are learning systems that use a hypothesis space of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linear</a:t>
            </a:r>
            <a:r>
              <a:rPr b="1" lang="en-GB" sz="24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function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in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high dimensional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feature space, trained with a learning algorithm from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optimisation theor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at implements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learning bias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derived from statistical learning theory”.                   </a:t>
            </a:r>
            <a:r>
              <a:rPr b="0" lang="en-GB" sz="2000" spc="-1" strike="noStrike">
                <a:solidFill>
                  <a:srgbClr val="ff9900"/>
                </a:solidFill>
                <a:latin typeface="Tahoma"/>
              </a:rPr>
              <a:t>(Cristianini &amp; Shawe-Taylor, 20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13440" y="4327560"/>
            <a:ext cx="2584440" cy="1646280"/>
          </a:xfrm>
          <a:prstGeom prst="wedgeEllipseCallout">
            <a:avLst>
              <a:gd name="adj1" fmla="val -54421"/>
              <a:gd name="adj2" fmla="val -58773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3366"/>
                </a:solidFill>
                <a:latin typeface="Tahoma"/>
              </a:rPr>
              <a:t>Key Concep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520560" y="420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SVM: A General Defin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520560" y="166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Linear Classifier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927000" y="2827440"/>
            <a:ext cx="7485120" cy="33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6" name=""/>
              <p:cNvSpPr txBox="1"/>
              <p:nvPr/>
            </p:nvSpPr>
            <p:spPr>
              <a:xfrm>
                <a:off x="1233360" y="2838600"/>
                <a:ext cx="619128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g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w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b</m:t>
                            </m:r>
                          </m:e>
                        </m:nary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nary>
                                <m:naryPr>
                                  <m:chr m:val="∑"/>
                                </m:naryPr>
                                <m:sub>
                                  <m:r>
                                    <m:t xml:space="preserve">i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N</m:t>
                                  </m:r>
                                </m:sup>
                                <m:e>
                                  <m:r>
                                    <m:t xml:space="preserve">w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x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 </m:t>
                                  </m:r>
                                  <m:r>
                                    <m:t xml:space="preserve">+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 b</m:t>
                                  </m:r>
                                </m:e>
                              </m:nary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7" name=""/>
          <p:cNvSpPr/>
          <p:nvPr/>
        </p:nvSpPr>
        <p:spPr>
          <a:xfrm>
            <a:off x="576360" y="1057320"/>
            <a:ext cx="7996320" cy="180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Hyperplanes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 R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d by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weight vector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 and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threshold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i="1" lang="en-GB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ey induce a </a:t>
            </a:r>
            <a:r>
              <a:rPr b="1" lang="en-GB" sz="2400" spc="-1" strike="noStrike">
                <a:solidFill>
                  <a:srgbClr val="ff9900"/>
                </a:solidFill>
                <a:latin typeface="Tahoma"/>
              </a:rPr>
              <a:t>classificatio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rul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9cc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8" name=""/>
          <p:cNvGrpSpPr/>
          <p:nvPr/>
        </p:nvGrpSpPr>
        <p:grpSpPr>
          <a:xfrm>
            <a:off x="2346480" y="4054320"/>
            <a:ext cx="4098600" cy="2055960"/>
            <a:chOff x="2346480" y="4054320"/>
            <a:chExt cx="4098600" cy="2055960"/>
          </a:xfrm>
        </p:grpSpPr>
        <p:sp>
          <p:nvSpPr>
            <p:cNvPr id="1299" name=""/>
            <p:cNvSpPr/>
            <p:nvPr/>
          </p:nvSpPr>
          <p:spPr>
            <a:xfrm>
              <a:off x="2925720" y="408312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 flipH="1">
              <a:off x="2606760" y="5952960"/>
              <a:ext cx="369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801880" y="4600440"/>
              <a:ext cx="3117960" cy="871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 flipV="1">
              <a:off x="4319640" y="4344480"/>
              <a:ext cx="189000" cy="67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432320" y="45543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510360" y="405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3032640" y="4227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867480" y="4373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83560" y="485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997880" y="42130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53640" y="450864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838320" y="5238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869920" y="45435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539880" y="4645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881160" y="4805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424040" y="5321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430080" y="4919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914720" y="5111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447800" y="4842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976640" y="5481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2801880" y="4600440"/>
              <a:ext cx="3117960" cy="871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923080" y="5472000"/>
              <a:ext cx="522000" cy="14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346480" y="4464000"/>
              <a:ext cx="522000" cy="146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2927520" y="4751280"/>
              <a:ext cx="333360" cy="119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3" name=""/>
                <p:cNvSpPr txBox="1"/>
                <p:nvPr/>
              </p:nvSpPr>
              <p:spPr>
                <a:xfrm>
                  <a:off x="3046320" y="5067360"/>
                  <a:ext cx="393840" cy="72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b</m:t>
                          </m:r>
                        </m:num>
                        <m:den>
                          <m:d>
                            <m:dPr>
                              <m:begChr m:val="‖"/>
                              <m:endChr m:val="‖"/>
                            </m:dPr>
                            <m:e>
                              <m:r>
                                <m:t xml:space="preserve">w</m:t>
                              </m:r>
                            </m:e>
                          </m:d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24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"/>
          <p:cNvSpPr/>
          <p:nvPr/>
        </p:nvSpPr>
        <p:spPr>
          <a:xfrm>
            <a:off x="714240" y="1627200"/>
            <a:ext cx="781524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 flipH="1">
            <a:off x="1693440" y="5342040"/>
            <a:ext cx="5457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1484280" y="2540160"/>
            <a:ext cx="5916600" cy="1648800"/>
            <a:chOff x="1484280" y="2540160"/>
            <a:chExt cx="5916600" cy="1648800"/>
          </a:xfrm>
        </p:grpSpPr>
        <p:sp>
          <p:nvSpPr>
            <p:cNvPr id="1328" name=""/>
            <p:cNvSpPr/>
            <p:nvPr/>
          </p:nvSpPr>
          <p:spPr>
            <a:xfrm>
              <a:off x="1974600" y="2689200"/>
              <a:ext cx="4865760" cy="1360080"/>
            </a:xfrm>
            <a:prstGeom prst="line">
              <a:avLst/>
            </a:prstGeom>
            <a:ln w="316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78520" y="4043160"/>
              <a:ext cx="522360" cy="145800"/>
            </a:xfrm>
            <a:prstGeom prst="line">
              <a:avLst/>
            </a:prstGeom>
            <a:ln w="316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484280" y="2540160"/>
              <a:ext cx="522000" cy="145800"/>
            </a:xfrm>
            <a:prstGeom prst="line">
              <a:avLst/>
            </a:prstGeom>
            <a:ln w="316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2973240" y="4222800"/>
            <a:ext cx="14796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038320" y="1913040"/>
            <a:ext cx="0" cy="385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792680" y="4290840"/>
            <a:ext cx="147600" cy="147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506840" y="482904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902040" y="421812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446640" y="479412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298680" y="3871800"/>
            <a:ext cx="14796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1644120" y="3270240"/>
            <a:ext cx="6092280" cy="17640"/>
            <a:chOff x="1644120" y="3270240"/>
            <a:chExt cx="6092280" cy="17640"/>
          </a:xfrm>
        </p:grpSpPr>
        <p:sp>
          <p:nvSpPr>
            <p:cNvPr id="1339" name=""/>
            <p:cNvSpPr/>
            <p:nvPr/>
          </p:nvSpPr>
          <p:spPr>
            <a:xfrm>
              <a:off x="2132280" y="3270240"/>
              <a:ext cx="50522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193880" y="3285000"/>
              <a:ext cx="542520" cy="2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44120" y="3280320"/>
              <a:ext cx="542160" cy="2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3763800" y="1795320"/>
            <a:ext cx="2257560" cy="882720"/>
            <a:chOff x="3763800" y="1795320"/>
            <a:chExt cx="2257560" cy="882720"/>
          </a:xfrm>
        </p:grpSpPr>
        <p:sp>
          <p:nvSpPr>
            <p:cNvPr id="1343" name=""/>
            <p:cNvSpPr/>
            <p:nvPr/>
          </p:nvSpPr>
          <p:spPr>
            <a:xfrm>
              <a:off x="5321160" y="195264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593960" y="253044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63800" y="208440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55880" y="211140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249520" y="2471760"/>
              <a:ext cx="14796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213080" y="179532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873400" y="2448000"/>
              <a:ext cx="14796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2052000" y="2051640"/>
            <a:ext cx="5704920" cy="2276280"/>
            <a:chOff x="2052000" y="2051640"/>
            <a:chExt cx="5704920" cy="2276280"/>
          </a:xfrm>
        </p:grpSpPr>
        <p:sp>
          <p:nvSpPr>
            <p:cNvPr id="1351" name=""/>
            <p:cNvSpPr/>
            <p:nvPr/>
          </p:nvSpPr>
          <p:spPr>
            <a:xfrm flipV="1">
              <a:off x="2532600" y="2280600"/>
              <a:ext cx="4694040" cy="186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7252920" y="2051640"/>
              <a:ext cx="504000" cy="20052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2052000" y="4127760"/>
              <a:ext cx="503640" cy="20016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655560" y="177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Optimal Hyperplane: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Geometric Intu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99"/>
            </a:gs>
            <a:gs pos="100000">
              <a:srgbClr val="00194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55560" y="177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Optimal Hyperplane: 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Tahoma"/>
              </a:rPr>
              <a:t>Geometric Intuiti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725400" y="1627200"/>
            <a:ext cx="781524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flipH="1">
            <a:off x="1655280" y="5342040"/>
            <a:ext cx="5457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46120" y="2540160"/>
            <a:ext cx="5916600" cy="1648800"/>
            <a:chOff x="1446120" y="2540160"/>
            <a:chExt cx="5916600" cy="1648800"/>
          </a:xfrm>
        </p:grpSpPr>
        <p:sp>
          <p:nvSpPr>
            <p:cNvPr id="1360" name=""/>
            <p:cNvSpPr/>
            <p:nvPr/>
          </p:nvSpPr>
          <p:spPr>
            <a:xfrm>
              <a:off x="1936440" y="2689200"/>
              <a:ext cx="4865760" cy="1360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840360" y="4043160"/>
              <a:ext cx="522360" cy="145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46120" y="2540160"/>
              <a:ext cx="522000" cy="14580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2935440" y="422280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000160" y="1913040"/>
            <a:ext cx="0" cy="385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754520" y="4290840"/>
            <a:ext cx="147600" cy="147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468680" y="482904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3863880" y="421812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408480" y="479412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3726000" y="1795320"/>
            <a:ext cx="2256840" cy="882720"/>
            <a:chOff x="3726000" y="1795320"/>
            <a:chExt cx="2256840" cy="882720"/>
          </a:xfrm>
        </p:grpSpPr>
        <p:sp>
          <p:nvSpPr>
            <p:cNvPr id="1370" name=""/>
            <p:cNvSpPr/>
            <p:nvPr/>
          </p:nvSpPr>
          <p:spPr>
            <a:xfrm>
              <a:off x="5283000" y="195264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55800" y="253044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3726000" y="208440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617720" y="211140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211360" y="247176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4174920" y="1795320"/>
              <a:ext cx="14724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835240" y="2448000"/>
              <a:ext cx="147600" cy="147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3260880" y="3871800"/>
            <a:ext cx="147600" cy="1476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 flipV="1">
            <a:off x="4413240" y="2689200"/>
            <a:ext cx="193680" cy="69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03600" y="2787480"/>
            <a:ext cx="40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087720" y="2262240"/>
            <a:ext cx="3117960" cy="871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766960" y="3664080"/>
            <a:ext cx="3117960" cy="8715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V="1">
            <a:off x="4862520" y="3557520"/>
            <a:ext cx="193680" cy="69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948200" y="3662280"/>
            <a:ext cx="3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3368520" y="3146400"/>
            <a:ext cx="193680" cy="695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432240" y="3249720"/>
            <a:ext cx="3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745320" y="2487600"/>
            <a:ext cx="2111400" cy="1486080"/>
          </a:xfrm>
          <a:prstGeom prst="wedgeEllipseCallout">
            <a:avLst>
              <a:gd name="adj1" fmla="val -78046"/>
              <a:gd name="adj2" fmla="val 4230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Maxim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Marg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Tahoma"/>
              </a:rPr>
              <a:t>Hyper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7" name=""/>
          <p:cNvGrpSpPr/>
          <p:nvPr/>
        </p:nvGrpSpPr>
        <p:grpSpPr>
          <a:xfrm>
            <a:off x="298440" y="1501920"/>
            <a:ext cx="2311560" cy="1511280"/>
            <a:chOff x="298440" y="1501920"/>
            <a:chExt cx="2311560" cy="1511280"/>
          </a:xfrm>
        </p:grpSpPr>
        <p:sp>
          <p:nvSpPr>
            <p:cNvPr id="1388" name=""/>
            <p:cNvSpPr/>
            <p:nvPr/>
          </p:nvSpPr>
          <p:spPr>
            <a:xfrm>
              <a:off x="949320" y="1763640"/>
              <a:ext cx="1424160" cy="1013040"/>
            </a:xfrm>
            <a:prstGeom prst="wedgeEllipseCallout">
              <a:avLst>
                <a:gd name="adj1" fmla="val 109754"/>
                <a:gd name="adj2" fmla="val 153916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998640" y="1614600"/>
              <a:ext cx="1523880" cy="1311120"/>
            </a:xfrm>
            <a:prstGeom prst="wedgeEllipseCallout">
              <a:avLst>
                <a:gd name="adj1" fmla="val 200106"/>
                <a:gd name="adj2" fmla="val 153148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98440" y="1501920"/>
              <a:ext cx="2311560" cy="1511280"/>
            </a:xfrm>
            <a:prstGeom prst="wedgeEllipseCallout">
              <a:avLst>
                <a:gd name="adj1" fmla="val 133240"/>
                <a:gd name="adj2" fmla="val 23842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These are th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Support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Tahoma"/>
                </a:rPr>
                <a:t>Ve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-9720" y="49320"/>
            <a:ext cx="15994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eaeaea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0T22:25:04Z</dcterms:created>
  <dc:creator>lluism</dc:creator>
  <dc:description/>
  <dc:language>en-US</dc:language>
  <cp:lastModifiedBy>Usuario de Office 2004 Test Drive</cp:lastModifiedBy>
  <cp:lastPrinted>2001-07-09T08:54:57Z</cp:lastPrinted>
  <dcterms:modified xsi:type="dcterms:W3CDTF">2008-01-30T14:35:33Z</dcterms:modified>
  <cp:revision>671</cp:revision>
  <dc:subject/>
  <dc:title>Aquesta és una prova petita</dc:title>
</cp:coreProperties>
</file>